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4F7-D81A-4AC8-944C-8517F786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B24-58CC-4F12-9A87-BF6DEF88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AD5-A5B8-41A4-9458-7D63392D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66B-B899-4E33-9E95-8D54A63D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A15-C585-49CD-825E-61F7023A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D0F-07F7-4D4C-8F1D-27BC3383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089-A6D1-42C3-98AC-93ECA04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2FA-4750-4AD0-BE1F-4D2E4A7F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F03-7595-47CD-864C-65199414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74C-4E45-4E3B-8948-DA235594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12D-4A9A-471E-8AFE-E7A3AD6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EF4-5072-479E-9D73-5561B582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6FE-C5BC-462B-B1A1-98291500D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828800"/>
                <a:ext cx="10666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481280" y="1668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1981080"/>
                <a:ext cx="1066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608120" y="3848040"/>
            <a:ext cx="3929040" cy="474840"/>
          </a:xfrm>
          <a:custGeom>
            <a:avLst/>
            <a:gdLst/>
            <a:ahLst/>
            <a:rect l="l" t="t" r="r" b="b"/>
            <a:pathLst>
              <a:path w="10915" h="1315">
                <a:moveTo>
                  <a:pt x="5110" y="10691"/>
                </a:moveTo>
                <a:cubicBezTo>
                  <a:pt x="5089" y="10915"/>
                  <a:pt x="5074" y="11137"/>
                  <a:pt x="5060" y="11361"/>
                </a:cubicBezTo>
              </a:path>
              <a:path w="10915" h="1315">
                <a:moveTo>
                  <a:pt x="4465" y="11683"/>
                </a:moveTo>
                <a:cubicBezTo>
                  <a:pt x="4895" y="11600"/>
                  <a:pt x="5275" y="11525"/>
                  <a:pt x="5705" y="11609"/>
                </a:cubicBezTo>
              </a:path>
              <a:path w="10915" h="1315">
                <a:moveTo>
                  <a:pt x="9723" y="10889"/>
                </a:moveTo>
                <a:cubicBezTo>
                  <a:pt x="9803" y="10884"/>
                  <a:pt x="9869" y="10875"/>
                  <a:pt x="9947" y="10864"/>
                </a:cubicBezTo>
              </a:path>
              <a:path w="10915" h="1315">
                <a:moveTo>
                  <a:pt x="9748" y="11112"/>
                </a:moveTo>
                <a:cubicBezTo>
                  <a:pt x="9840" y="11096"/>
                  <a:pt x="9929" y="11065"/>
                  <a:pt x="10021" y="11038"/>
                </a:cubicBezTo>
              </a:path>
              <a:path w="10915" h="1315">
                <a:moveTo>
                  <a:pt x="14957" y="12005"/>
                </a:moveTo>
                <a:cubicBezTo>
                  <a:pt x="15161" y="11929"/>
                  <a:pt x="15233" y="11903"/>
                  <a:pt x="15379" y="1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1240" y="2724120"/>
            <a:ext cx="1116000" cy="1714680"/>
          </a:xfrm>
          <a:custGeom>
            <a:avLst/>
            <a:gdLst/>
            <a:ahLst/>
            <a:rect l="l" t="t" r="r" b="b"/>
            <a:pathLst>
              <a:path w="3101" h="4764">
                <a:moveTo>
                  <a:pt x="2927" y="9079"/>
                </a:moveTo>
                <a:cubicBezTo>
                  <a:pt x="3046" y="9039"/>
                  <a:pt x="3199" y="8938"/>
                  <a:pt x="3324" y="9054"/>
                </a:cubicBezTo>
                <a:cubicBezTo>
                  <a:pt x="3461" y="9181"/>
                  <a:pt x="3159" y="9371"/>
                  <a:pt x="3101" y="9426"/>
                </a:cubicBezTo>
                <a:cubicBezTo>
                  <a:pt x="3084" y="9434"/>
                  <a:pt x="3068" y="9443"/>
                  <a:pt x="3051" y="9451"/>
                </a:cubicBezTo>
                <a:cubicBezTo>
                  <a:pt x="3175" y="9451"/>
                  <a:pt x="3263" y="9422"/>
                  <a:pt x="3349" y="9550"/>
                </a:cubicBezTo>
                <a:cubicBezTo>
                  <a:pt x="3546" y="9843"/>
                  <a:pt x="2931" y="9928"/>
                  <a:pt x="2803" y="9947"/>
                </a:cubicBezTo>
                <a:cubicBezTo>
                  <a:pt x="2753" y="9947"/>
                  <a:pt x="2736" y="9947"/>
                  <a:pt x="2753" y="9897"/>
                </a:cubicBezTo>
              </a:path>
              <a:path w="3101" h="4764">
                <a:moveTo>
                  <a:pt x="4415" y="8161"/>
                </a:moveTo>
                <a:cubicBezTo>
                  <a:pt x="4577" y="8170"/>
                  <a:pt x="4666" y="8194"/>
                  <a:pt x="4812" y="8260"/>
                </a:cubicBezTo>
                <a:cubicBezTo>
                  <a:pt x="4776" y="8503"/>
                  <a:pt x="4633" y="8675"/>
                  <a:pt x="4341" y="8607"/>
                </a:cubicBezTo>
                <a:cubicBezTo>
                  <a:pt x="4316" y="8582"/>
                  <a:pt x="4291" y="8558"/>
                  <a:pt x="4266" y="8533"/>
                </a:cubicBezTo>
                <a:cubicBezTo>
                  <a:pt x="4500" y="8446"/>
                  <a:pt x="4714" y="8366"/>
                  <a:pt x="4936" y="8533"/>
                </a:cubicBezTo>
                <a:cubicBezTo>
                  <a:pt x="4936" y="8541"/>
                  <a:pt x="4936" y="8550"/>
                  <a:pt x="4936" y="8558"/>
                </a:cubicBezTo>
              </a:path>
              <a:path w="3101" h="4764">
                <a:moveTo>
                  <a:pt x="4366" y="8806"/>
                </a:moveTo>
                <a:cubicBezTo>
                  <a:pt x="4590" y="8762"/>
                  <a:pt x="4974" y="8637"/>
                  <a:pt x="5159" y="8731"/>
                </a:cubicBezTo>
              </a:path>
              <a:path w="3101" h="4764">
                <a:moveTo>
                  <a:pt x="4936" y="9079"/>
                </a:moveTo>
                <a:cubicBezTo>
                  <a:pt x="4888" y="9090"/>
                  <a:pt x="4657" y="9112"/>
                  <a:pt x="4638" y="9153"/>
                </a:cubicBezTo>
                <a:cubicBezTo>
                  <a:pt x="4612" y="9210"/>
                  <a:pt x="4609" y="9310"/>
                  <a:pt x="4589" y="9376"/>
                </a:cubicBezTo>
                <a:cubicBezTo>
                  <a:pt x="4771" y="9350"/>
                  <a:pt x="4926" y="9339"/>
                  <a:pt x="5110" y="9351"/>
                </a:cubicBezTo>
                <a:cubicBezTo>
                  <a:pt x="5087" y="9549"/>
                  <a:pt x="4857" y="9795"/>
                  <a:pt x="4589" y="9723"/>
                </a:cubicBezTo>
                <a:cubicBezTo>
                  <a:pt x="4572" y="9690"/>
                  <a:pt x="4556" y="9657"/>
                  <a:pt x="4539" y="9624"/>
                </a:cubicBezTo>
              </a:path>
              <a:path w="3101" h="4764">
                <a:moveTo>
                  <a:pt x="2208" y="11534"/>
                </a:moveTo>
                <a:cubicBezTo>
                  <a:pt x="2229" y="11726"/>
                  <a:pt x="2207" y="11888"/>
                  <a:pt x="2183" y="12080"/>
                </a:cubicBezTo>
                <a:cubicBezTo>
                  <a:pt x="2183" y="12088"/>
                  <a:pt x="2183" y="12097"/>
                  <a:pt x="2183" y="12105"/>
                </a:cubicBezTo>
              </a:path>
              <a:path w="3101" h="4764">
                <a:moveTo>
                  <a:pt x="2059" y="11832"/>
                </a:moveTo>
                <a:cubicBezTo>
                  <a:pt x="2238" y="11832"/>
                  <a:pt x="2404" y="11830"/>
                  <a:pt x="2580" y="11807"/>
                </a:cubicBezTo>
              </a:path>
              <a:path w="3101" h="4764">
                <a:moveTo>
                  <a:pt x="2778" y="11609"/>
                </a:moveTo>
                <a:cubicBezTo>
                  <a:pt x="2924" y="11568"/>
                  <a:pt x="3073" y="11522"/>
                  <a:pt x="3225" y="11509"/>
                </a:cubicBezTo>
                <a:cubicBezTo>
                  <a:pt x="3233" y="11509"/>
                  <a:pt x="3241" y="11509"/>
                  <a:pt x="3249" y="11509"/>
                </a:cubicBezTo>
                <a:cubicBezTo>
                  <a:pt x="3239" y="11759"/>
                  <a:pt x="3150" y="12008"/>
                  <a:pt x="3150" y="12254"/>
                </a:cubicBezTo>
                <a:cubicBezTo>
                  <a:pt x="3158" y="12279"/>
                  <a:pt x="3167" y="12303"/>
                  <a:pt x="3175" y="12328"/>
                </a:cubicBezTo>
              </a:path>
              <a:path w="3101" h="4764">
                <a:moveTo>
                  <a:pt x="4862" y="10765"/>
                </a:moveTo>
                <a:cubicBezTo>
                  <a:pt x="4855" y="10864"/>
                  <a:pt x="4848" y="10943"/>
                  <a:pt x="4862" y="11038"/>
                </a:cubicBezTo>
                <a:cubicBezTo>
                  <a:pt x="4968" y="11028"/>
                  <a:pt x="5037" y="11004"/>
                  <a:pt x="5135" y="10964"/>
                </a:cubicBezTo>
              </a:path>
              <a:path w="3101" h="4764">
                <a:moveTo>
                  <a:pt x="3001" y="7565"/>
                </a:moveTo>
                <a:cubicBezTo>
                  <a:pt x="3001" y="7765"/>
                  <a:pt x="3022" y="7961"/>
                  <a:pt x="3026" y="8161"/>
                </a:cubicBezTo>
                <a:cubicBezTo>
                  <a:pt x="3028" y="8255"/>
                  <a:pt x="3047" y="8235"/>
                  <a:pt x="3051" y="8285"/>
                </a:cubicBezTo>
                <a:cubicBezTo>
                  <a:pt x="3054" y="8317"/>
                  <a:pt x="3051" y="8352"/>
                  <a:pt x="3051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06800" y="4321080"/>
            <a:ext cx="198360" cy="24300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8632" y="12179"/>
                </a:moveTo>
                <a:cubicBezTo>
                  <a:pt x="8812" y="12111"/>
                  <a:pt x="8991" y="12047"/>
                  <a:pt x="9178" y="12005"/>
                </a:cubicBezTo>
              </a:path>
              <a:path w="547" h="671">
                <a:moveTo>
                  <a:pt x="9004" y="12254"/>
                </a:moveTo>
                <a:cubicBezTo>
                  <a:pt x="9004" y="12378"/>
                  <a:pt x="8948" y="12501"/>
                  <a:pt x="8930" y="12626"/>
                </a:cubicBezTo>
                <a:cubicBezTo>
                  <a:pt x="8930" y="12677"/>
                  <a:pt x="8931" y="12692"/>
                  <a:pt x="8954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1840" y="3660840"/>
            <a:ext cx="322200" cy="546120"/>
          </a:xfrm>
          <a:custGeom>
            <a:avLst/>
            <a:gdLst/>
            <a:ahLst/>
            <a:rect l="l" t="t" r="r" b="b"/>
            <a:pathLst>
              <a:path w="894" h="1514">
                <a:moveTo>
                  <a:pt x="10393" y="10319"/>
                </a:moveTo>
                <a:cubicBezTo>
                  <a:pt x="10450" y="10697"/>
                  <a:pt x="10442" y="11078"/>
                  <a:pt x="10418" y="11460"/>
                </a:cubicBezTo>
                <a:cubicBezTo>
                  <a:pt x="10413" y="11543"/>
                  <a:pt x="10393" y="11741"/>
                  <a:pt x="10393" y="11658"/>
                </a:cubicBezTo>
              </a:path>
              <a:path w="894" h="1514">
                <a:moveTo>
                  <a:pt x="11063" y="10170"/>
                </a:moveTo>
                <a:cubicBezTo>
                  <a:pt x="11100" y="10322"/>
                  <a:pt x="11132" y="10432"/>
                  <a:pt x="11088" y="10592"/>
                </a:cubicBezTo>
                <a:cubicBezTo>
                  <a:pt x="11080" y="10608"/>
                  <a:pt x="11071" y="10625"/>
                  <a:pt x="11063" y="10641"/>
                </a:cubicBezTo>
              </a:path>
              <a:path w="894" h="1514">
                <a:moveTo>
                  <a:pt x="10864" y="10691"/>
                </a:moveTo>
                <a:cubicBezTo>
                  <a:pt x="10964" y="10646"/>
                  <a:pt x="11175" y="10512"/>
                  <a:pt x="11286" y="10542"/>
                </a:cubicBezTo>
                <a:cubicBezTo>
                  <a:pt x="11286" y="10550"/>
                  <a:pt x="11286" y="10559"/>
                  <a:pt x="11286" y="10567"/>
                </a:cubicBezTo>
              </a:path>
              <a:path w="894" h="1514">
                <a:moveTo>
                  <a:pt x="11187" y="10815"/>
                </a:moveTo>
                <a:cubicBezTo>
                  <a:pt x="11112" y="10815"/>
                  <a:pt x="11009" y="10778"/>
                  <a:pt x="10988" y="10864"/>
                </a:cubicBezTo>
                <a:cubicBezTo>
                  <a:pt x="10968" y="10947"/>
                  <a:pt x="10960" y="10962"/>
                  <a:pt x="10964" y="11013"/>
                </a:cubicBezTo>
                <a:cubicBezTo>
                  <a:pt x="11039" y="10998"/>
                  <a:pt x="11108" y="10932"/>
                  <a:pt x="11187" y="10988"/>
                </a:cubicBezTo>
                <a:cubicBezTo>
                  <a:pt x="11326" y="11085"/>
                  <a:pt x="11102" y="11179"/>
                  <a:pt x="11038" y="11187"/>
                </a:cubicBezTo>
                <a:cubicBezTo>
                  <a:pt x="11013" y="11187"/>
                  <a:pt x="11005" y="11187"/>
                  <a:pt x="10988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38880" y="4214880"/>
            <a:ext cx="9360" cy="206280"/>
          </a:xfrm>
          <a:custGeom>
            <a:avLst/>
            <a:gdLst/>
            <a:ahLst/>
            <a:rect l="l" t="t" r="r" b="b"/>
            <a:pathLst>
              <a:path w="26" h="571">
                <a:moveTo>
                  <a:pt x="15106" y="11708"/>
                </a:moveTo>
                <a:cubicBezTo>
                  <a:pt x="15110" y="11854"/>
                  <a:pt x="15160" y="12217"/>
                  <a:pt x="15106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0040" y="4259160"/>
            <a:ext cx="1492200" cy="982800"/>
          </a:xfrm>
          <a:custGeom>
            <a:avLst/>
            <a:gdLst/>
            <a:ahLst/>
            <a:rect l="l" t="t" r="r" b="b"/>
            <a:pathLst>
              <a:path w="4144" h="2729">
                <a:moveTo>
                  <a:pt x="8607" y="11857"/>
                </a:moveTo>
                <a:cubicBezTo>
                  <a:pt x="8665" y="11850"/>
                  <a:pt x="8723" y="11839"/>
                  <a:pt x="8781" y="11832"/>
                </a:cubicBezTo>
              </a:path>
              <a:path w="4144" h="2729">
                <a:moveTo>
                  <a:pt x="5234" y="12948"/>
                </a:moveTo>
                <a:cubicBezTo>
                  <a:pt x="5262" y="13045"/>
                  <a:pt x="5173" y="13338"/>
                  <a:pt x="5135" y="13444"/>
                </a:cubicBezTo>
                <a:cubicBezTo>
                  <a:pt x="4999" y="13824"/>
                  <a:pt x="4841" y="14212"/>
                  <a:pt x="4638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5960" y="3384720"/>
            <a:ext cx="2832120" cy="2795400"/>
          </a:xfrm>
          <a:custGeom>
            <a:avLst/>
            <a:gdLst/>
            <a:ahLst/>
            <a:rect l="l" t="t" r="r" b="b"/>
            <a:pathLst>
              <a:path w="7864" h="7765">
                <a:moveTo>
                  <a:pt x="5159" y="12030"/>
                </a:moveTo>
                <a:cubicBezTo>
                  <a:pt x="5098" y="12051"/>
                  <a:pt x="5003" y="12097"/>
                  <a:pt x="4961" y="12154"/>
                </a:cubicBezTo>
                <a:cubicBezTo>
                  <a:pt x="4920" y="12210"/>
                  <a:pt x="4912" y="12289"/>
                  <a:pt x="4887" y="12353"/>
                </a:cubicBezTo>
                <a:cubicBezTo>
                  <a:pt x="4989" y="12327"/>
                  <a:pt x="5088" y="12280"/>
                  <a:pt x="5209" y="12303"/>
                </a:cubicBezTo>
                <a:cubicBezTo>
                  <a:pt x="5250" y="12320"/>
                  <a:pt x="5292" y="12336"/>
                  <a:pt x="5333" y="12353"/>
                </a:cubicBezTo>
                <a:cubicBezTo>
                  <a:pt x="5197" y="12547"/>
                  <a:pt x="5068" y="12561"/>
                  <a:pt x="4837" y="12551"/>
                </a:cubicBezTo>
              </a:path>
              <a:path w="7864" h="7765">
                <a:moveTo>
                  <a:pt x="1712" y="13196"/>
                </a:moveTo>
                <a:cubicBezTo>
                  <a:pt x="2436" y="13176"/>
                  <a:pt x="3149" y="13078"/>
                  <a:pt x="3870" y="13022"/>
                </a:cubicBezTo>
                <a:cubicBezTo>
                  <a:pt x="4506" y="12973"/>
                  <a:pt x="5142" y="12959"/>
                  <a:pt x="5779" y="12948"/>
                </a:cubicBezTo>
                <a:cubicBezTo>
                  <a:pt x="5754" y="12948"/>
                  <a:pt x="5730" y="12948"/>
                  <a:pt x="5705" y="12948"/>
                </a:cubicBezTo>
              </a:path>
              <a:path w="7864" h="7765">
                <a:moveTo>
                  <a:pt x="5457" y="9401"/>
                </a:moveTo>
                <a:cubicBezTo>
                  <a:pt x="5512" y="9465"/>
                  <a:pt x="5584" y="9510"/>
                  <a:pt x="5655" y="9575"/>
                </a:cubicBezTo>
                <a:cubicBezTo>
                  <a:pt x="5731" y="9645"/>
                  <a:pt x="5789" y="9751"/>
                  <a:pt x="5829" y="9847"/>
                </a:cubicBezTo>
                <a:cubicBezTo>
                  <a:pt x="5864" y="9931"/>
                  <a:pt x="5893" y="10010"/>
                  <a:pt x="5928" y="10096"/>
                </a:cubicBezTo>
                <a:cubicBezTo>
                  <a:pt x="5958" y="10169"/>
                  <a:pt x="6012" y="10273"/>
                  <a:pt x="6028" y="10344"/>
                </a:cubicBezTo>
                <a:cubicBezTo>
                  <a:pt x="6049" y="10438"/>
                  <a:pt x="6048" y="10568"/>
                  <a:pt x="6052" y="10666"/>
                </a:cubicBezTo>
                <a:cubicBezTo>
                  <a:pt x="6056" y="10777"/>
                  <a:pt x="6011" y="10907"/>
                  <a:pt x="5978" y="11013"/>
                </a:cubicBezTo>
                <a:cubicBezTo>
                  <a:pt x="5952" y="11097"/>
                  <a:pt x="5929" y="11175"/>
                  <a:pt x="5904" y="11261"/>
                </a:cubicBezTo>
                <a:cubicBezTo>
                  <a:pt x="5864" y="11400"/>
                  <a:pt x="5838" y="11543"/>
                  <a:pt x="5804" y="11683"/>
                </a:cubicBezTo>
                <a:cubicBezTo>
                  <a:pt x="5780" y="11780"/>
                  <a:pt x="5740" y="11863"/>
                  <a:pt x="5705" y="11956"/>
                </a:cubicBezTo>
                <a:cubicBezTo>
                  <a:pt x="5672" y="12044"/>
                  <a:pt x="5617" y="12122"/>
                  <a:pt x="5581" y="12204"/>
                </a:cubicBezTo>
                <a:cubicBezTo>
                  <a:pt x="5581" y="12212"/>
                  <a:pt x="5581" y="12221"/>
                  <a:pt x="5581" y="12229"/>
                </a:cubicBezTo>
              </a:path>
              <a:path w="7864" h="7765">
                <a:moveTo>
                  <a:pt x="4564" y="13990"/>
                </a:moveTo>
                <a:cubicBezTo>
                  <a:pt x="4718" y="13959"/>
                  <a:pt x="4875" y="13917"/>
                  <a:pt x="5035" y="13891"/>
                </a:cubicBezTo>
                <a:cubicBezTo>
                  <a:pt x="5123" y="13877"/>
                  <a:pt x="5161" y="13866"/>
                  <a:pt x="5234" y="13866"/>
                </a:cubicBezTo>
              </a:path>
              <a:path w="7864" h="7765">
                <a:moveTo>
                  <a:pt x="5060" y="14114"/>
                </a:moveTo>
                <a:cubicBezTo>
                  <a:pt x="5004" y="14137"/>
                  <a:pt x="4849" y="14151"/>
                  <a:pt x="4812" y="14188"/>
                </a:cubicBezTo>
                <a:cubicBezTo>
                  <a:pt x="4785" y="14215"/>
                  <a:pt x="4791" y="14344"/>
                  <a:pt x="4787" y="14387"/>
                </a:cubicBezTo>
                <a:cubicBezTo>
                  <a:pt x="4880" y="14310"/>
                  <a:pt x="4939" y="14262"/>
                  <a:pt x="5011" y="14387"/>
                </a:cubicBezTo>
                <a:cubicBezTo>
                  <a:pt x="5083" y="14511"/>
                  <a:pt x="4953" y="14694"/>
                  <a:pt x="4837" y="14734"/>
                </a:cubicBezTo>
                <a:cubicBezTo>
                  <a:pt x="4789" y="14751"/>
                  <a:pt x="4724" y="14742"/>
                  <a:pt x="4713" y="14709"/>
                </a:cubicBezTo>
              </a:path>
              <a:path w="7864" h="7765">
                <a:moveTo>
                  <a:pt x="4862" y="13295"/>
                </a:moveTo>
                <a:cubicBezTo>
                  <a:pt x="4783" y="13390"/>
                  <a:pt x="4735" y="13504"/>
                  <a:pt x="4688" y="13618"/>
                </a:cubicBezTo>
                <a:cubicBezTo>
                  <a:pt x="4658" y="13691"/>
                  <a:pt x="4635" y="13767"/>
                  <a:pt x="4713" y="13816"/>
                </a:cubicBezTo>
                <a:cubicBezTo>
                  <a:pt x="4760" y="13845"/>
                  <a:pt x="4862" y="13841"/>
                  <a:pt x="4911" y="13816"/>
                </a:cubicBezTo>
                <a:cubicBezTo>
                  <a:pt x="4984" y="13779"/>
                  <a:pt x="4985" y="13721"/>
                  <a:pt x="5011" y="13667"/>
                </a:cubicBezTo>
                <a:cubicBezTo>
                  <a:pt x="5030" y="13629"/>
                  <a:pt x="5035" y="13638"/>
                  <a:pt x="5035" y="13593"/>
                </a:cubicBezTo>
                <a:cubicBezTo>
                  <a:pt x="4979" y="13569"/>
                  <a:pt x="4941" y="13547"/>
                  <a:pt x="4911" y="13593"/>
                </a:cubicBezTo>
                <a:cubicBezTo>
                  <a:pt x="4853" y="13680"/>
                  <a:pt x="4837" y="13715"/>
                  <a:pt x="4837" y="13816"/>
                </a:cubicBezTo>
                <a:cubicBezTo>
                  <a:pt x="4837" y="13824"/>
                  <a:pt x="4837" y="13833"/>
                  <a:pt x="4837" y="13841"/>
                </a:cubicBezTo>
              </a:path>
              <a:path w="7864" h="7765">
                <a:moveTo>
                  <a:pt x="8806" y="10716"/>
                </a:moveTo>
                <a:cubicBezTo>
                  <a:pt x="8775" y="10916"/>
                  <a:pt x="8669" y="11127"/>
                  <a:pt x="8706" y="11336"/>
                </a:cubicBezTo>
                <a:cubicBezTo>
                  <a:pt x="8723" y="11361"/>
                  <a:pt x="8739" y="11385"/>
                  <a:pt x="8756" y="11410"/>
                </a:cubicBezTo>
                <a:cubicBezTo>
                  <a:pt x="8990" y="11338"/>
                  <a:pt x="9095" y="11285"/>
                  <a:pt x="9153" y="11038"/>
                </a:cubicBezTo>
                <a:cubicBezTo>
                  <a:pt x="8916" y="11021"/>
                  <a:pt x="8866" y="11162"/>
                  <a:pt x="8806" y="11385"/>
                </a:cubicBezTo>
                <a:cubicBezTo>
                  <a:pt x="8806" y="11402"/>
                  <a:pt x="8806" y="11418"/>
                  <a:pt x="8806" y="11435"/>
                </a:cubicBezTo>
              </a:path>
              <a:path w="7864" h="7765">
                <a:moveTo>
                  <a:pt x="8409" y="11584"/>
                </a:moveTo>
                <a:cubicBezTo>
                  <a:pt x="8441" y="11327"/>
                  <a:pt x="8456" y="11050"/>
                  <a:pt x="8434" y="10790"/>
                </a:cubicBezTo>
                <a:cubicBezTo>
                  <a:pt x="8419" y="10619"/>
                  <a:pt x="8389" y="10664"/>
                  <a:pt x="8508" y="10592"/>
                </a:cubicBezTo>
                <a:cubicBezTo>
                  <a:pt x="8727" y="10460"/>
                  <a:pt x="8930" y="10463"/>
                  <a:pt x="9178" y="10418"/>
                </a:cubicBezTo>
                <a:cubicBezTo>
                  <a:pt x="9365" y="10384"/>
                  <a:pt x="9502" y="10320"/>
                  <a:pt x="9550" y="10368"/>
                </a:cubicBezTo>
              </a:path>
              <a:path w="7864" h="7765">
                <a:moveTo>
                  <a:pt x="8012" y="10790"/>
                </a:moveTo>
                <a:cubicBezTo>
                  <a:pt x="7931" y="10815"/>
                  <a:pt x="7810" y="10825"/>
                  <a:pt x="7739" y="10864"/>
                </a:cubicBezTo>
                <a:cubicBezTo>
                  <a:pt x="7691" y="10890"/>
                  <a:pt x="7668" y="11031"/>
                  <a:pt x="7640" y="11088"/>
                </a:cubicBezTo>
                <a:cubicBezTo>
                  <a:pt x="7732" y="11069"/>
                  <a:pt x="7838" y="10948"/>
                  <a:pt x="7938" y="11038"/>
                </a:cubicBezTo>
                <a:cubicBezTo>
                  <a:pt x="8146" y="11225"/>
                  <a:pt x="7807" y="11454"/>
                  <a:pt x="7665" y="11485"/>
                </a:cubicBezTo>
                <a:cubicBezTo>
                  <a:pt x="7624" y="11485"/>
                  <a:pt x="7582" y="11485"/>
                  <a:pt x="7541" y="11485"/>
                </a:cubicBezTo>
              </a:path>
              <a:path w="7864" h="7765">
                <a:moveTo>
                  <a:pt x="8657" y="9699"/>
                </a:moveTo>
                <a:cubicBezTo>
                  <a:pt x="8693" y="9733"/>
                  <a:pt x="8716" y="10057"/>
                  <a:pt x="8706" y="10195"/>
                </a:cubicBezTo>
                <a:cubicBezTo>
                  <a:pt x="8688" y="10269"/>
                  <a:pt x="8654" y="10302"/>
                  <a:pt x="8706" y="10294"/>
                </a:cubicBezTo>
              </a:path>
              <a:path w="7864" h="7765">
                <a:moveTo>
                  <a:pt x="9054" y="11633"/>
                </a:moveTo>
                <a:cubicBezTo>
                  <a:pt x="9054" y="11609"/>
                  <a:pt x="9054" y="11601"/>
                  <a:pt x="9079" y="11609"/>
                </a:cubicBezTo>
                <a:cubicBezTo>
                  <a:pt x="9025" y="11609"/>
                  <a:pt x="8918" y="11584"/>
                  <a:pt x="8905" y="11633"/>
                </a:cubicBezTo>
                <a:cubicBezTo>
                  <a:pt x="8886" y="11704"/>
                  <a:pt x="8880" y="11740"/>
                  <a:pt x="8880" y="11807"/>
                </a:cubicBezTo>
                <a:cubicBezTo>
                  <a:pt x="8915" y="11798"/>
                  <a:pt x="8961" y="11761"/>
                  <a:pt x="9004" y="11782"/>
                </a:cubicBezTo>
                <a:cubicBezTo>
                  <a:pt x="9129" y="11845"/>
                  <a:pt x="9025" y="11990"/>
                  <a:pt x="8954" y="12030"/>
                </a:cubicBezTo>
                <a:cubicBezTo>
                  <a:pt x="8906" y="12057"/>
                  <a:pt x="8878" y="12055"/>
                  <a:pt x="8830" y="12055"/>
                </a:cubicBezTo>
              </a:path>
              <a:path w="7864" h="7765">
                <a:moveTo>
                  <a:pt x="4564" y="13022"/>
                </a:moveTo>
                <a:cubicBezTo>
                  <a:pt x="4639" y="13097"/>
                  <a:pt x="4625" y="13172"/>
                  <a:pt x="4663" y="13271"/>
                </a:cubicBezTo>
                <a:cubicBezTo>
                  <a:pt x="4813" y="13657"/>
                  <a:pt x="4944" y="14026"/>
                  <a:pt x="5011" y="14436"/>
                </a:cubicBezTo>
                <a:cubicBezTo>
                  <a:pt x="5011" y="14444"/>
                  <a:pt x="5011" y="14453"/>
                  <a:pt x="5011" y="14461"/>
                </a:cubicBezTo>
              </a:path>
              <a:path w="7864" h="7765">
                <a:moveTo>
                  <a:pt x="4936" y="14932"/>
                </a:moveTo>
                <a:cubicBezTo>
                  <a:pt x="4936" y="15086"/>
                  <a:pt x="4914" y="15228"/>
                  <a:pt x="4887" y="15379"/>
                </a:cubicBezTo>
              </a:path>
              <a:path w="7864" h="7765">
                <a:moveTo>
                  <a:pt x="4366" y="15652"/>
                </a:moveTo>
                <a:cubicBezTo>
                  <a:pt x="4627" y="15602"/>
                  <a:pt x="4894" y="15556"/>
                  <a:pt x="5159" y="15528"/>
                </a:cubicBezTo>
                <a:cubicBezTo>
                  <a:pt x="5201" y="15528"/>
                  <a:pt x="5209" y="15528"/>
                  <a:pt x="5234" y="15528"/>
                </a:cubicBezTo>
              </a:path>
              <a:path w="7864" h="7765">
                <a:moveTo>
                  <a:pt x="5060" y="15776"/>
                </a:moveTo>
                <a:cubicBezTo>
                  <a:pt x="5017" y="15787"/>
                  <a:pt x="4823" y="15796"/>
                  <a:pt x="4812" y="15801"/>
                </a:cubicBezTo>
                <a:cubicBezTo>
                  <a:pt x="4758" y="15827"/>
                  <a:pt x="4723" y="16017"/>
                  <a:pt x="4713" y="16073"/>
                </a:cubicBezTo>
                <a:cubicBezTo>
                  <a:pt x="4804" y="16037"/>
                  <a:pt x="4871" y="15991"/>
                  <a:pt x="4986" y="16049"/>
                </a:cubicBezTo>
                <a:cubicBezTo>
                  <a:pt x="5002" y="16065"/>
                  <a:pt x="5019" y="16082"/>
                  <a:pt x="5035" y="16098"/>
                </a:cubicBezTo>
                <a:cubicBezTo>
                  <a:pt x="5036" y="16328"/>
                  <a:pt x="4874" y="16312"/>
                  <a:pt x="4663" y="16321"/>
                </a:cubicBezTo>
                <a:cubicBezTo>
                  <a:pt x="4585" y="16321"/>
                  <a:pt x="4568" y="16336"/>
                  <a:pt x="4539" y="16297"/>
                </a:cubicBezTo>
              </a:path>
              <a:path w="7864" h="7765">
                <a:moveTo>
                  <a:pt x="3001" y="15354"/>
                </a:moveTo>
                <a:cubicBezTo>
                  <a:pt x="3001" y="15637"/>
                  <a:pt x="3002" y="15915"/>
                  <a:pt x="2977" y="16197"/>
                </a:cubicBezTo>
                <a:cubicBezTo>
                  <a:pt x="2964" y="16342"/>
                  <a:pt x="2911" y="16434"/>
                  <a:pt x="2977" y="16346"/>
                </a:cubicBezTo>
              </a:path>
              <a:path w="7864" h="7765">
                <a:moveTo>
                  <a:pt x="3497" y="15404"/>
                </a:moveTo>
                <a:cubicBezTo>
                  <a:pt x="3527" y="15614"/>
                  <a:pt x="3537" y="15835"/>
                  <a:pt x="3522" y="16049"/>
                </a:cubicBezTo>
                <a:cubicBezTo>
                  <a:pt x="3504" y="16156"/>
                  <a:pt x="3496" y="16164"/>
                  <a:pt x="3497" y="16222"/>
                </a:cubicBezTo>
              </a:path>
              <a:path w="7864" h="7765">
                <a:moveTo>
                  <a:pt x="2505" y="16892"/>
                </a:moveTo>
                <a:cubicBezTo>
                  <a:pt x="2545" y="16954"/>
                  <a:pt x="2536" y="16992"/>
                  <a:pt x="2629" y="17041"/>
                </a:cubicBezTo>
                <a:cubicBezTo>
                  <a:pt x="2808" y="17135"/>
                  <a:pt x="3076" y="17154"/>
                  <a:pt x="3274" y="17165"/>
                </a:cubicBezTo>
                <a:cubicBezTo>
                  <a:pt x="3516" y="17179"/>
                  <a:pt x="3753" y="17145"/>
                  <a:pt x="3994" y="17140"/>
                </a:cubicBezTo>
                <a:cubicBezTo>
                  <a:pt x="4148" y="17137"/>
                  <a:pt x="4342" y="17093"/>
                  <a:pt x="4490" y="17041"/>
                </a:cubicBezTo>
                <a:cubicBezTo>
                  <a:pt x="4631" y="16991"/>
                  <a:pt x="4842" y="16904"/>
                  <a:pt x="4961" y="16818"/>
                </a:cubicBezTo>
                <a:cubicBezTo>
                  <a:pt x="5107" y="16712"/>
                  <a:pt x="5279" y="16544"/>
                  <a:pt x="5383" y="16396"/>
                </a:cubicBezTo>
                <a:cubicBezTo>
                  <a:pt x="5459" y="16287"/>
                  <a:pt x="5518" y="16120"/>
                  <a:pt x="5556" y="15999"/>
                </a:cubicBezTo>
                <a:cubicBezTo>
                  <a:pt x="5601" y="15853"/>
                  <a:pt x="5606" y="15729"/>
                  <a:pt x="5606" y="15577"/>
                </a:cubicBezTo>
                <a:cubicBezTo>
                  <a:pt x="5606" y="15470"/>
                  <a:pt x="5582" y="15398"/>
                  <a:pt x="5531" y="15304"/>
                </a:cubicBezTo>
                <a:cubicBezTo>
                  <a:pt x="5470" y="15192"/>
                  <a:pt x="5397" y="15114"/>
                  <a:pt x="5308" y="15032"/>
                </a:cubicBezTo>
                <a:cubicBezTo>
                  <a:pt x="5226" y="14956"/>
                  <a:pt x="5151" y="14872"/>
                  <a:pt x="5060" y="14808"/>
                </a:cubicBezTo>
                <a:cubicBezTo>
                  <a:pt x="4997" y="14763"/>
                  <a:pt x="4907" y="14693"/>
                  <a:pt x="4837" y="14660"/>
                </a:cubicBezTo>
                <a:cubicBezTo>
                  <a:pt x="4701" y="14596"/>
                  <a:pt x="4539" y="14569"/>
                  <a:pt x="4390" y="14585"/>
                </a:cubicBezTo>
                <a:cubicBezTo>
                  <a:pt x="4216" y="14604"/>
                  <a:pt x="4042" y="14606"/>
                  <a:pt x="3870" y="14635"/>
                </a:cubicBezTo>
                <a:cubicBezTo>
                  <a:pt x="3654" y="14672"/>
                  <a:pt x="3473" y="14747"/>
                  <a:pt x="3274" y="14833"/>
                </a:cubicBezTo>
                <a:cubicBezTo>
                  <a:pt x="3114" y="14902"/>
                  <a:pt x="2990" y="14953"/>
                  <a:pt x="2853" y="15056"/>
                </a:cubicBezTo>
                <a:cubicBezTo>
                  <a:pt x="2735" y="15144"/>
                  <a:pt x="2645" y="15237"/>
                  <a:pt x="2555" y="15354"/>
                </a:cubicBezTo>
                <a:cubicBezTo>
                  <a:pt x="2466" y="15469"/>
                  <a:pt x="2382" y="15613"/>
                  <a:pt x="2332" y="15751"/>
                </a:cubicBezTo>
                <a:cubicBezTo>
                  <a:pt x="2288" y="15874"/>
                  <a:pt x="2266" y="16019"/>
                  <a:pt x="2257" y="16148"/>
                </a:cubicBezTo>
                <a:cubicBezTo>
                  <a:pt x="2250" y="16246"/>
                  <a:pt x="2250" y="16332"/>
                  <a:pt x="2282" y="16421"/>
                </a:cubicBezTo>
                <a:cubicBezTo>
                  <a:pt x="2316" y="16517"/>
                  <a:pt x="2376" y="16595"/>
                  <a:pt x="2431" y="16669"/>
                </a:cubicBezTo>
                <a:cubicBezTo>
                  <a:pt x="2470" y="16721"/>
                  <a:pt x="2514" y="16767"/>
                  <a:pt x="2555" y="16818"/>
                </a:cubicBezTo>
                <a:cubicBezTo>
                  <a:pt x="2580" y="16842"/>
                  <a:pt x="2588" y="16850"/>
                  <a:pt x="2604" y="168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88040" y="2982960"/>
            <a:ext cx="1098720" cy="785880"/>
          </a:xfrm>
          <a:custGeom>
            <a:avLst/>
            <a:gdLst/>
            <a:ahLst/>
            <a:rect l="l" t="t" r="r" b="b"/>
            <a:pathLst>
              <a:path w="3052" h="2184">
                <a:moveTo>
                  <a:pt x="19645" y="9451"/>
                </a:moveTo>
                <a:cubicBezTo>
                  <a:pt x="19645" y="9625"/>
                  <a:pt x="19667" y="9797"/>
                  <a:pt x="19670" y="9971"/>
                </a:cubicBezTo>
                <a:cubicBezTo>
                  <a:pt x="19670" y="10013"/>
                  <a:pt x="19670" y="10054"/>
                  <a:pt x="19670" y="10096"/>
                </a:cubicBezTo>
              </a:path>
              <a:path w="3052" h="2184">
                <a:moveTo>
                  <a:pt x="19918" y="9451"/>
                </a:moveTo>
                <a:cubicBezTo>
                  <a:pt x="19945" y="9380"/>
                  <a:pt x="20066" y="9250"/>
                  <a:pt x="20141" y="9376"/>
                </a:cubicBezTo>
                <a:cubicBezTo>
                  <a:pt x="20239" y="9540"/>
                  <a:pt x="20084" y="9748"/>
                  <a:pt x="19993" y="9872"/>
                </a:cubicBezTo>
                <a:cubicBezTo>
                  <a:pt x="19985" y="9880"/>
                  <a:pt x="19976" y="9889"/>
                  <a:pt x="19968" y="9897"/>
                </a:cubicBezTo>
                <a:cubicBezTo>
                  <a:pt x="20059" y="9882"/>
                  <a:pt x="20151" y="9850"/>
                  <a:pt x="20241" y="9823"/>
                </a:cubicBezTo>
              </a:path>
              <a:path w="3052" h="2184">
                <a:moveTo>
                  <a:pt x="19596" y="9327"/>
                </a:moveTo>
                <a:cubicBezTo>
                  <a:pt x="19619" y="9236"/>
                  <a:pt x="19895" y="9217"/>
                  <a:pt x="19968" y="9203"/>
                </a:cubicBezTo>
                <a:cubicBezTo>
                  <a:pt x="20109" y="9183"/>
                  <a:pt x="20137" y="9184"/>
                  <a:pt x="20216" y="9153"/>
                </a:cubicBezTo>
              </a:path>
              <a:path w="3052" h="2184">
                <a:moveTo>
                  <a:pt x="18058" y="9426"/>
                </a:moveTo>
                <a:cubicBezTo>
                  <a:pt x="18058" y="9467"/>
                  <a:pt x="18058" y="9475"/>
                  <a:pt x="18058" y="9500"/>
                </a:cubicBezTo>
              </a:path>
              <a:path w="3052" h="2184">
                <a:moveTo>
                  <a:pt x="18405" y="9525"/>
                </a:moveTo>
                <a:cubicBezTo>
                  <a:pt x="18405" y="9492"/>
                  <a:pt x="18413" y="9483"/>
                  <a:pt x="18455" y="9500"/>
                </a:cubicBezTo>
                <a:cubicBezTo>
                  <a:pt x="18462" y="9577"/>
                  <a:pt x="18444" y="9704"/>
                  <a:pt x="18554" y="9699"/>
                </a:cubicBezTo>
                <a:cubicBezTo>
                  <a:pt x="18613" y="9697"/>
                  <a:pt x="18682" y="9654"/>
                  <a:pt x="18728" y="9624"/>
                </a:cubicBezTo>
              </a:path>
              <a:path w="3052" h="2184">
                <a:moveTo>
                  <a:pt x="18678" y="9426"/>
                </a:moveTo>
                <a:cubicBezTo>
                  <a:pt x="18659" y="9610"/>
                  <a:pt x="18653" y="9786"/>
                  <a:pt x="18653" y="9971"/>
                </a:cubicBezTo>
                <a:cubicBezTo>
                  <a:pt x="18653" y="9979"/>
                  <a:pt x="18653" y="9988"/>
                  <a:pt x="18653" y="9996"/>
                </a:cubicBezTo>
              </a:path>
              <a:path w="3052" h="2184">
                <a:moveTo>
                  <a:pt x="18455" y="9227"/>
                </a:moveTo>
                <a:cubicBezTo>
                  <a:pt x="18372" y="9227"/>
                  <a:pt x="18570" y="9212"/>
                  <a:pt x="18653" y="9203"/>
                </a:cubicBezTo>
                <a:cubicBezTo>
                  <a:pt x="18695" y="9203"/>
                  <a:pt x="18703" y="9203"/>
                  <a:pt x="18728" y="9203"/>
                </a:cubicBezTo>
              </a:path>
              <a:path w="3052" h="2184">
                <a:moveTo>
                  <a:pt x="18455" y="8731"/>
                </a:moveTo>
                <a:cubicBezTo>
                  <a:pt x="18447" y="8782"/>
                  <a:pt x="18436" y="8829"/>
                  <a:pt x="18430" y="8880"/>
                </a:cubicBezTo>
                <a:cubicBezTo>
                  <a:pt x="18488" y="8880"/>
                  <a:pt x="18530" y="8879"/>
                  <a:pt x="18579" y="8855"/>
                </a:cubicBezTo>
              </a:path>
              <a:path w="3052" h="2184">
                <a:moveTo>
                  <a:pt x="18579" y="8607"/>
                </a:moveTo>
                <a:cubicBezTo>
                  <a:pt x="18558" y="8750"/>
                  <a:pt x="18556" y="8875"/>
                  <a:pt x="18579" y="9004"/>
                </a:cubicBezTo>
                <a:cubicBezTo>
                  <a:pt x="18579" y="9021"/>
                  <a:pt x="18579" y="9037"/>
                  <a:pt x="18579" y="9054"/>
                </a:cubicBezTo>
              </a:path>
              <a:path w="3052" h="2184">
                <a:moveTo>
                  <a:pt x="19621" y="8458"/>
                </a:moveTo>
                <a:cubicBezTo>
                  <a:pt x="19639" y="8586"/>
                  <a:pt x="19665" y="8702"/>
                  <a:pt x="19621" y="8830"/>
                </a:cubicBezTo>
                <a:cubicBezTo>
                  <a:pt x="19613" y="8838"/>
                  <a:pt x="19604" y="8847"/>
                  <a:pt x="19596" y="8855"/>
                </a:cubicBezTo>
                <a:cubicBezTo>
                  <a:pt x="19691" y="8836"/>
                  <a:pt x="19741" y="8791"/>
                  <a:pt x="19844" y="8781"/>
                </a:cubicBezTo>
                <a:cubicBezTo>
                  <a:pt x="19852" y="8781"/>
                  <a:pt x="19861" y="8781"/>
                  <a:pt x="19869" y="8781"/>
                </a:cubicBezTo>
              </a:path>
              <a:path w="3052" h="2184">
                <a:moveTo>
                  <a:pt x="19918" y="8285"/>
                </a:moveTo>
                <a:cubicBezTo>
                  <a:pt x="19899" y="8517"/>
                  <a:pt x="19904" y="8723"/>
                  <a:pt x="19918" y="8954"/>
                </a:cubicBezTo>
                <a:cubicBezTo>
                  <a:pt x="19918" y="9029"/>
                  <a:pt x="19918" y="9037"/>
                  <a:pt x="19918" y="9079"/>
                </a:cubicBezTo>
              </a:path>
              <a:path w="3052" h="2184">
                <a:moveTo>
                  <a:pt x="17190" y="8706"/>
                </a:moveTo>
                <a:cubicBezTo>
                  <a:pt x="17430" y="8743"/>
                  <a:pt x="17584" y="8829"/>
                  <a:pt x="17810" y="9004"/>
                </a:cubicBezTo>
                <a:cubicBezTo>
                  <a:pt x="18176" y="9287"/>
                  <a:pt x="18504" y="9618"/>
                  <a:pt x="18852" y="9922"/>
                </a:cubicBezTo>
                <a:cubicBezTo>
                  <a:pt x="18918" y="9980"/>
                  <a:pt x="19052" y="10088"/>
                  <a:pt x="19124" y="10145"/>
                </a:cubicBezTo>
              </a:path>
              <a:path w="3052" h="2184">
                <a:moveTo>
                  <a:pt x="18827" y="8533"/>
                </a:moveTo>
                <a:cubicBezTo>
                  <a:pt x="18731" y="8686"/>
                  <a:pt x="18632" y="8900"/>
                  <a:pt x="18529" y="9054"/>
                </a:cubicBezTo>
                <a:cubicBezTo>
                  <a:pt x="18263" y="9451"/>
                  <a:pt x="17935" y="9822"/>
                  <a:pt x="17636" y="10195"/>
                </a:cubicBezTo>
                <a:cubicBezTo>
                  <a:pt x="17565" y="10283"/>
                  <a:pt x="17455" y="10361"/>
                  <a:pt x="17388" y="10443"/>
                </a:cubicBezTo>
                <a:cubicBezTo>
                  <a:pt x="17388" y="10451"/>
                  <a:pt x="17388" y="10460"/>
                  <a:pt x="17388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3720" y="3098880"/>
            <a:ext cx="1196640" cy="2581200"/>
          </a:xfrm>
          <a:custGeom>
            <a:avLst/>
            <a:gdLst/>
            <a:ahLst/>
            <a:rect l="l" t="t" r="r" b="b"/>
            <a:pathLst>
              <a:path w="3324" h="7170">
                <a:moveTo>
                  <a:pt x="16346" y="9203"/>
                </a:moveTo>
                <a:cubicBezTo>
                  <a:pt x="16135" y="9308"/>
                  <a:pt x="16015" y="9410"/>
                  <a:pt x="15850" y="9575"/>
                </a:cubicBezTo>
                <a:cubicBezTo>
                  <a:pt x="15917" y="9785"/>
                  <a:pt x="16323" y="10021"/>
                  <a:pt x="16247" y="10269"/>
                </a:cubicBezTo>
                <a:cubicBezTo>
                  <a:pt x="16101" y="10415"/>
                  <a:pt x="16056" y="10465"/>
                  <a:pt x="15900" y="10418"/>
                </a:cubicBezTo>
                <a:cubicBezTo>
                  <a:pt x="15840" y="10109"/>
                  <a:pt x="16142" y="9809"/>
                  <a:pt x="16272" y="9475"/>
                </a:cubicBezTo>
                <a:cubicBezTo>
                  <a:pt x="16292" y="9374"/>
                  <a:pt x="16322" y="9322"/>
                  <a:pt x="16247" y="9376"/>
                </a:cubicBezTo>
              </a:path>
              <a:path w="3324" h="7170">
                <a:moveTo>
                  <a:pt x="17487" y="8607"/>
                </a:moveTo>
                <a:cubicBezTo>
                  <a:pt x="17509" y="8844"/>
                  <a:pt x="17532" y="9028"/>
                  <a:pt x="17487" y="9252"/>
                </a:cubicBezTo>
              </a:path>
              <a:path w="3324" h="7170">
                <a:moveTo>
                  <a:pt x="17413" y="9649"/>
                </a:moveTo>
                <a:cubicBezTo>
                  <a:pt x="17526" y="9588"/>
                  <a:pt x="17608" y="9564"/>
                  <a:pt x="17735" y="9550"/>
                </a:cubicBezTo>
                <a:cubicBezTo>
                  <a:pt x="17748" y="9759"/>
                  <a:pt x="17680" y="9815"/>
                  <a:pt x="17512" y="9947"/>
                </a:cubicBezTo>
                <a:cubicBezTo>
                  <a:pt x="17595" y="9933"/>
                  <a:pt x="17780" y="9887"/>
                  <a:pt x="17810" y="10021"/>
                </a:cubicBezTo>
                <a:cubicBezTo>
                  <a:pt x="17867" y="10274"/>
                  <a:pt x="17550" y="10326"/>
                  <a:pt x="17388" y="10344"/>
                </a:cubicBezTo>
                <a:cubicBezTo>
                  <a:pt x="17380" y="10344"/>
                  <a:pt x="17371" y="10344"/>
                  <a:pt x="17363" y="10344"/>
                </a:cubicBezTo>
              </a:path>
              <a:path w="3324" h="7170">
                <a:moveTo>
                  <a:pt x="15925" y="11559"/>
                </a:moveTo>
                <a:cubicBezTo>
                  <a:pt x="16038" y="11497"/>
                  <a:pt x="16252" y="11321"/>
                  <a:pt x="16321" y="11534"/>
                </a:cubicBezTo>
                <a:cubicBezTo>
                  <a:pt x="16321" y="11705"/>
                  <a:pt x="16322" y="11761"/>
                  <a:pt x="16247" y="11857"/>
                </a:cubicBezTo>
                <a:cubicBezTo>
                  <a:pt x="16098" y="11949"/>
                  <a:pt x="16267" y="11774"/>
                  <a:pt x="16396" y="11881"/>
                </a:cubicBezTo>
                <a:cubicBezTo>
                  <a:pt x="16632" y="12076"/>
                  <a:pt x="16325" y="12386"/>
                  <a:pt x="16123" y="12427"/>
                </a:cubicBezTo>
                <a:cubicBezTo>
                  <a:pt x="15972" y="12405"/>
                  <a:pt x="15931" y="12414"/>
                  <a:pt x="15875" y="12328"/>
                </a:cubicBezTo>
              </a:path>
              <a:path w="3324" h="7170">
                <a:moveTo>
                  <a:pt x="17363" y="11013"/>
                </a:moveTo>
                <a:cubicBezTo>
                  <a:pt x="17493" y="10975"/>
                  <a:pt x="17600" y="10948"/>
                  <a:pt x="17735" y="10939"/>
                </a:cubicBezTo>
                <a:cubicBezTo>
                  <a:pt x="17708" y="11100"/>
                  <a:pt x="17611" y="11269"/>
                  <a:pt x="17611" y="11435"/>
                </a:cubicBezTo>
                <a:cubicBezTo>
                  <a:pt x="17619" y="11452"/>
                  <a:pt x="17628" y="11468"/>
                  <a:pt x="17636" y="11485"/>
                </a:cubicBezTo>
              </a:path>
              <a:path w="3324" h="7170">
                <a:moveTo>
                  <a:pt x="17289" y="11757"/>
                </a:moveTo>
                <a:cubicBezTo>
                  <a:pt x="17577" y="11670"/>
                  <a:pt x="17859" y="11567"/>
                  <a:pt x="18157" y="11534"/>
                </a:cubicBezTo>
              </a:path>
              <a:path w="3324" h="7170">
                <a:moveTo>
                  <a:pt x="17562" y="11981"/>
                </a:moveTo>
                <a:cubicBezTo>
                  <a:pt x="17671" y="11951"/>
                  <a:pt x="17743" y="11923"/>
                  <a:pt x="17859" y="11906"/>
                </a:cubicBezTo>
                <a:cubicBezTo>
                  <a:pt x="17874" y="12124"/>
                  <a:pt x="17755" y="12175"/>
                  <a:pt x="17661" y="12353"/>
                </a:cubicBezTo>
                <a:cubicBezTo>
                  <a:pt x="17669" y="12353"/>
                  <a:pt x="17678" y="12353"/>
                  <a:pt x="17686" y="12353"/>
                </a:cubicBezTo>
                <a:cubicBezTo>
                  <a:pt x="17853" y="12331"/>
                  <a:pt x="18035" y="12248"/>
                  <a:pt x="18207" y="12254"/>
                </a:cubicBezTo>
                <a:cubicBezTo>
                  <a:pt x="18215" y="12262"/>
                  <a:pt x="18223" y="12270"/>
                  <a:pt x="18231" y="12278"/>
                </a:cubicBezTo>
              </a:path>
              <a:path w="3324" h="7170">
                <a:moveTo>
                  <a:pt x="17289" y="13915"/>
                </a:moveTo>
                <a:cubicBezTo>
                  <a:pt x="17552" y="13904"/>
                  <a:pt x="17825" y="13868"/>
                  <a:pt x="18083" y="13816"/>
                </a:cubicBezTo>
                <a:cubicBezTo>
                  <a:pt x="18185" y="13795"/>
                  <a:pt x="18278" y="13757"/>
                  <a:pt x="18380" y="13742"/>
                </a:cubicBezTo>
              </a:path>
              <a:path w="3324" h="7170">
                <a:moveTo>
                  <a:pt x="17537" y="14163"/>
                </a:moveTo>
                <a:cubicBezTo>
                  <a:pt x="17537" y="14373"/>
                  <a:pt x="17530" y="14575"/>
                  <a:pt x="17512" y="14784"/>
                </a:cubicBezTo>
                <a:cubicBezTo>
                  <a:pt x="17512" y="14808"/>
                  <a:pt x="17512" y="14816"/>
                  <a:pt x="17512" y="14784"/>
                </a:cubicBezTo>
              </a:path>
              <a:path w="3324" h="7170">
                <a:moveTo>
                  <a:pt x="17760" y="14213"/>
                </a:moveTo>
                <a:cubicBezTo>
                  <a:pt x="17821" y="14164"/>
                  <a:pt x="17853" y="14162"/>
                  <a:pt x="17934" y="14139"/>
                </a:cubicBezTo>
                <a:cubicBezTo>
                  <a:pt x="17985" y="14255"/>
                  <a:pt x="17935" y="14391"/>
                  <a:pt x="17884" y="14511"/>
                </a:cubicBezTo>
                <a:cubicBezTo>
                  <a:pt x="17832" y="14634"/>
                  <a:pt x="17763" y="14775"/>
                  <a:pt x="17686" y="14883"/>
                </a:cubicBezTo>
                <a:cubicBezTo>
                  <a:pt x="17621" y="14927"/>
                  <a:pt x="17720" y="14803"/>
                  <a:pt x="17785" y="14759"/>
                </a:cubicBezTo>
                <a:cubicBezTo>
                  <a:pt x="17852" y="14713"/>
                  <a:pt x="17959" y="14809"/>
                  <a:pt x="18033" y="14784"/>
                </a:cubicBezTo>
                <a:cubicBezTo>
                  <a:pt x="18127" y="14752"/>
                  <a:pt x="18083" y="14734"/>
                  <a:pt x="18157" y="14734"/>
                </a:cubicBezTo>
              </a:path>
              <a:path w="3324" h="7170">
                <a:moveTo>
                  <a:pt x="17512" y="13295"/>
                </a:moveTo>
                <a:cubicBezTo>
                  <a:pt x="17512" y="13279"/>
                  <a:pt x="17512" y="13262"/>
                  <a:pt x="17512" y="13246"/>
                </a:cubicBezTo>
                <a:cubicBezTo>
                  <a:pt x="17484" y="13329"/>
                  <a:pt x="17471" y="13546"/>
                  <a:pt x="17462" y="13667"/>
                </a:cubicBezTo>
                <a:cubicBezTo>
                  <a:pt x="17462" y="13717"/>
                  <a:pt x="17462" y="13734"/>
                  <a:pt x="17462" y="13767"/>
                </a:cubicBezTo>
              </a:path>
              <a:path w="3324" h="7170">
                <a:moveTo>
                  <a:pt x="17785" y="13171"/>
                </a:moveTo>
                <a:cubicBezTo>
                  <a:pt x="17760" y="13171"/>
                  <a:pt x="17752" y="13171"/>
                  <a:pt x="17760" y="13146"/>
                </a:cubicBezTo>
                <a:cubicBezTo>
                  <a:pt x="17741" y="13314"/>
                  <a:pt x="17715" y="13474"/>
                  <a:pt x="17711" y="13643"/>
                </a:cubicBezTo>
                <a:cubicBezTo>
                  <a:pt x="17711" y="13701"/>
                  <a:pt x="17711" y="13709"/>
                  <a:pt x="17711" y="13742"/>
                </a:cubicBezTo>
              </a:path>
              <a:path w="3324" h="7170">
                <a:moveTo>
                  <a:pt x="16197" y="13791"/>
                </a:moveTo>
                <a:cubicBezTo>
                  <a:pt x="16306" y="13927"/>
                  <a:pt x="16257" y="14324"/>
                  <a:pt x="16247" y="14511"/>
                </a:cubicBezTo>
                <a:cubicBezTo>
                  <a:pt x="16240" y="14644"/>
                  <a:pt x="16197" y="14992"/>
                  <a:pt x="16197" y="14858"/>
                </a:cubicBezTo>
              </a:path>
              <a:path w="3324" h="7170">
                <a:moveTo>
                  <a:pt x="16619" y="13940"/>
                </a:moveTo>
                <a:cubicBezTo>
                  <a:pt x="16619" y="13876"/>
                  <a:pt x="16635" y="13830"/>
                  <a:pt x="16644" y="13767"/>
                </a:cubicBezTo>
                <a:cubicBezTo>
                  <a:pt x="16644" y="13750"/>
                  <a:pt x="16644" y="13734"/>
                  <a:pt x="16644" y="13717"/>
                </a:cubicBezTo>
                <a:cubicBezTo>
                  <a:pt x="16575" y="13992"/>
                  <a:pt x="16584" y="14320"/>
                  <a:pt x="16570" y="14610"/>
                </a:cubicBezTo>
                <a:cubicBezTo>
                  <a:pt x="16570" y="14718"/>
                  <a:pt x="16570" y="14726"/>
                  <a:pt x="16570" y="14784"/>
                </a:cubicBezTo>
              </a:path>
              <a:path w="3324" h="7170">
                <a:moveTo>
                  <a:pt x="15701" y="15255"/>
                </a:moveTo>
                <a:cubicBezTo>
                  <a:pt x="15811" y="15301"/>
                  <a:pt x="15939" y="15334"/>
                  <a:pt x="16049" y="15379"/>
                </a:cubicBezTo>
                <a:cubicBezTo>
                  <a:pt x="16298" y="15481"/>
                  <a:pt x="16557" y="15576"/>
                  <a:pt x="16818" y="15652"/>
                </a:cubicBezTo>
                <a:cubicBezTo>
                  <a:pt x="17069" y="15725"/>
                  <a:pt x="17277" y="15798"/>
                  <a:pt x="17537" y="15751"/>
                </a:cubicBezTo>
                <a:cubicBezTo>
                  <a:pt x="17719" y="15718"/>
                  <a:pt x="17896" y="15641"/>
                  <a:pt x="18058" y="15553"/>
                </a:cubicBezTo>
                <a:cubicBezTo>
                  <a:pt x="18307" y="15418"/>
                  <a:pt x="18624" y="15228"/>
                  <a:pt x="18777" y="14982"/>
                </a:cubicBezTo>
                <a:cubicBezTo>
                  <a:pt x="18919" y="14753"/>
                  <a:pt x="18943" y="14446"/>
                  <a:pt x="18976" y="14188"/>
                </a:cubicBezTo>
                <a:cubicBezTo>
                  <a:pt x="19005" y="13962"/>
                  <a:pt x="19026" y="13718"/>
                  <a:pt x="18976" y="13494"/>
                </a:cubicBezTo>
                <a:cubicBezTo>
                  <a:pt x="18942" y="13341"/>
                  <a:pt x="18896" y="13234"/>
                  <a:pt x="18827" y="13097"/>
                </a:cubicBezTo>
                <a:cubicBezTo>
                  <a:pt x="18774" y="12991"/>
                  <a:pt x="18747" y="12941"/>
                  <a:pt x="18653" y="12874"/>
                </a:cubicBezTo>
                <a:cubicBezTo>
                  <a:pt x="18588" y="12827"/>
                  <a:pt x="18464" y="12786"/>
                  <a:pt x="18380" y="12774"/>
                </a:cubicBezTo>
                <a:cubicBezTo>
                  <a:pt x="18195" y="12748"/>
                  <a:pt x="17992" y="12765"/>
                  <a:pt x="17810" y="12774"/>
                </a:cubicBezTo>
                <a:cubicBezTo>
                  <a:pt x="17669" y="12781"/>
                  <a:pt x="17497" y="12776"/>
                  <a:pt x="17363" y="12824"/>
                </a:cubicBezTo>
                <a:cubicBezTo>
                  <a:pt x="17199" y="12882"/>
                  <a:pt x="17032" y="12936"/>
                  <a:pt x="16867" y="12998"/>
                </a:cubicBezTo>
                <a:cubicBezTo>
                  <a:pt x="16702" y="13060"/>
                  <a:pt x="16529" y="13154"/>
                  <a:pt x="16396" y="13271"/>
                </a:cubicBezTo>
                <a:cubicBezTo>
                  <a:pt x="16241" y="13408"/>
                  <a:pt x="16118" y="13577"/>
                  <a:pt x="15999" y="13742"/>
                </a:cubicBezTo>
                <a:cubicBezTo>
                  <a:pt x="15911" y="13865"/>
                  <a:pt x="15854" y="13976"/>
                  <a:pt x="15801" y="14114"/>
                </a:cubicBezTo>
                <a:cubicBezTo>
                  <a:pt x="15749" y="14247"/>
                  <a:pt x="15708" y="14368"/>
                  <a:pt x="15701" y="14511"/>
                </a:cubicBezTo>
                <a:cubicBezTo>
                  <a:pt x="15694" y="14643"/>
                  <a:pt x="15664" y="14775"/>
                  <a:pt x="15677" y="14908"/>
                </a:cubicBezTo>
                <a:cubicBezTo>
                  <a:pt x="15687" y="15009"/>
                  <a:pt x="15719" y="15161"/>
                  <a:pt x="15751" y="15255"/>
                </a:cubicBezTo>
                <a:cubicBezTo>
                  <a:pt x="15764" y="15293"/>
                  <a:pt x="15788" y="15321"/>
                  <a:pt x="15801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0120" y="3330720"/>
            <a:ext cx="266760" cy="1197000"/>
          </a:xfrm>
          <a:custGeom>
            <a:avLst/>
            <a:gdLst/>
            <a:ahLst/>
            <a:rect l="l" t="t" r="r" b="b"/>
            <a:pathLst>
              <a:path w="745" h="3325">
                <a:moveTo>
                  <a:pt x="17165" y="9500"/>
                </a:moveTo>
                <a:cubicBezTo>
                  <a:pt x="17411" y="9399"/>
                  <a:pt x="17647" y="9300"/>
                  <a:pt x="17909" y="9252"/>
                </a:cubicBezTo>
              </a:path>
              <a:path w="745" h="3325">
                <a:moveTo>
                  <a:pt x="17363" y="12129"/>
                </a:moveTo>
                <a:cubicBezTo>
                  <a:pt x="17352" y="12217"/>
                  <a:pt x="17253" y="12527"/>
                  <a:pt x="17314" y="12576"/>
                </a:cubicBezTo>
                <a:cubicBezTo>
                  <a:pt x="17322" y="12551"/>
                  <a:pt x="17330" y="12527"/>
                  <a:pt x="17338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7760" y="4606920"/>
            <a:ext cx="1946160" cy="117360"/>
          </a:xfrm>
          <a:custGeom>
            <a:avLst/>
            <a:gdLst/>
            <a:ahLst/>
            <a:rect l="l" t="t" r="r" b="b"/>
            <a:pathLst>
              <a:path w="5408" h="324">
                <a:moveTo>
                  <a:pt x="13965" y="13122"/>
                </a:moveTo>
                <a:cubicBezTo>
                  <a:pt x="14594" y="13069"/>
                  <a:pt x="15218" y="13011"/>
                  <a:pt x="15850" y="12973"/>
                </a:cubicBezTo>
                <a:cubicBezTo>
                  <a:pt x="16934" y="12908"/>
                  <a:pt x="18016" y="12842"/>
                  <a:pt x="19100" y="12799"/>
                </a:cubicBezTo>
                <a:cubicBezTo>
                  <a:pt x="19273" y="12799"/>
                  <a:pt x="19281" y="12799"/>
                  <a:pt x="19372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ubtract fractions - apply the same rules as addit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irst for like denomin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from fractions to the left when subtrac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54480" y="343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66680" y="3886200"/>
                <a:ext cx="990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649760" y="381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0" y="3886200"/>
                <a:ext cx="990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38120" y="3394080"/>
            <a:ext cx="411120" cy="347760"/>
          </a:xfrm>
          <a:custGeom>
            <a:avLst/>
            <a:gdLst/>
            <a:ahLst/>
            <a:rect l="l" t="t" r="r" b="b"/>
            <a:pathLst>
              <a:path w="1142" h="968">
                <a:moveTo>
                  <a:pt x="1761" y="9550"/>
                </a:moveTo>
                <a:cubicBezTo>
                  <a:pt x="1761" y="9690"/>
                  <a:pt x="1783" y="9830"/>
                  <a:pt x="1786" y="9971"/>
                </a:cubicBezTo>
                <a:cubicBezTo>
                  <a:pt x="1786" y="10066"/>
                  <a:pt x="1808" y="10087"/>
                  <a:pt x="1761" y="10120"/>
                </a:cubicBezTo>
              </a:path>
              <a:path w="1142" h="968">
                <a:moveTo>
                  <a:pt x="1364" y="10096"/>
                </a:moveTo>
                <a:cubicBezTo>
                  <a:pt x="1504" y="10244"/>
                  <a:pt x="1725" y="10443"/>
                  <a:pt x="1960" y="10393"/>
                </a:cubicBezTo>
                <a:cubicBezTo>
                  <a:pt x="2237" y="10334"/>
                  <a:pt x="2383" y="10077"/>
                  <a:pt x="2332" y="9823"/>
                </a:cubicBezTo>
                <a:cubicBezTo>
                  <a:pt x="2262" y="9473"/>
                  <a:pt x="2021" y="9436"/>
                  <a:pt x="1712" y="9426"/>
                </a:cubicBezTo>
                <a:cubicBezTo>
                  <a:pt x="1397" y="9415"/>
                  <a:pt x="1223" y="9660"/>
                  <a:pt x="1215" y="9971"/>
                </a:cubicBezTo>
                <a:cubicBezTo>
                  <a:pt x="1208" y="10267"/>
                  <a:pt x="1403" y="10281"/>
                  <a:pt x="1612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7760" y="4081320"/>
            <a:ext cx="9360" cy="187560"/>
          </a:xfrm>
          <a:custGeom>
            <a:avLst/>
            <a:gdLst/>
            <a:ahLst/>
            <a:rect l="l" t="t" r="r" b="b"/>
            <a:pathLst>
              <a:path w="26" h="522">
                <a:moveTo>
                  <a:pt x="7491" y="11336"/>
                </a:moveTo>
                <a:cubicBezTo>
                  <a:pt x="7458" y="11336"/>
                  <a:pt x="7450" y="11344"/>
                  <a:pt x="7466" y="11385"/>
                </a:cubicBezTo>
              </a:path>
              <a:path w="26" h="522">
                <a:moveTo>
                  <a:pt x="7491" y="11857"/>
                </a:moveTo>
                <a:lnTo>
                  <a:pt x="7491" y="11857"/>
                </a:lnTo>
              </a:path>
              <a:path w="26" h="522">
                <a:moveTo>
                  <a:pt x="7491" y="11857"/>
                </a:moveTo>
                <a:lnTo>
                  <a:pt x="7491" y="1185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24120" y="3884760"/>
            <a:ext cx="936720" cy="830160"/>
          </a:xfrm>
          <a:custGeom>
            <a:avLst/>
            <a:gdLst/>
            <a:ahLst/>
            <a:rect l="l" t="t" r="r" b="b"/>
            <a:pathLst>
              <a:path w="2606" h="2308">
                <a:moveTo>
                  <a:pt x="7714" y="11534"/>
                </a:moveTo>
                <a:cubicBezTo>
                  <a:pt x="7714" y="11671"/>
                  <a:pt x="7712" y="11695"/>
                  <a:pt x="7863" y="11658"/>
                </a:cubicBezTo>
                <a:cubicBezTo>
                  <a:pt x="7888" y="11650"/>
                  <a:pt x="7913" y="11641"/>
                  <a:pt x="7938" y="11633"/>
                </a:cubicBezTo>
              </a:path>
              <a:path w="2606" h="2308">
                <a:moveTo>
                  <a:pt x="7962" y="11311"/>
                </a:moveTo>
                <a:cubicBezTo>
                  <a:pt x="7933" y="11498"/>
                  <a:pt x="7928" y="11672"/>
                  <a:pt x="7938" y="11857"/>
                </a:cubicBezTo>
                <a:cubicBezTo>
                  <a:pt x="7938" y="11915"/>
                  <a:pt x="7954" y="11939"/>
                  <a:pt x="7913" y="11931"/>
                </a:cubicBezTo>
              </a:path>
              <a:path w="2606" h="2308">
                <a:moveTo>
                  <a:pt x="7565" y="12675"/>
                </a:moveTo>
                <a:cubicBezTo>
                  <a:pt x="7627" y="12675"/>
                  <a:pt x="7664" y="12680"/>
                  <a:pt x="7714" y="12650"/>
                </a:cubicBezTo>
              </a:path>
              <a:path w="2606" h="2308">
                <a:moveTo>
                  <a:pt x="7714" y="12452"/>
                </a:moveTo>
                <a:cubicBezTo>
                  <a:pt x="7706" y="12460"/>
                  <a:pt x="7697" y="12469"/>
                  <a:pt x="7689" y="12477"/>
                </a:cubicBezTo>
              </a:path>
              <a:path w="2606" h="2308">
                <a:moveTo>
                  <a:pt x="7689" y="12898"/>
                </a:moveTo>
                <a:lnTo>
                  <a:pt x="7689" y="12898"/>
                </a:lnTo>
              </a:path>
              <a:path w="2606" h="2308">
                <a:moveTo>
                  <a:pt x="7689" y="12898"/>
                </a:moveTo>
                <a:lnTo>
                  <a:pt x="7689" y="12898"/>
                </a:lnTo>
              </a:path>
              <a:path w="2606" h="2308">
                <a:moveTo>
                  <a:pt x="7962" y="12502"/>
                </a:moveTo>
                <a:cubicBezTo>
                  <a:pt x="7935" y="12575"/>
                  <a:pt x="7888" y="12698"/>
                  <a:pt x="8037" y="12675"/>
                </a:cubicBezTo>
                <a:cubicBezTo>
                  <a:pt x="8120" y="12634"/>
                  <a:pt x="8145" y="12634"/>
                  <a:pt x="8161" y="12576"/>
                </a:cubicBezTo>
              </a:path>
              <a:path w="2606" h="2308">
                <a:moveTo>
                  <a:pt x="8136" y="12402"/>
                </a:moveTo>
                <a:cubicBezTo>
                  <a:pt x="8136" y="12592"/>
                  <a:pt x="8136" y="12783"/>
                  <a:pt x="8136" y="12973"/>
                </a:cubicBezTo>
              </a:path>
              <a:path w="2606" h="2308">
                <a:moveTo>
                  <a:pt x="8384" y="12055"/>
                </a:moveTo>
                <a:cubicBezTo>
                  <a:pt x="8467" y="12055"/>
                  <a:pt x="8525" y="12047"/>
                  <a:pt x="8607" y="12030"/>
                </a:cubicBezTo>
              </a:path>
              <a:path w="2606" h="2308">
                <a:moveTo>
                  <a:pt x="8384" y="12278"/>
                </a:moveTo>
                <a:cubicBezTo>
                  <a:pt x="8550" y="12278"/>
                  <a:pt x="8585" y="12285"/>
                  <a:pt x="8731" y="12204"/>
                </a:cubicBezTo>
              </a:path>
              <a:path w="2606" h="2308">
                <a:moveTo>
                  <a:pt x="9351" y="11237"/>
                </a:moveTo>
                <a:cubicBezTo>
                  <a:pt x="9375" y="11494"/>
                  <a:pt x="9376" y="11747"/>
                  <a:pt x="9376" y="12005"/>
                </a:cubicBezTo>
              </a:path>
              <a:path w="2606" h="2308">
                <a:moveTo>
                  <a:pt x="9079" y="12080"/>
                </a:moveTo>
                <a:cubicBezTo>
                  <a:pt x="9287" y="12007"/>
                  <a:pt x="9481" y="11929"/>
                  <a:pt x="9699" y="11906"/>
                </a:cubicBezTo>
              </a:path>
              <a:path w="2606" h="2308">
                <a:moveTo>
                  <a:pt x="9252" y="12278"/>
                </a:moveTo>
                <a:cubicBezTo>
                  <a:pt x="9293" y="12211"/>
                  <a:pt x="9381" y="12179"/>
                  <a:pt x="9451" y="12129"/>
                </a:cubicBezTo>
                <a:cubicBezTo>
                  <a:pt x="9509" y="12263"/>
                  <a:pt x="9494" y="12341"/>
                  <a:pt x="9426" y="12477"/>
                </a:cubicBezTo>
                <a:cubicBezTo>
                  <a:pt x="9380" y="12569"/>
                  <a:pt x="9286" y="12732"/>
                  <a:pt x="9203" y="12774"/>
                </a:cubicBezTo>
                <a:cubicBezTo>
                  <a:pt x="9203" y="12704"/>
                  <a:pt x="9229" y="12634"/>
                  <a:pt x="9302" y="12601"/>
                </a:cubicBezTo>
                <a:cubicBezTo>
                  <a:pt x="9403" y="12556"/>
                  <a:pt x="9423" y="12707"/>
                  <a:pt x="9475" y="12725"/>
                </a:cubicBezTo>
                <a:cubicBezTo>
                  <a:pt x="9556" y="12753"/>
                  <a:pt x="9589" y="12709"/>
                  <a:pt x="9649" y="12675"/>
                </a:cubicBezTo>
              </a:path>
              <a:path w="2606" h="2308">
                <a:moveTo>
                  <a:pt x="8930" y="12973"/>
                </a:moveTo>
                <a:cubicBezTo>
                  <a:pt x="9046" y="13034"/>
                  <a:pt x="9141" y="13086"/>
                  <a:pt x="9277" y="13097"/>
                </a:cubicBezTo>
                <a:cubicBezTo>
                  <a:pt x="9440" y="13110"/>
                  <a:pt x="9630" y="13114"/>
                  <a:pt x="9773" y="13022"/>
                </a:cubicBezTo>
                <a:cubicBezTo>
                  <a:pt x="9933" y="12919"/>
                  <a:pt x="10008" y="12774"/>
                  <a:pt x="10071" y="12601"/>
                </a:cubicBezTo>
                <a:cubicBezTo>
                  <a:pt x="10137" y="12422"/>
                  <a:pt x="10166" y="12245"/>
                  <a:pt x="10170" y="12055"/>
                </a:cubicBezTo>
                <a:cubicBezTo>
                  <a:pt x="10174" y="11892"/>
                  <a:pt x="10169" y="11719"/>
                  <a:pt x="10145" y="11559"/>
                </a:cubicBezTo>
                <a:cubicBezTo>
                  <a:pt x="10127" y="11436"/>
                  <a:pt x="10123" y="11276"/>
                  <a:pt x="10071" y="11162"/>
                </a:cubicBezTo>
                <a:cubicBezTo>
                  <a:pt x="10027" y="11065"/>
                  <a:pt x="9935" y="10953"/>
                  <a:pt x="9847" y="10889"/>
                </a:cubicBezTo>
                <a:cubicBezTo>
                  <a:pt x="9769" y="10832"/>
                  <a:pt x="9675" y="10777"/>
                  <a:pt x="9575" y="10790"/>
                </a:cubicBezTo>
                <a:cubicBezTo>
                  <a:pt x="9456" y="10805"/>
                  <a:pt x="9269" y="10857"/>
                  <a:pt x="9178" y="10939"/>
                </a:cubicBezTo>
                <a:cubicBezTo>
                  <a:pt x="9071" y="11035"/>
                  <a:pt x="8976" y="11201"/>
                  <a:pt x="8930" y="11336"/>
                </a:cubicBezTo>
                <a:cubicBezTo>
                  <a:pt x="8883" y="11474"/>
                  <a:pt x="8882" y="11618"/>
                  <a:pt x="8855" y="11757"/>
                </a:cubicBezTo>
                <a:cubicBezTo>
                  <a:pt x="8831" y="11881"/>
                  <a:pt x="8810" y="12001"/>
                  <a:pt x="8806" y="12129"/>
                </a:cubicBezTo>
                <a:cubicBezTo>
                  <a:pt x="8802" y="12245"/>
                  <a:pt x="8818" y="12333"/>
                  <a:pt x="8806" y="12452"/>
                </a:cubicBezTo>
                <a:cubicBezTo>
                  <a:pt x="8793" y="12590"/>
                  <a:pt x="8816" y="12717"/>
                  <a:pt x="8830" y="12849"/>
                </a:cubicBezTo>
                <a:cubicBezTo>
                  <a:pt x="8836" y="12905"/>
                  <a:pt x="8848" y="12951"/>
                  <a:pt x="8855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1960" y="3367080"/>
            <a:ext cx="465120" cy="473040"/>
          </a:xfrm>
          <a:custGeom>
            <a:avLst/>
            <a:gdLst/>
            <a:ahLst/>
            <a:rect l="l" t="t" r="r" b="b"/>
            <a:pathLst>
              <a:path w="1291" h="1316">
                <a:moveTo>
                  <a:pt x="11832" y="9798"/>
                </a:moveTo>
                <a:cubicBezTo>
                  <a:pt x="11814" y="9869"/>
                  <a:pt x="11782" y="9829"/>
                  <a:pt x="11832" y="9798"/>
                </a:cubicBezTo>
                <a:cubicBezTo>
                  <a:pt x="12030" y="9677"/>
                  <a:pt x="12190" y="9842"/>
                  <a:pt x="12105" y="10071"/>
                </a:cubicBezTo>
                <a:cubicBezTo>
                  <a:pt x="12038" y="10250"/>
                  <a:pt x="11921" y="10269"/>
                  <a:pt x="11782" y="10269"/>
                </a:cubicBezTo>
                <a:cubicBezTo>
                  <a:pt x="11744" y="10137"/>
                  <a:pt x="11954" y="10151"/>
                  <a:pt x="12055" y="10170"/>
                </a:cubicBezTo>
                <a:cubicBezTo>
                  <a:pt x="12145" y="10206"/>
                  <a:pt x="12150" y="10223"/>
                  <a:pt x="12204" y="10220"/>
                </a:cubicBezTo>
              </a:path>
              <a:path w="1291" h="1316">
                <a:moveTo>
                  <a:pt x="11658" y="10443"/>
                </a:moveTo>
                <a:cubicBezTo>
                  <a:pt x="11917" y="10610"/>
                  <a:pt x="12093" y="10573"/>
                  <a:pt x="12353" y="10393"/>
                </a:cubicBezTo>
                <a:cubicBezTo>
                  <a:pt x="12680" y="10167"/>
                  <a:pt x="12644" y="9830"/>
                  <a:pt x="12378" y="9550"/>
                </a:cubicBezTo>
                <a:cubicBezTo>
                  <a:pt x="12014" y="9166"/>
                  <a:pt x="11447" y="9349"/>
                  <a:pt x="11311" y="9847"/>
                </a:cubicBezTo>
                <a:cubicBezTo>
                  <a:pt x="11138" y="10479"/>
                  <a:pt x="11510" y="10638"/>
                  <a:pt x="11981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40200" y="4411800"/>
            <a:ext cx="187560" cy="411120"/>
          </a:xfrm>
          <a:custGeom>
            <a:avLst/>
            <a:gdLst/>
            <a:ahLst/>
            <a:rect l="l" t="t" r="r" b="b"/>
            <a:pathLst>
              <a:path w="522" h="1142">
                <a:moveTo>
                  <a:pt x="13469" y="12948"/>
                </a:moveTo>
                <a:cubicBezTo>
                  <a:pt x="13469" y="13056"/>
                  <a:pt x="13447" y="13161"/>
                  <a:pt x="13444" y="13271"/>
                </a:cubicBezTo>
                <a:cubicBezTo>
                  <a:pt x="13444" y="13345"/>
                  <a:pt x="13444" y="13403"/>
                  <a:pt x="13444" y="13345"/>
                </a:cubicBezTo>
              </a:path>
              <a:path w="522" h="1142">
                <a:moveTo>
                  <a:pt x="13618" y="12923"/>
                </a:moveTo>
                <a:cubicBezTo>
                  <a:pt x="13626" y="12915"/>
                  <a:pt x="13635" y="12906"/>
                  <a:pt x="13643" y="12898"/>
                </a:cubicBezTo>
                <a:cubicBezTo>
                  <a:pt x="13673" y="12914"/>
                  <a:pt x="13631" y="12967"/>
                  <a:pt x="13618" y="13022"/>
                </a:cubicBezTo>
                <a:cubicBezTo>
                  <a:pt x="13602" y="13093"/>
                  <a:pt x="13613" y="13189"/>
                  <a:pt x="13643" y="13246"/>
                </a:cubicBezTo>
                <a:cubicBezTo>
                  <a:pt x="13688" y="13331"/>
                  <a:pt x="13697" y="13309"/>
                  <a:pt x="13767" y="13345"/>
                </a:cubicBezTo>
                <a:cubicBezTo>
                  <a:pt x="13803" y="13363"/>
                  <a:pt x="13842" y="13353"/>
                  <a:pt x="13891" y="13320"/>
                </a:cubicBezTo>
                <a:cubicBezTo>
                  <a:pt x="13946" y="13283"/>
                  <a:pt x="13960" y="13233"/>
                  <a:pt x="13965" y="13171"/>
                </a:cubicBezTo>
                <a:cubicBezTo>
                  <a:pt x="13968" y="13129"/>
                  <a:pt x="13957" y="13111"/>
                  <a:pt x="13915" y="13097"/>
                </a:cubicBezTo>
                <a:cubicBezTo>
                  <a:pt x="13874" y="13083"/>
                  <a:pt x="13823" y="13167"/>
                  <a:pt x="13816" y="13196"/>
                </a:cubicBezTo>
                <a:cubicBezTo>
                  <a:pt x="13800" y="13264"/>
                  <a:pt x="13833" y="13331"/>
                  <a:pt x="13841" y="13395"/>
                </a:cubicBezTo>
              </a:path>
              <a:path w="522" h="1142">
                <a:moveTo>
                  <a:pt x="13543" y="12303"/>
                </a:moveTo>
                <a:cubicBezTo>
                  <a:pt x="13585" y="12317"/>
                  <a:pt x="13568" y="12351"/>
                  <a:pt x="13568" y="12402"/>
                </a:cubicBezTo>
                <a:cubicBezTo>
                  <a:pt x="13568" y="12410"/>
                  <a:pt x="13568" y="12419"/>
                  <a:pt x="13568" y="12427"/>
                </a:cubicBezTo>
                <a:cubicBezTo>
                  <a:pt x="13628" y="12417"/>
                  <a:pt x="13684" y="12389"/>
                  <a:pt x="13742" y="12378"/>
                </a:cubicBezTo>
              </a:path>
              <a:path w="522" h="1142">
                <a:moveTo>
                  <a:pt x="13742" y="12254"/>
                </a:moveTo>
                <a:cubicBezTo>
                  <a:pt x="13742" y="12367"/>
                  <a:pt x="13750" y="12465"/>
                  <a:pt x="13767" y="12576"/>
                </a:cubicBezTo>
                <a:cubicBezTo>
                  <a:pt x="13767" y="12601"/>
                  <a:pt x="13767" y="12609"/>
                  <a:pt x="13767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5120" y="3990960"/>
            <a:ext cx="54000" cy="17928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13543" y="11187"/>
                </a:moveTo>
                <a:cubicBezTo>
                  <a:pt x="13551" y="11187"/>
                  <a:pt x="13560" y="11187"/>
                  <a:pt x="13568" y="11187"/>
                </a:cubicBezTo>
                <a:cubicBezTo>
                  <a:pt x="13568" y="11210"/>
                  <a:pt x="13557" y="11313"/>
                  <a:pt x="13618" y="11286"/>
                </a:cubicBezTo>
                <a:cubicBezTo>
                  <a:pt x="13648" y="11256"/>
                  <a:pt x="13662" y="11245"/>
                  <a:pt x="13692" y="11237"/>
                </a:cubicBezTo>
              </a:path>
              <a:path w="150" h="497">
                <a:moveTo>
                  <a:pt x="13667" y="11088"/>
                </a:moveTo>
                <a:cubicBezTo>
                  <a:pt x="13618" y="11188"/>
                  <a:pt x="13664" y="11343"/>
                  <a:pt x="13667" y="11460"/>
                </a:cubicBezTo>
                <a:cubicBezTo>
                  <a:pt x="13667" y="11534"/>
                  <a:pt x="13667" y="11543"/>
                  <a:pt x="13667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59200" y="3606840"/>
            <a:ext cx="152640" cy="17136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3221" y="10170"/>
                </a:moveTo>
                <a:cubicBezTo>
                  <a:pt x="13221" y="10234"/>
                  <a:pt x="13221" y="10478"/>
                  <a:pt x="13221" y="10443"/>
                </a:cubicBezTo>
              </a:path>
              <a:path w="423" h="472">
                <a:moveTo>
                  <a:pt x="13320" y="10046"/>
                </a:moveTo>
                <a:cubicBezTo>
                  <a:pt x="13427" y="10153"/>
                  <a:pt x="13328" y="9952"/>
                  <a:pt x="13469" y="10021"/>
                </a:cubicBezTo>
                <a:cubicBezTo>
                  <a:pt x="13615" y="10092"/>
                  <a:pt x="13596" y="10390"/>
                  <a:pt x="13494" y="10492"/>
                </a:cubicBezTo>
                <a:cubicBezTo>
                  <a:pt x="13442" y="10492"/>
                  <a:pt x="13424" y="10491"/>
                  <a:pt x="13395" y="10468"/>
                </a:cubicBezTo>
                <a:cubicBezTo>
                  <a:pt x="13340" y="10340"/>
                  <a:pt x="13461" y="10338"/>
                  <a:pt x="13568" y="10368"/>
                </a:cubicBezTo>
                <a:cubicBezTo>
                  <a:pt x="13602" y="10378"/>
                  <a:pt x="13614" y="10428"/>
                  <a:pt x="13643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48120" y="4062240"/>
            <a:ext cx="19080" cy="430560"/>
          </a:xfrm>
          <a:custGeom>
            <a:avLst/>
            <a:gdLst/>
            <a:ahLst/>
            <a:rect l="l" t="t" r="r" b="b"/>
            <a:pathLst>
              <a:path w="51" h="1192">
                <a:moveTo>
                  <a:pt x="13519" y="12477"/>
                </a:moveTo>
                <a:cubicBezTo>
                  <a:pt x="13511" y="12477"/>
                  <a:pt x="13502" y="12477"/>
                  <a:pt x="13494" y="12477"/>
                </a:cubicBezTo>
              </a:path>
              <a:path w="51" h="1192">
                <a:moveTo>
                  <a:pt x="13494" y="11286"/>
                </a:moveTo>
                <a:cubicBezTo>
                  <a:pt x="13486" y="11286"/>
                  <a:pt x="13477" y="11286"/>
                  <a:pt x="1346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08960" y="4367160"/>
            <a:ext cx="125280" cy="27000"/>
          </a:xfrm>
          <a:custGeom>
            <a:avLst/>
            <a:gdLst/>
            <a:ahLst/>
            <a:rect l="l" t="t" r="r" b="b"/>
            <a:pathLst>
              <a:path w="348" h="76">
                <a:moveTo>
                  <a:pt x="21134" y="12204"/>
                </a:moveTo>
                <a:cubicBezTo>
                  <a:pt x="21251" y="12176"/>
                  <a:pt x="21364" y="12145"/>
                  <a:pt x="21481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46880" y="3946680"/>
            <a:ext cx="1992240" cy="804600"/>
          </a:xfrm>
          <a:custGeom>
            <a:avLst/>
            <a:gdLst/>
            <a:ahLst/>
            <a:rect l="l" t="t" r="r" b="b"/>
            <a:pathLst>
              <a:path w="5532" h="2233">
                <a:moveTo>
                  <a:pt x="18008" y="11038"/>
                </a:moveTo>
                <a:cubicBezTo>
                  <a:pt x="18077" y="11262"/>
                  <a:pt x="18058" y="11515"/>
                  <a:pt x="18058" y="11757"/>
                </a:cubicBezTo>
                <a:cubicBezTo>
                  <a:pt x="18058" y="11841"/>
                  <a:pt x="18064" y="11824"/>
                  <a:pt x="18083" y="11658"/>
                </a:cubicBezTo>
              </a:path>
              <a:path w="5532" h="2233">
                <a:moveTo>
                  <a:pt x="18430" y="10964"/>
                </a:moveTo>
                <a:cubicBezTo>
                  <a:pt x="18683" y="11095"/>
                  <a:pt x="18867" y="11297"/>
                  <a:pt x="18678" y="11609"/>
                </a:cubicBezTo>
                <a:cubicBezTo>
                  <a:pt x="18562" y="11801"/>
                  <a:pt x="18464" y="11748"/>
                  <a:pt x="18355" y="11658"/>
                </a:cubicBezTo>
                <a:cubicBezTo>
                  <a:pt x="18394" y="11581"/>
                  <a:pt x="18599" y="11463"/>
                  <a:pt x="18703" y="11609"/>
                </a:cubicBezTo>
                <a:cubicBezTo>
                  <a:pt x="18726" y="11724"/>
                  <a:pt x="18735" y="11756"/>
                  <a:pt x="18728" y="11832"/>
                </a:cubicBezTo>
              </a:path>
              <a:path w="5532" h="2233">
                <a:moveTo>
                  <a:pt x="17909" y="11981"/>
                </a:moveTo>
                <a:cubicBezTo>
                  <a:pt x="18161" y="11956"/>
                  <a:pt x="18408" y="11917"/>
                  <a:pt x="18653" y="11956"/>
                </a:cubicBezTo>
                <a:cubicBezTo>
                  <a:pt x="18661" y="11956"/>
                  <a:pt x="18670" y="11956"/>
                  <a:pt x="18678" y="11956"/>
                </a:cubicBezTo>
              </a:path>
              <a:path w="5532" h="2233">
                <a:moveTo>
                  <a:pt x="18157" y="12179"/>
                </a:moveTo>
                <a:cubicBezTo>
                  <a:pt x="18157" y="12063"/>
                  <a:pt x="18148" y="12362"/>
                  <a:pt x="18132" y="12477"/>
                </a:cubicBezTo>
                <a:cubicBezTo>
                  <a:pt x="18110" y="12644"/>
                  <a:pt x="18054" y="12779"/>
                  <a:pt x="18157" y="12502"/>
                </a:cubicBezTo>
              </a:path>
              <a:path w="5532" h="2233">
                <a:moveTo>
                  <a:pt x="18479" y="12105"/>
                </a:moveTo>
                <a:cubicBezTo>
                  <a:pt x="18479" y="12286"/>
                  <a:pt x="18420" y="12566"/>
                  <a:pt x="18529" y="12725"/>
                </a:cubicBezTo>
                <a:cubicBezTo>
                  <a:pt x="18554" y="12741"/>
                  <a:pt x="18579" y="12758"/>
                  <a:pt x="18604" y="12774"/>
                </a:cubicBezTo>
                <a:cubicBezTo>
                  <a:pt x="18792" y="12700"/>
                  <a:pt x="18827" y="12627"/>
                  <a:pt x="18827" y="12427"/>
                </a:cubicBezTo>
                <a:cubicBezTo>
                  <a:pt x="18737" y="12477"/>
                  <a:pt x="18617" y="12544"/>
                  <a:pt x="18653" y="12675"/>
                </a:cubicBezTo>
                <a:cubicBezTo>
                  <a:pt x="18661" y="12675"/>
                  <a:pt x="18670" y="12675"/>
                  <a:pt x="18678" y="12675"/>
                </a:cubicBezTo>
              </a:path>
              <a:path w="5532" h="2233">
                <a:moveTo>
                  <a:pt x="19224" y="12105"/>
                </a:moveTo>
                <a:cubicBezTo>
                  <a:pt x="19285" y="12074"/>
                  <a:pt x="19348" y="12080"/>
                  <a:pt x="19422" y="12080"/>
                </a:cubicBezTo>
              </a:path>
              <a:path w="5532" h="2233">
                <a:moveTo>
                  <a:pt x="19844" y="11410"/>
                </a:moveTo>
                <a:cubicBezTo>
                  <a:pt x="20000" y="11331"/>
                  <a:pt x="20146" y="11281"/>
                  <a:pt x="20315" y="11237"/>
                </a:cubicBezTo>
                <a:cubicBezTo>
                  <a:pt x="20315" y="11443"/>
                  <a:pt x="20301" y="11633"/>
                  <a:pt x="20241" y="11832"/>
                </a:cubicBezTo>
                <a:cubicBezTo>
                  <a:pt x="20221" y="11872"/>
                  <a:pt x="20202" y="11888"/>
                  <a:pt x="20241" y="11881"/>
                </a:cubicBezTo>
              </a:path>
              <a:path w="5532" h="2233">
                <a:moveTo>
                  <a:pt x="19893" y="12080"/>
                </a:moveTo>
                <a:cubicBezTo>
                  <a:pt x="20082" y="12004"/>
                  <a:pt x="20263" y="11970"/>
                  <a:pt x="20464" y="11931"/>
                </a:cubicBezTo>
                <a:cubicBezTo>
                  <a:pt x="20489" y="11931"/>
                  <a:pt x="20497" y="11931"/>
                  <a:pt x="20513" y="11931"/>
                </a:cubicBezTo>
              </a:path>
              <a:path w="5532" h="2233">
                <a:moveTo>
                  <a:pt x="20017" y="12278"/>
                </a:moveTo>
                <a:cubicBezTo>
                  <a:pt x="20006" y="12427"/>
                  <a:pt x="19983" y="12577"/>
                  <a:pt x="19968" y="12725"/>
                </a:cubicBezTo>
                <a:cubicBezTo>
                  <a:pt x="19968" y="12717"/>
                  <a:pt x="19968" y="12708"/>
                  <a:pt x="19968" y="12700"/>
                </a:cubicBezTo>
              </a:path>
              <a:path w="5532" h="2233">
                <a:moveTo>
                  <a:pt x="20365" y="12204"/>
                </a:moveTo>
                <a:cubicBezTo>
                  <a:pt x="20365" y="12396"/>
                  <a:pt x="20334" y="12613"/>
                  <a:pt x="20414" y="12774"/>
                </a:cubicBezTo>
                <a:cubicBezTo>
                  <a:pt x="20549" y="12761"/>
                  <a:pt x="20682" y="12707"/>
                  <a:pt x="20712" y="12551"/>
                </a:cubicBezTo>
                <a:cubicBezTo>
                  <a:pt x="20733" y="12443"/>
                  <a:pt x="20575" y="12543"/>
                  <a:pt x="20563" y="12576"/>
                </a:cubicBezTo>
                <a:cubicBezTo>
                  <a:pt x="20523" y="12685"/>
                  <a:pt x="20659" y="12588"/>
                  <a:pt x="20737" y="12502"/>
                </a:cubicBezTo>
              </a:path>
              <a:path w="5532" h="2233">
                <a:moveTo>
                  <a:pt x="21109" y="11931"/>
                </a:moveTo>
                <a:cubicBezTo>
                  <a:pt x="21190" y="11956"/>
                  <a:pt x="21349" y="11872"/>
                  <a:pt x="21357" y="11956"/>
                </a:cubicBezTo>
                <a:cubicBezTo>
                  <a:pt x="21349" y="11972"/>
                  <a:pt x="21340" y="11989"/>
                  <a:pt x="21332" y="12005"/>
                </a:cubicBezTo>
              </a:path>
              <a:path w="5532" h="2233">
                <a:moveTo>
                  <a:pt x="21853" y="12080"/>
                </a:moveTo>
                <a:cubicBezTo>
                  <a:pt x="22135" y="12070"/>
                  <a:pt x="22413" y="12055"/>
                  <a:pt x="22696" y="12055"/>
                </a:cubicBezTo>
                <a:cubicBezTo>
                  <a:pt x="22754" y="12055"/>
                  <a:pt x="22763" y="12055"/>
                  <a:pt x="22796" y="12055"/>
                </a:cubicBezTo>
              </a:path>
              <a:path w="5532" h="2233">
                <a:moveTo>
                  <a:pt x="22051" y="12278"/>
                </a:moveTo>
                <a:cubicBezTo>
                  <a:pt x="22051" y="12192"/>
                  <a:pt x="22023" y="12393"/>
                  <a:pt x="22002" y="12477"/>
                </a:cubicBezTo>
                <a:cubicBezTo>
                  <a:pt x="21969" y="12610"/>
                  <a:pt x="21952" y="12634"/>
                  <a:pt x="21952" y="12750"/>
                </a:cubicBezTo>
              </a:path>
              <a:path w="5532" h="2233">
                <a:moveTo>
                  <a:pt x="22349" y="12303"/>
                </a:moveTo>
                <a:cubicBezTo>
                  <a:pt x="22309" y="12403"/>
                  <a:pt x="22300" y="12498"/>
                  <a:pt x="22275" y="12601"/>
                </a:cubicBezTo>
                <a:cubicBezTo>
                  <a:pt x="22258" y="12668"/>
                  <a:pt x="22223" y="12727"/>
                  <a:pt x="22275" y="12750"/>
                </a:cubicBezTo>
                <a:cubicBezTo>
                  <a:pt x="22351" y="12784"/>
                  <a:pt x="22389" y="12799"/>
                  <a:pt x="22473" y="12799"/>
                </a:cubicBezTo>
                <a:cubicBezTo>
                  <a:pt x="22508" y="12799"/>
                  <a:pt x="22604" y="12777"/>
                  <a:pt x="22622" y="12750"/>
                </a:cubicBezTo>
                <a:cubicBezTo>
                  <a:pt x="22640" y="12723"/>
                  <a:pt x="22632" y="12677"/>
                  <a:pt x="22647" y="12650"/>
                </a:cubicBezTo>
                <a:cubicBezTo>
                  <a:pt x="22657" y="12632"/>
                  <a:pt x="22669" y="12600"/>
                  <a:pt x="22622" y="12576"/>
                </a:cubicBezTo>
                <a:cubicBezTo>
                  <a:pt x="22597" y="12564"/>
                  <a:pt x="22508" y="12570"/>
                  <a:pt x="22498" y="12601"/>
                </a:cubicBezTo>
                <a:cubicBezTo>
                  <a:pt x="22476" y="12672"/>
                  <a:pt x="22492" y="12698"/>
                  <a:pt x="22498" y="12774"/>
                </a:cubicBezTo>
                <a:cubicBezTo>
                  <a:pt x="22498" y="12782"/>
                  <a:pt x="22498" y="12791"/>
                  <a:pt x="22498" y="12799"/>
                </a:cubicBezTo>
              </a:path>
              <a:path w="5532" h="2233">
                <a:moveTo>
                  <a:pt x="22473" y="11336"/>
                </a:moveTo>
                <a:cubicBezTo>
                  <a:pt x="22368" y="11379"/>
                  <a:pt x="22213" y="11290"/>
                  <a:pt x="22151" y="11385"/>
                </a:cubicBezTo>
                <a:cubicBezTo>
                  <a:pt x="22117" y="11437"/>
                  <a:pt x="22153" y="11587"/>
                  <a:pt x="22175" y="11633"/>
                </a:cubicBezTo>
                <a:cubicBezTo>
                  <a:pt x="22271" y="11581"/>
                  <a:pt x="22359" y="11499"/>
                  <a:pt x="22473" y="11559"/>
                </a:cubicBezTo>
                <a:cubicBezTo>
                  <a:pt x="22628" y="11641"/>
                  <a:pt x="22523" y="11820"/>
                  <a:pt x="22423" y="11881"/>
                </a:cubicBezTo>
                <a:cubicBezTo>
                  <a:pt x="22288" y="11963"/>
                  <a:pt x="22202" y="11952"/>
                  <a:pt x="22076" y="11906"/>
                </a:cubicBezTo>
                <a:cubicBezTo>
                  <a:pt x="22037" y="11892"/>
                  <a:pt x="22026" y="11906"/>
                  <a:pt x="22076" y="11931"/>
                </a:cubicBezTo>
                <a:cubicBezTo>
                  <a:pt x="22091" y="11938"/>
                  <a:pt x="22134" y="11931"/>
                  <a:pt x="22151" y="11931"/>
                </a:cubicBezTo>
              </a:path>
              <a:path w="5532" h="2233">
                <a:moveTo>
                  <a:pt x="21803" y="13022"/>
                </a:moveTo>
                <a:cubicBezTo>
                  <a:pt x="21891" y="13036"/>
                  <a:pt x="22001" y="13066"/>
                  <a:pt x="22101" y="13072"/>
                </a:cubicBezTo>
                <a:cubicBezTo>
                  <a:pt x="22282" y="13083"/>
                  <a:pt x="22467" y="13121"/>
                  <a:pt x="22647" y="13072"/>
                </a:cubicBezTo>
                <a:cubicBezTo>
                  <a:pt x="22791" y="13033"/>
                  <a:pt x="22981" y="12979"/>
                  <a:pt x="23093" y="12874"/>
                </a:cubicBezTo>
                <a:cubicBezTo>
                  <a:pt x="23208" y="12766"/>
                  <a:pt x="23270" y="12592"/>
                  <a:pt x="23316" y="12452"/>
                </a:cubicBezTo>
                <a:cubicBezTo>
                  <a:pt x="23368" y="12292"/>
                  <a:pt x="23461" y="12130"/>
                  <a:pt x="23440" y="11956"/>
                </a:cubicBezTo>
                <a:cubicBezTo>
                  <a:pt x="23428" y="11858"/>
                  <a:pt x="23388" y="11752"/>
                  <a:pt x="23366" y="11658"/>
                </a:cubicBezTo>
                <a:cubicBezTo>
                  <a:pt x="23333" y="11518"/>
                  <a:pt x="23300" y="11447"/>
                  <a:pt x="23217" y="11336"/>
                </a:cubicBezTo>
                <a:cubicBezTo>
                  <a:pt x="23154" y="11251"/>
                  <a:pt x="23061" y="11169"/>
                  <a:pt x="22969" y="11112"/>
                </a:cubicBezTo>
                <a:cubicBezTo>
                  <a:pt x="22864" y="11047"/>
                  <a:pt x="22745" y="10993"/>
                  <a:pt x="22622" y="10988"/>
                </a:cubicBezTo>
                <a:cubicBezTo>
                  <a:pt x="22510" y="10984"/>
                  <a:pt x="22382" y="10973"/>
                  <a:pt x="22275" y="11013"/>
                </a:cubicBezTo>
                <a:cubicBezTo>
                  <a:pt x="22164" y="11054"/>
                  <a:pt x="22045" y="11110"/>
                  <a:pt x="21977" y="11212"/>
                </a:cubicBezTo>
                <a:cubicBezTo>
                  <a:pt x="21899" y="11330"/>
                  <a:pt x="21823" y="11460"/>
                  <a:pt x="21754" y="11584"/>
                </a:cubicBezTo>
                <a:cubicBezTo>
                  <a:pt x="21709" y="11664"/>
                  <a:pt x="21690" y="11749"/>
                  <a:pt x="21654" y="11832"/>
                </a:cubicBezTo>
                <a:cubicBezTo>
                  <a:pt x="21629" y="11890"/>
                  <a:pt x="21600" y="11948"/>
                  <a:pt x="21580" y="12005"/>
                </a:cubicBezTo>
                <a:cubicBezTo>
                  <a:pt x="21548" y="12096"/>
                  <a:pt x="21525" y="12164"/>
                  <a:pt x="21506" y="12254"/>
                </a:cubicBezTo>
                <a:cubicBezTo>
                  <a:pt x="21484" y="12357"/>
                  <a:pt x="21481" y="12446"/>
                  <a:pt x="21481" y="12551"/>
                </a:cubicBezTo>
                <a:cubicBezTo>
                  <a:pt x="21481" y="12630"/>
                  <a:pt x="21491" y="12686"/>
                  <a:pt x="21506" y="12750"/>
                </a:cubicBezTo>
                <a:cubicBezTo>
                  <a:pt x="21527" y="12842"/>
                  <a:pt x="21564" y="12855"/>
                  <a:pt x="21605" y="12923"/>
                </a:cubicBezTo>
                <a:cubicBezTo>
                  <a:pt x="21644" y="12987"/>
                  <a:pt x="21668" y="13052"/>
                  <a:pt x="21729" y="13097"/>
                </a:cubicBezTo>
                <a:cubicBezTo>
                  <a:pt x="21786" y="13140"/>
                  <a:pt x="21861" y="13149"/>
                  <a:pt x="21927" y="13171"/>
                </a:cubicBezTo>
                <a:cubicBezTo>
                  <a:pt x="21968" y="13185"/>
                  <a:pt x="22008" y="13189"/>
                  <a:pt x="22051" y="13196"/>
                </a:cubicBezTo>
                <a:cubicBezTo>
                  <a:pt x="22076" y="13196"/>
                  <a:pt x="22084" y="13196"/>
                  <a:pt x="22101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4367160"/>
            <a:ext cx="125280" cy="1800"/>
          </a:xfrm>
          <a:custGeom>
            <a:avLst/>
            <a:gdLst/>
            <a:ahLst/>
            <a:rect l="l" t="t" r="r" b="b"/>
            <a:pathLst>
              <a:path w="348" h="1">
                <a:moveTo>
                  <a:pt x="6003" y="12129"/>
                </a:moveTo>
                <a:cubicBezTo>
                  <a:pt x="6119" y="12129"/>
                  <a:pt x="6234" y="12129"/>
                  <a:pt x="6350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43080" y="4438800"/>
            <a:ext cx="169920" cy="9360"/>
          </a:xfrm>
          <a:custGeom>
            <a:avLst/>
            <a:gdLst/>
            <a:ahLst/>
            <a:rect l="l" t="t" r="r" b="b"/>
            <a:pathLst>
              <a:path w="472" h="26">
                <a:moveTo>
                  <a:pt x="5953" y="12328"/>
                </a:moveTo>
                <a:cubicBezTo>
                  <a:pt x="6098" y="12328"/>
                  <a:pt x="6232" y="12340"/>
                  <a:pt x="6375" y="12353"/>
                </a:cubicBezTo>
                <a:cubicBezTo>
                  <a:pt x="6391" y="12353"/>
                  <a:pt x="6408" y="12353"/>
                  <a:pt x="6424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90840" y="4419720"/>
            <a:ext cx="162000" cy="277560"/>
          </a:xfrm>
          <a:custGeom>
            <a:avLst/>
            <a:gdLst/>
            <a:ahLst/>
            <a:rect l="l" t="t" r="r" b="b"/>
            <a:pathLst>
              <a:path w="447" h="770">
                <a:moveTo>
                  <a:pt x="7367" y="12278"/>
                </a:moveTo>
                <a:cubicBezTo>
                  <a:pt x="7229" y="12301"/>
                  <a:pt x="7075" y="12384"/>
                  <a:pt x="6970" y="12477"/>
                </a:cubicBezTo>
                <a:cubicBezTo>
                  <a:pt x="6954" y="12502"/>
                  <a:pt x="6937" y="12526"/>
                  <a:pt x="6921" y="12551"/>
                </a:cubicBezTo>
                <a:cubicBezTo>
                  <a:pt x="7040" y="12636"/>
                  <a:pt x="7415" y="12719"/>
                  <a:pt x="7342" y="12923"/>
                </a:cubicBezTo>
                <a:cubicBezTo>
                  <a:pt x="7246" y="13019"/>
                  <a:pt x="7218" y="13051"/>
                  <a:pt x="7119" y="13047"/>
                </a:cubicBezTo>
                <a:cubicBezTo>
                  <a:pt x="7054" y="12854"/>
                  <a:pt x="7183" y="12790"/>
                  <a:pt x="7293" y="12626"/>
                </a:cubicBezTo>
                <a:cubicBezTo>
                  <a:pt x="7337" y="12536"/>
                  <a:pt x="7350" y="12513"/>
                  <a:pt x="7367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8920" y="4357800"/>
            <a:ext cx="339840" cy="17280"/>
          </a:xfrm>
          <a:custGeom>
            <a:avLst/>
            <a:gdLst/>
            <a:ahLst/>
            <a:rect l="l" t="t" r="r" b="b"/>
            <a:pathLst>
              <a:path w="943" h="50">
                <a:moveTo>
                  <a:pt x="6747" y="12105"/>
                </a:moveTo>
                <a:cubicBezTo>
                  <a:pt x="6973" y="12105"/>
                  <a:pt x="7192" y="12142"/>
                  <a:pt x="7417" y="12154"/>
                </a:cubicBezTo>
                <a:cubicBezTo>
                  <a:pt x="7506" y="12159"/>
                  <a:pt x="7599" y="12154"/>
                  <a:pt x="7689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63840" y="4081320"/>
            <a:ext cx="100080" cy="12564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6921" y="11361"/>
                </a:moveTo>
                <a:cubicBezTo>
                  <a:pt x="6989" y="11288"/>
                  <a:pt x="6852" y="11619"/>
                  <a:pt x="6846" y="11633"/>
                </a:cubicBezTo>
                <a:cubicBezTo>
                  <a:pt x="6846" y="11641"/>
                  <a:pt x="6846" y="11650"/>
                  <a:pt x="6846" y="11658"/>
                </a:cubicBezTo>
                <a:cubicBezTo>
                  <a:pt x="6932" y="11672"/>
                  <a:pt x="7003" y="11683"/>
                  <a:pt x="7094" y="11683"/>
                </a:cubicBezTo>
                <a:cubicBezTo>
                  <a:pt x="7102" y="11683"/>
                  <a:pt x="7111" y="11683"/>
                  <a:pt x="7119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920" y="4037040"/>
            <a:ext cx="54000" cy="320760"/>
          </a:xfrm>
          <a:custGeom>
            <a:avLst/>
            <a:gdLst/>
            <a:ahLst/>
            <a:rect l="l" t="t" r="r" b="b"/>
            <a:pathLst>
              <a:path w="150" h="894">
                <a:moveTo>
                  <a:pt x="7119" y="11212"/>
                </a:moveTo>
                <a:cubicBezTo>
                  <a:pt x="7039" y="11411"/>
                  <a:pt x="7049" y="11662"/>
                  <a:pt x="7020" y="11881"/>
                </a:cubicBezTo>
                <a:cubicBezTo>
                  <a:pt x="6999" y="12006"/>
                  <a:pt x="6998" y="12033"/>
                  <a:pt x="6970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43120" y="4170240"/>
            <a:ext cx="88920" cy="3672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7367" y="11683"/>
                </a:moveTo>
                <a:cubicBezTo>
                  <a:pt x="7367" y="11655"/>
                  <a:pt x="7477" y="11597"/>
                  <a:pt x="7565" y="11584"/>
                </a:cubicBezTo>
                <a:cubicBezTo>
                  <a:pt x="7573" y="11584"/>
                  <a:pt x="7582" y="11584"/>
                  <a:pt x="7590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whole numbers as fractions if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3920" y="25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76720" y="2639880"/>
                <a:ext cx="15872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71680" y="2303640"/>
            <a:ext cx="1322280" cy="1831680"/>
          </a:xfrm>
          <a:custGeom>
            <a:avLst/>
            <a:gdLst/>
            <a:ahLst/>
            <a:rect l="l" t="t" r="r" b="b"/>
            <a:pathLst>
              <a:path w="3672" h="5086">
                <a:moveTo>
                  <a:pt x="3522" y="9798"/>
                </a:moveTo>
                <a:cubicBezTo>
                  <a:pt x="3484" y="9875"/>
                  <a:pt x="3485" y="9890"/>
                  <a:pt x="3448" y="9922"/>
                </a:cubicBezTo>
                <a:cubicBezTo>
                  <a:pt x="3533" y="9721"/>
                  <a:pt x="3821" y="9528"/>
                  <a:pt x="3870" y="9947"/>
                </a:cubicBezTo>
                <a:cubicBezTo>
                  <a:pt x="3936" y="10512"/>
                  <a:pt x="3372" y="10785"/>
                  <a:pt x="2952" y="10939"/>
                </a:cubicBezTo>
                <a:cubicBezTo>
                  <a:pt x="2835" y="10649"/>
                  <a:pt x="2934" y="10436"/>
                  <a:pt x="3324" y="10517"/>
                </a:cubicBezTo>
                <a:cubicBezTo>
                  <a:pt x="3530" y="10560"/>
                  <a:pt x="3713" y="11096"/>
                  <a:pt x="3746" y="10889"/>
                </a:cubicBezTo>
                <a:cubicBezTo>
                  <a:pt x="3754" y="10848"/>
                  <a:pt x="3762" y="10806"/>
                  <a:pt x="3770" y="10765"/>
                </a:cubicBezTo>
              </a:path>
              <a:path w="3672" h="5086">
                <a:moveTo>
                  <a:pt x="4787" y="9351"/>
                </a:moveTo>
                <a:cubicBezTo>
                  <a:pt x="4842" y="9225"/>
                  <a:pt x="4852" y="9254"/>
                  <a:pt x="4961" y="9203"/>
                </a:cubicBezTo>
                <a:cubicBezTo>
                  <a:pt x="5091" y="9452"/>
                  <a:pt x="5099" y="9683"/>
                  <a:pt x="4762" y="9798"/>
                </a:cubicBezTo>
                <a:cubicBezTo>
                  <a:pt x="4713" y="9798"/>
                  <a:pt x="4663" y="9798"/>
                  <a:pt x="4614" y="9798"/>
                </a:cubicBezTo>
                <a:cubicBezTo>
                  <a:pt x="4627" y="9566"/>
                  <a:pt x="4762" y="9494"/>
                  <a:pt x="4986" y="9649"/>
                </a:cubicBezTo>
                <a:cubicBezTo>
                  <a:pt x="5090" y="9753"/>
                  <a:pt x="5115" y="9770"/>
                  <a:pt x="5159" y="9847"/>
                </a:cubicBezTo>
              </a:path>
              <a:path w="3672" h="5086">
                <a:moveTo>
                  <a:pt x="4465" y="10145"/>
                </a:moveTo>
                <a:cubicBezTo>
                  <a:pt x="4734" y="10097"/>
                  <a:pt x="4985" y="10071"/>
                  <a:pt x="5259" y="10071"/>
                </a:cubicBezTo>
              </a:path>
              <a:path w="3672" h="5086">
                <a:moveTo>
                  <a:pt x="5060" y="10269"/>
                </a:moveTo>
                <a:cubicBezTo>
                  <a:pt x="4963" y="10295"/>
                  <a:pt x="4798" y="10278"/>
                  <a:pt x="4787" y="10368"/>
                </a:cubicBezTo>
                <a:cubicBezTo>
                  <a:pt x="4776" y="10458"/>
                  <a:pt x="4768" y="10550"/>
                  <a:pt x="4762" y="10641"/>
                </a:cubicBezTo>
                <a:cubicBezTo>
                  <a:pt x="4870" y="10623"/>
                  <a:pt x="5009" y="10561"/>
                  <a:pt x="5085" y="10691"/>
                </a:cubicBezTo>
                <a:cubicBezTo>
                  <a:pt x="5243" y="10960"/>
                  <a:pt x="4784" y="10988"/>
                  <a:pt x="4663" y="10988"/>
                </a:cubicBezTo>
              </a:path>
              <a:path w="3672" h="5086">
                <a:moveTo>
                  <a:pt x="2034" y="7268"/>
                </a:moveTo>
                <a:cubicBezTo>
                  <a:pt x="2099" y="7252"/>
                  <a:pt x="2160" y="7208"/>
                  <a:pt x="2232" y="7193"/>
                </a:cubicBezTo>
                <a:cubicBezTo>
                  <a:pt x="2203" y="7263"/>
                  <a:pt x="2182" y="7308"/>
                  <a:pt x="2133" y="7367"/>
                </a:cubicBezTo>
                <a:cubicBezTo>
                  <a:pt x="2218" y="7367"/>
                  <a:pt x="2433" y="7373"/>
                  <a:pt x="2381" y="7516"/>
                </a:cubicBezTo>
                <a:cubicBezTo>
                  <a:pt x="2308" y="7717"/>
                  <a:pt x="2166" y="7714"/>
                  <a:pt x="2009" y="7714"/>
                </a:cubicBezTo>
              </a:path>
              <a:path w="3672" h="5086">
                <a:moveTo>
                  <a:pt x="1836" y="8136"/>
                </a:moveTo>
                <a:cubicBezTo>
                  <a:pt x="2211" y="8192"/>
                  <a:pt x="2708" y="8196"/>
                  <a:pt x="2753" y="7665"/>
                </a:cubicBezTo>
                <a:cubicBezTo>
                  <a:pt x="2679" y="7293"/>
                  <a:pt x="2654" y="7169"/>
                  <a:pt x="2480" y="6970"/>
                </a:cubicBezTo>
                <a:cubicBezTo>
                  <a:pt x="1969" y="6949"/>
                  <a:pt x="1393" y="7338"/>
                  <a:pt x="1588" y="8037"/>
                </a:cubicBezTo>
                <a:cubicBezTo>
                  <a:pt x="1654" y="8087"/>
                  <a:pt x="1720" y="8136"/>
                  <a:pt x="1786" y="8186"/>
                </a:cubicBezTo>
              </a:path>
              <a:path w="3672" h="5086">
                <a:moveTo>
                  <a:pt x="3175" y="7367"/>
                </a:moveTo>
                <a:cubicBezTo>
                  <a:pt x="3181" y="7411"/>
                  <a:pt x="3203" y="7539"/>
                  <a:pt x="3249" y="7565"/>
                </a:cubicBezTo>
                <a:cubicBezTo>
                  <a:pt x="3266" y="7565"/>
                  <a:pt x="3282" y="7565"/>
                  <a:pt x="3299" y="7565"/>
                </a:cubicBezTo>
                <a:cubicBezTo>
                  <a:pt x="3348" y="7505"/>
                  <a:pt x="3393" y="7386"/>
                  <a:pt x="3324" y="7317"/>
                </a:cubicBezTo>
                <a:cubicBezTo>
                  <a:pt x="3276" y="7269"/>
                  <a:pt x="3158" y="7350"/>
                  <a:pt x="3125" y="7367"/>
                </a:cubicBezTo>
                <a:cubicBezTo>
                  <a:pt x="3155" y="7322"/>
                  <a:pt x="3158" y="7258"/>
                  <a:pt x="3225" y="7243"/>
                </a:cubicBezTo>
                <a:cubicBezTo>
                  <a:pt x="3305" y="7225"/>
                  <a:pt x="3346" y="7242"/>
                  <a:pt x="3398" y="7293"/>
                </a:cubicBezTo>
                <a:cubicBezTo>
                  <a:pt x="3406" y="7301"/>
                  <a:pt x="3415" y="7309"/>
                  <a:pt x="3423" y="7317"/>
                </a:cubicBezTo>
                <a:cubicBezTo>
                  <a:pt x="3378" y="7274"/>
                  <a:pt x="3392" y="7253"/>
                  <a:pt x="3373" y="7193"/>
                </a:cubicBezTo>
                <a:cubicBezTo>
                  <a:pt x="3354" y="7132"/>
                  <a:pt x="3341" y="7065"/>
                  <a:pt x="3398" y="7045"/>
                </a:cubicBezTo>
                <a:cubicBezTo>
                  <a:pt x="3467" y="7021"/>
                  <a:pt x="3529" y="7133"/>
                  <a:pt x="3572" y="7169"/>
                </a:cubicBezTo>
                <a:cubicBezTo>
                  <a:pt x="3611" y="7201"/>
                  <a:pt x="3677" y="7176"/>
                  <a:pt x="3721" y="7094"/>
                </a:cubicBezTo>
                <a:cubicBezTo>
                  <a:pt x="3766" y="7011"/>
                  <a:pt x="3761" y="6856"/>
                  <a:pt x="3721" y="6772"/>
                </a:cubicBezTo>
                <a:cubicBezTo>
                  <a:pt x="3698" y="6749"/>
                  <a:pt x="3694" y="6741"/>
                  <a:pt x="3671" y="6747"/>
                </a:cubicBezTo>
                <a:cubicBezTo>
                  <a:pt x="3671" y="6812"/>
                  <a:pt x="3639" y="6939"/>
                  <a:pt x="3721" y="6970"/>
                </a:cubicBezTo>
                <a:cubicBezTo>
                  <a:pt x="3806" y="7002"/>
                  <a:pt x="3892" y="6914"/>
                  <a:pt x="3919" y="6846"/>
                </a:cubicBezTo>
                <a:cubicBezTo>
                  <a:pt x="3943" y="6786"/>
                  <a:pt x="3897" y="6686"/>
                  <a:pt x="3894" y="6623"/>
                </a:cubicBezTo>
                <a:cubicBezTo>
                  <a:pt x="3894" y="6598"/>
                  <a:pt x="3894" y="6590"/>
                  <a:pt x="3894" y="6573"/>
                </a:cubicBezTo>
                <a:cubicBezTo>
                  <a:pt x="3985" y="6601"/>
                  <a:pt x="4021" y="6589"/>
                  <a:pt x="4043" y="6697"/>
                </a:cubicBezTo>
                <a:cubicBezTo>
                  <a:pt x="4049" y="6728"/>
                  <a:pt x="4013" y="6792"/>
                  <a:pt x="3994" y="6821"/>
                </a:cubicBezTo>
                <a:cubicBezTo>
                  <a:pt x="3994" y="6813"/>
                  <a:pt x="3994" y="6804"/>
                  <a:pt x="3994" y="6796"/>
                </a:cubicBezTo>
                <a:cubicBezTo>
                  <a:pt x="4002" y="6703"/>
                  <a:pt x="4028" y="6620"/>
                  <a:pt x="4018" y="6524"/>
                </a:cubicBezTo>
                <a:cubicBezTo>
                  <a:pt x="4002" y="6371"/>
                  <a:pt x="3997" y="6449"/>
                  <a:pt x="3969" y="6400"/>
                </a:cubicBezTo>
              </a:path>
              <a:path w="3672" h="5086">
                <a:moveTo>
                  <a:pt x="4118" y="9550"/>
                </a:moveTo>
                <a:cubicBezTo>
                  <a:pt x="4081" y="9577"/>
                  <a:pt x="4068" y="9583"/>
                  <a:pt x="4043" y="9624"/>
                </a:cubicBezTo>
                <a:cubicBezTo>
                  <a:pt x="4027" y="9651"/>
                  <a:pt x="4011" y="9701"/>
                  <a:pt x="3994" y="9723"/>
                </a:cubicBezTo>
                <a:cubicBezTo>
                  <a:pt x="3976" y="9746"/>
                  <a:pt x="3962" y="9794"/>
                  <a:pt x="3944" y="9823"/>
                </a:cubicBezTo>
                <a:cubicBezTo>
                  <a:pt x="3934" y="9839"/>
                  <a:pt x="3876" y="9911"/>
                  <a:pt x="3870" y="9922"/>
                </a:cubicBezTo>
                <a:cubicBezTo>
                  <a:pt x="3848" y="9966"/>
                  <a:pt x="3839" y="10007"/>
                  <a:pt x="3820" y="10046"/>
                </a:cubicBezTo>
                <a:cubicBezTo>
                  <a:pt x="3794" y="10100"/>
                  <a:pt x="3776" y="10088"/>
                  <a:pt x="3746" y="10145"/>
                </a:cubicBezTo>
                <a:cubicBezTo>
                  <a:pt x="3714" y="10206"/>
                  <a:pt x="3678" y="10259"/>
                  <a:pt x="3646" y="10319"/>
                </a:cubicBezTo>
                <a:cubicBezTo>
                  <a:pt x="3621" y="10365"/>
                  <a:pt x="3602" y="10405"/>
                  <a:pt x="3572" y="10443"/>
                </a:cubicBezTo>
                <a:cubicBezTo>
                  <a:pt x="3527" y="10499"/>
                  <a:pt x="3493" y="10560"/>
                  <a:pt x="3448" y="10616"/>
                </a:cubicBezTo>
                <a:cubicBezTo>
                  <a:pt x="3396" y="10680"/>
                  <a:pt x="3351" y="10753"/>
                  <a:pt x="3299" y="10815"/>
                </a:cubicBezTo>
                <a:cubicBezTo>
                  <a:pt x="3234" y="10892"/>
                  <a:pt x="3182" y="10979"/>
                  <a:pt x="3125" y="11063"/>
                </a:cubicBezTo>
                <a:cubicBezTo>
                  <a:pt x="3066" y="11151"/>
                  <a:pt x="3020" y="11224"/>
                  <a:pt x="2977" y="11311"/>
                </a:cubicBezTo>
                <a:cubicBezTo>
                  <a:pt x="2949" y="11367"/>
                  <a:pt x="2931" y="11412"/>
                  <a:pt x="2902" y="11460"/>
                </a:cubicBezTo>
                <a:cubicBezTo>
                  <a:pt x="2894" y="11468"/>
                  <a:pt x="2885" y="11477"/>
                  <a:pt x="2877" y="11485"/>
                </a:cubicBezTo>
              </a:path>
              <a:path w="3672" h="5086">
                <a:moveTo>
                  <a:pt x="3448" y="8632"/>
                </a:moveTo>
                <a:cubicBezTo>
                  <a:pt x="3448" y="8564"/>
                  <a:pt x="3461" y="8714"/>
                  <a:pt x="3473" y="8781"/>
                </a:cubicBezTo>
                <a:cubicBezTo>
                  <a:pt x="3499" y="8931"/>
                  <a:pt x="3497" y="9074"/>
                  <a:pt x="3497" y="9227"/>
                </a:cubicBezTo>
                <a:cubicBezTo>
                  <a:pt x="3497" y="9307"/>
                  <a:pt x="3485" y="9374"/>
                  <a:pt x="3473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205080"/>
            <a:ext cx="2813040" cy="2340000"/>
          </a:xfrm>
          <a:custGeom>
            <a:avLst/>
            <a:gdLst/>
            <a:ahLst/>
            <a:rect l="l" t="t" r="r" b="b"/>
            <a:pathLst>
              <a:path w="7814" h="6500">
                <a:moveTo>
                  <a:pt x="2059" y="12576"/>
                </a:moveTo>
                <a:cubicBezTo>
                  <a:pt x="2147" y="12509"/>
                  <a:pt x="2321" y="12551"/>
                  <a:pt x="2431" y="12551"/>
                </a:cubicBezTo>
                <a:cubicBezTo>
                  <a:pt x="2472" y="12551"/>
                  <a:pt x="2480" y="12551"/>
                  <a:pt x="2505" y="12551"/>
                </a:cubicBezTo>
              </a:path>
              <a:path w="7814" h="6500">
                <a:moveTo>
                  <a:pt x="3473" y="12353"/>
                </a:moveTo>
                <a:cubicBezTo>
                  <a:pt x="3473" y="12653"/>
                  <a:pt x="3433" y="12927"/>
                  <a:pt x="3398" y="13221"/>
                </a:cubicBezTo>
                <a:cubicBezTo>
                  <a:pt x="3398" y="13254"/>
                  <a:pt x="3398" y="13287"/>
                  <a:pt x="3398" y="13320"/>
                </a:cubicBezTo>
              </a:path>
              <a:path w="7814" h="6500">
                <a:moveTo>
                  <a:pt x="4837" y="11757"/>
                </a:moveTo>
                <a:cubicBezTo>
                  <a:pt x="4926" y="11770"/>
                  <a:pt x="4993" y="11765"/>
                  <a:pt x="5085" y="11757"/>
                </a:cubicBezTo>
                <a:cubicBezTo>
                  <a:pt x="5060" y="11881"/>
                  <a:pt x="4942" y="11986"/>
                  <a:pt x="4887" y="12105"/>
                </a:cubicBezTo>
                <a:cubicBezTo>
                  <a:pt x="4887" y="12113"/>
                  <a:pt x="4887" y="12121"/>
                  <a:pt x="4887" y="12129"/>
                </a:cubicBezTo>
              </a:path>
              <a:path w="7814" h="6500">
                <a:moveTo>
                  <a:pt x="4415" y="12477"/>
                </a:moveTo>
                <a:cubicBezTo>
                  <a:pt x="4721" y="12443"/>
                  <a:pt x="5026" y="12413"/>
                  <a:pt x="5333" y="12402"/>
                </a:cubicBezTo>
              </a:path>
              <a:path w="7814" h="6500">
                <a:moveTo>
                  <a:pt x="4688" y="12750"/>
                </a:moveTo>
                <a:cubicBezTo>
                  <a:pt x="4658" y="12845"/>
                  <a:pt x="4485" y="13167"/>
                  <a:pt x="4514" y="13246"/>
                </a:cubicBezTo>
                <a:cubicBezTo>
                  <a:pt x="4531" y="13238"/>
                  <a:pt x="4547" y="13229"/>
                  <a:pt x="4564" y="13221"/>
                </a:cubicBezTo>
              </a:path>
              <a:path w="7814" h="6500">
                <a:moveTo>
                  <a:pt x="5060" y="12874"/>
                </a:moveTo>
                <a:cubicBezTo>
                  <a:pt x="4987" y="12978"/>
                  <a:pt x="4936" y="13034"/>
                  <a:pt x="4936" y="13146"/>
                </a:cubicBezTo>
                <a:cubicBezTo>
                  <a:pt x="5021" y="13129"/>
                  <a:pt x="5345" y="13037"/>
                  <a:pt x="5159" y="12898"/>
                </a:cubicBezTo>
                <a:cubicBezTo>
                  <a:pt x="5085" y="12880"/>
                  <a:pt x="5078" y="12872"/>
                  <a:pt x="5035" y="12874"/>
                </a:cubicBezTo>
              </a:path>
              <a:path w="7814" h="6500">
                <a:moveTo>
                  <a:pt x="2133" y="13618"/>
                </a:moveTo>
                <a:cubicBezTo>
                  <a:pt x="2976" y="13618"/>
                  <a:pt x="3821" y="13651"/>
                  <a:pt x="4663" y="13643"/>
                </a:cubicBezTo>
                <a:cubicBezTo>
                  <a:pt x="5031" y="13640"/>
                  <a:pt x="5413" y="13561"/>
                  <a:pt x="5779" y="13568"/>
                </a:cubicBezTo>
                <a:cubicBezTo>
                  <a:pt x="5804" y="13568"/>
                  <a:pt x="5804" y="13590"/>
                  <a:pt x="5829" y="13593"/>
                </a:cubicBezTo>
              </a:path>
              <a:path w="7814" h="6500">
                <a:moveTo>
                  <a:pt x="6375" y="10294"/>
                </a:moveTo>
                <a:cubicBezTo>
                  <a:pt x="6413" y="10460"/>
                  <a:pt x="6400" y="10640"/>
                  <a:pt x="6400" y="10815"/>
                </a:cubicBezTo>
                <a:cubicBezTo>
                  <a:pt x="6400" y="10856"/>
                  <a:pt x="6392" y="10872"/>
                  <a:pt x="6424" y="10864"/>
                </a:cubicBezTo>
              </a:path>
              <a:path w="7814" h="6500">
                <a:moveTo>
                  <a:pt x="6821" y="10344"/>
                </a:moveTo>
                <a:cubicBezTo>
                  <a:pt x="6771" y="10377"/>
                  <a:pt x="6699" y="10527"/>
                  <a:pt x="6697" y="10616"/>
                </a:cubicBezTo>
                <a:cubicBezTo>
                  <a:pt x="6718" y="10700"/>
                  <a:pt x="6719" y="10720"/>
                  <a:pt x="6747" y="10765"/>
                </a:cubicBezTo>
                <a:cubicBezTo>
                  <a:pt x="6918" y="10752"/>
                  <a:pt x="6986" y="10711"/>
                  <a:pt x="6970" y="10517"/>
                </a:cubicBezTo>
                <a:cubicBezTo>
                  <a:pt x="6963" y="10429"/>
                  <a:pt x="6938" y="10353"/>
                  <a:pt x="6846" y="10344"/>
                </a:cubicBezTo>
                <a:cubicBezTo>
                  <a:pt x="6838" y="10344"/>
                  <a:pt x="6829" y="10344"/>
                  <a:pt x="6821" y="10344"/>
                </a:cubicBezTo>
              </a:path>
              <a:path w="7814" h="6500">
                <a:moveTo>
                  <a:pt x="5482" y="10096"/>
                </a:moveTo>
                <a:cubicBezTo>
                  <a:pt x="5446" y="10096"/>
                  <a:pt x="5471" y="10104"/>
                  <a:pt x="5482" y="10071"/>
                </a:cubicBezTo>
              </a:path>
              <a:path w="7814" h="6500">
                <a:moveTo>
                  <a:pt x="6325" y="10046"/>
                </a:moveTo>
                <a:cubicBezTo>
                  <a:pt x="6563" y="10003"/>
                  <a:pt x="6825" y="9916"/>
                  <a:pt x="7069" y="9947"/>
                </a:cubicBezTo>
                <a:cubicBezTo>
                  <a:pt x="7077" y="9955"/>
                  <a:pt x="7086" y="9963"/>
                  <a:pt x="7094" y="9971"/>
                </a:cubicBezTo>
              </a:path>
              <a:path w="7814" h="6500">
                <a:moveTo>
                  <a:pt x="5829" y="10120"/>
                </a:moveTo>
                <a:cubicBezTo>
                  <a:pt x="5874" y="10033"/>
                  <a:pt x="5991" y="10076"/>
                  <a:pt x="5978" y="10195"/>
                </a:cubicBezTo>
                <a:cubicBezTo>
                  <a:pt x="5960" y="10360"/>
                  <a:pt x="5860" y="10368"/>
                  <a:pt x="5730" y="10368"/>
                </a:cubicBezTo>
                <a:cubicBezTo>
                  <a:pt x="5741" y="10292"/>
                  <a:pt x="5812" y="10231"/>
                  <a:pt x="5904" y="10269"/>
                </a:cubicBezTo>
                <a:cubicBezTo>
                  <a:pt x="5950" y="10315"/>
                  <a:pt x="5964" y="10328"/>
                  <a:pt x="5978" y="10368"/>
                </a:cubicBezTo>
              </a:path>
              <a:path w="7814" h="6500">
                <a:moveTo>
                  <a:pt x="5755" y="9947"/>
                </a:moveTo>
                <a:cubicBezTo>
                  <a:pt x="5837" y="9947"/>
                  <a:pt x="5903" y="9934"/>
                  <a:pt x="5978" y="9922"/>
                </a:cubicBezTo>
                <a:cubicBezTo>
                  <a:pt x="6019" y="9922"/>
                  <a:pt x="6027" y="9922"/>
                  <a:pt x="6052" y="9922"/>
                </a:cubicBezTo>
              </a:path>
              <a:path w="7814" h="6500">
                <a:moveTo>
                  <a:pt x="5829" y="9475"/>
                </a:moveTo>
                <a:cubicBezTo>
                  <a:pt x="5793" y="9464"/>
                  <a:pt x="5793" y="9462"/>
                  <a:pt x="5829" y="9451"/>
                </a:cubicBezTo>
                <a:cubicBezTo>
                  <a:pt x="5863" y="9350"/>
                  <a:pt x="5913" y="9561"/>
                  <a:pt x="5904" y="9599"/>
                </a:cubicBezTo>
                <a:cubicBezTo>
                  <a:pt x="5874" y="9729"/>
                  <a:pt x="5772" y="9761"/>
                  <a:pt x="5680" y="9823"/>
                </a:cubicBezTo>
                <a:cubicBezTo>
                  <a:pt x="5690" y="9736"/>
                  <a:pt x="5706" y="9710"/>
                  <a:pt x="5804" y="9748"/>
                </a:cubicBezTo>
                <a:cubicBezTo>
                  <a:pt x="5858" y="9775"/>
                  <a:pt x="5879" y="9787"/>
                  <a:pt x="5904" y="9823"/>
                </a:cubicBezTo>
              </a:path>
              <a:path w="7814" h="6500">
                <a:moveTo>
                  <a:pt x="6474" y="9327"/>
                </a:moveTo>
                <a:cubicBezTo>
                  <a:pt x="6474" y="9420"/>
                  <a:pt x="6455" y="9507"/>
                  <a:pt x="6449" y="9599"/>
                </a:cubicBezTo>
                <a:cubicBezTo>
                  <a:pt x="6449" y="9607"/>
                  <a:pt x="6449" y="9616"/>
                  <a:pt x="6449" y="9624"/>
                </a:cubicBezTo>
                <a:cubicBezTo>
                  <a:pt x="6567" y="9624"/>
                  <a:pt x="6682" y="9629"/>
                  <a:pt x="6796" y="9599"/>
                </a:cubicBezTo>
                <a:cubicBezTo>
                  <a:pt x="6821" y="9591"/>
                  <a:pt x="6846" y="9583"/>
                  <a:pt x="6871" y="9575"/>
                </a:cubicBezTo>
              </a:path>
              <a:path w="7814" h="6500">
                <a:moveTo>
                  <a:pt x="6871" y="9128"/>
                </a:moveTo>
                <a:cubicBezTo>
                  <a:pt x="6792" y="9154"/>
                  <a:pt x="6869" y="9478"/>
                  <a:pt x="6871" y="9525"/>
                </a:cubicBezTo>
                <a:cubicBezTo>
                  <a:pt x="6873" y="9575"/>
                  <a:pt x="6847" y="9898"/>
                  <a:pt x="6896" y="9947"/>
                </a:cubicBezTo>
                <a:cubicBezTo>
                  <a:pt x="6904" y="9947"/>
                  <a:pt x="6913" y="9947"/>
                  <a:pt x="6921" y="9947"/>
                </a:cubicBezTo>
              </a:path>
              <a:path w="7814" h="6500">
                <a:moveTo>
                  <a:pt x="4564" y="9128"/>
                </a:moveTo>
                <a:cubicBezTo>
                  <a:pt x="4640" y="9138"/>
                  <a:pt x="4692" y="9169"/>
                  <a:pt x="4762" y="9203"/>
                </a:cubicBezTo>
                <a:cubicBezTo>
                  <a:pt x="4856" y="9249"/>
                  <a:pt x="4928" y="9314"/>
                  <a:pt x="5011" y="9376"/>
                </a:cubicBezTo>
                <a:cubicBezTo>
                  <a:pt x="5095" y="9438"/>
                  <a:pt x="5173" y="9517"/>
                  <a:pt x="5259" y="9575"/>
                </a:cubicBezTo>
                <a:cubicBezTo>
                  <a:pt x="5312" y="9611"/>
                  <a:pt x="5367" y="9669"/>
                  <a:pt x="5407" y="9723"/>
                </a:cubicBezTo>
                <a:cubicBezTo>
                  <a:pt x="5455" y="9787"/>
                  <a:pt x="5500" y="9841"/>
                  <a:pt x="5556" y="9897"/>
                </a:cubicBezTo>
                <a:cubicBezTo>
                  <a:pt x="5607" y="9949"/>
                  <a:pt x="5642" y="10011"/>
                  <a:pt x="5680" y="10071"/>
                </a:cubicBezTo>
                <a:cubicBezTo>
                  <a:pt x="5709" y="10117"/>
                  <a:pt x="5736" y="10131"/>
                  <a:pt x="5779" y="10170"/>
                </a:cubicBezTo>
                <a:cubicBezTo>
                  <a:pt x="5823" y="10210"/>
                  <a:pt x="5852" y="10221"/>
                  <a:pt x="5904" y="10244"/>
                </a:cubicBezTo>
              </a:path>
              <a:path w="7814" h="6500">
                <a:moveTo>
                  <a:pt x="6028" y="9178"/>
                </a:moveTo>
                <a:cubicBezTo>
                  <a:pt x="5999" y="9239"/>
                  <a:pt x="5974" y="9290"/>
                  <a:pt x="5928" y="9351"/>
                </a:cubicBezTo>
                <a:cubicBezTo>
                  <a:pt x="5875" y="9422"/>
                  <a:pt x="5817" y="9541"/>
                  <a:pt x="5755" y="9599"/>
                </a:cubicBezTo>
                <a:cubicBezTo>
                  <a:pt x="5687" y="9662"/>
                  <a:pt x="5648" y="9745"/>
                  <a:pt x="5581" y="9823"/>
                </a:cubicBezTo>
                <a:cubicBezTo>
                  <a:pt x="5498" y="9918"/>
                  <a:pt x="5418" y="10003"/>
                  <a:pt x="5333" y="10096"/>
                </a:cubicBezTo>
                <a:cubicBezTo>
                  <a:pt x="5267" y="10168"/>
                  <a:pt x="5226" y="10236"/>
                  <a:pt x="5184" y="10319"/>
                </a:cubicBezTo>
                <a:cubicBezTo>
                  <a:pt x="5148" y="10390"/>
                  <a:pt x="5081" y="10443"/>
                  <a:pt x="5035" y="10517"/>
                </a:cubicBezTo>
                <a:cubicBezTo>
                  <a:pt x="4978" y="10609"/>
                  <a:pt x="4915" y="10696"/>
                  <a:pt x="4862" y="10790"/>
                </a:cubicBezTo>
                <a:cubicBezTo>
                  <a:pt x="4829" y="10848"/>
                  <a:pt x="4816" y="10903"/>
                  <a:pt x="4787" y="10964"/>
                </a:cubicBezTo>
                <a:cubicBezTo>
                  <a:pt x="4766" y="11008"/>
                  <a:pt x="4756" y="11049"/>
                  <a:pt x="4738" y="11088"/>
                </a:cubicBezTo>
                <a:cubicBezTo>
                  <a:pt x="4725" y="11115"/>
                  <a:pt x="4697" y="11159"/>
                  <a:pt x="4688" y="11187"/>
                </a:cubicBezTo>
                <a:cubicBezTo>
                  <a:pt x="4688" y="11195"/>
                  <a:pt x="4688" y="11204"/>
                  <a:pt x="4688" y="11212"/>
                </a:cubicBezTo>
              </a:path>
              <a:path w="7814" h="6500">
                <a:moveTo>
                  <a:pt x="4564" y="14585"/>
                </a:moveTo>
                <a:cubicBezTo>
                  <a:pt x="4664" y="14605"/>
                  <a:pt x="4753" y="14610"/>
                  <a:pt x="4862" y="14610"/>
                </a:cubicBezTo>
                <a:cubicBezTo>
                  <a:pt x="5009" y="14610"/>
                  <a:pt x="5217" y="14600"/>
                  <a:pt x="5358" y="14635"/>
                </a:cubicBezTo>
                <a:cubicBezTo>
                  <a:pt x="5394" y="14644"/>
                  <a:pt x="5388" y="14660"/>
                  <a:pt x="5432" y="14660"/>
                </a:cubicBezTo>
              </a:path>
              <a:path w="7814" h="6500">
                <a:moveTo>
                  <a:pt x="4837" y="14858"/>
                </a:moveTo>
                <a:cubicBezTo>
                  <a:pt x="4814" y="14997"/>
                  <a:pt x="4769" y="15141"/>
                  <a:pt x="4738" y="15280"/>
                </a:cubicBezTo>
                <a:cubicBezTo>
                  <a:pt x="4719" y="15354"/>
                  <a:pt x="4711" y="15361"/>
                  <a:pt x="4713" y="15404"/>
                </a:cubicBezTo>
              </a:path>
              <a:path w="7814" h="6500">
                <a:moveTo>
                  <a:pt x="5085" y="15007"/>
                </a:moveTo>
                <a:cubicBezTo>
                  <a:pt x="5061" y="14959"/>
                  <a:pt x="5031" y="15066"/>
                  <a:pt x="5011" y="15106"/>
                </a:cubicBezTo>
                <a:cubicBezTo>
                  <a:pt x="4984" y="15161"/>
                  <a:pt x="4927" y="15330"/>
                  <a:pt x="4986" y="15379"/>
                </a:cubicBezTo>
                <a:cubicBezTo>
                  <a:pt x="5041" y="15425"/>
                  <a:pt x="5138" y="15377"/>
                  <a:pt x="5184" y="15329"/>
                </a:cubicBezTo>
                <a:cubicBezTo>
                  <a:pt x="5247" y="15262"/>
                  <a:pt x="5244" y="15179"/>
                  <a:pt x="5234" y="15106"/>
                </a:cubicBezTo>
                <a:cubicBezTo>
                  <a:pt x="5224" y="15037"/>
                  <a:pt x="5170" y="15012"/>
                  <a:pt x="5110" y="15007"/>
                </a:cubicBezTo>
                <a:cubicBezTo>
                  <a:pt x="5085" y="15007"/>
                  <a:pt x="5077" y="15007"/>
                  <a:pt x="5060" y="15007"/>
                </a:cubicBezTo>
              </a:path>
              <a:path w="7814" h="6500">
                <a:moveTo>
                  <a:pt x="7466" y="9922"/>
                </a:moveTo>
                <a:cubicBezTo>
                  <a:pt x="7466" y="9809"/>
                  <a:pt x="7478" y="9866"/>
                  <a:pt x="7466" y="9947"/>
                </a:cubicBezTo>
                <a:cubicBezTo>
                  <a:pt x="7453" y="10038"/>
                  <a:pt x="7441" y="10312"/>
                  <a:pt x="7441" y="10220"/>
                </a:cubicBezTo>
                <a:cubicBezTo>
                  <a:pt x="7441" y="10212"/>
                  <a:pt x="7441" y="10203"/>
                  <a:pt x="7441" y="10195"/>
                </a:cubicBezTo>
              </a:path>
              <a:path w="7814" h="6500">
                <a:moveTo>
                  <a:pt x="7317" y="10071"/>
                </a:moveTo>
                <a:cubicBezTo>
                  <a:pt x="7257" y="10071"/>
                  <a:pt x="7411" y="10032"/>
                  <a:pt x="7441" y="10021"/>
                </a:cubicBezTo>
                <a:cubicBezTo>
                  <a:pt x="7497" y="10000"/>
                  <a:pt x="7531" y="9996"/>
                  <a:pt x="7590" y="9996"/>
                </a:cubicBezTo>
                <a:cubicBezTo>
                  <a:pt x="7618" y="9996"/>
                  <a:pt x="7629" y="9994"/>
                  <a:pt x="7640" y="9971"/>
                </a:cubicBezTo>
              </a:path>
              <a:path w="7814" h="6500">
                <a:moveTo>
                  <a:pt x="7813" y="9227"/>
                </a:moveTo>
                <a:cubicBezTo>
                  <a:pt x="7837" y="9306"/>
                  <a:pt x="7826" y="9386"/>
                  <a:pt x="7838" y="9475"/>
                </a:cubicBezTo>
                <a:cubicBezTo>
                  <a:pt x="7858" y="9622"/>
                  <a:pt x="7888" y="9747"/>
                  <a:pt x="7888" y="9897"/>
                </a:cubicBezTo>
                <a:cubicBezTo>
                  <a:pt x="7888" y="10025"/>
                  <a:pt x="7867" y="10142"/>
                  <a:pt x="7863" y="10269"/>
                </a:cubicBezTo>
                <a:cubicBezTo>
                  <a:pt x="7860" y="10367"/>
                  <a:pt x="7848" y="10386"/>
                  <a:pt x="7838" y="10468"/>
                </a:cubicBezTo>
                <a:cubicBezTo>
                  <a:pt x="7922" y="10429"/>
                  <a:pt x="7997" y="10417"/>
                  <a:pt x="8086" y="10393"/>
                </a:cubicBezTo>
                <a:cubicBezTo>
                  <a:pt x="8163" y="10372"/>
                  <a:pt x="8243" y="10393"/>
                  <a:pt x="8334" y="10393"/>
                </a:cubicBezTo>
                <a:cubicBezTo>
                  <a:pt x="8394" y="10393"/>
                  <a:pt x="8509" y="10423"/>
                  <a:pt x="8558" y="10418"/>
                </a:cubicBezTo>
                <a:cubicBezTo>
                  <a:pt x="8586" y="10418"/>
                  <a:pt x="8596" y="10415"/>
                  <a:pt x="8607" y="10393"/>
                </a:cubicBezTo>
                <a:cubicBezTo>
                  <a:pt x="8601" y="10318"/>
                  <a:pt x="8595" y="10243"/>
                  <a:pt x="8582" y="10170"/>
                </a:cubicBezTo>
                <a:cubicBezTo>
                  <a:pt x="8556" y="10028"/>
                  <a:pt x="8536" y="9888"/>
                  <a:pt x="8508" y="9748"/>
                </a:cubicBezTo>
                <a:cubicBezTo>
                  <a:pt x="8484" y="9624"/>
                  <a:pt x="8462" y="9501"/>
                  <a:pt x="8458" y="9376"/>
                </a:cubicBezTo>
                <a:cubicBezTo>
                  <a:pt x="8455" y="9269"/>
                  <a:pt x="8421" y="9182"/>
                  <a:pt x="8409" y="9079"/>
                </a:cubicBezTo>
                <a:cubicBezTo>
                  <a:pt x="8402" y="9015"/>
                  <a:pt x="8392" y="8967"/>
                  <a:pt x="8384" y="8905"/>
                </a:cubicBezTo>
                <a:cubicBezTo>
                  <a:pt x="8313" y="8949"/>
                  <a:pt x="8255" y="9008"/>
                  <a:pt x="8186" y="9054"/>
                </a:cubicBezTo>
                <a:cubicBezTo>
                  <a:pt x="8097" y="9114"/>
                  <a:pt x="7997" y="9165"/>
                  <a:pt x="7913" y="9227"/>
                </a:cubicBezTo>
                <a:cubicBezTo>
                  <a:pt x="7862" y="9264"/>
                  <a:pt x="7800" y="9310"/>
                  <a:pt x="7764" y="9351"/>
                </a:cubicBezTo>
                <a:cubicBezTo>
                  <a:pt x="7731" y="9389"/>
                  <a:pt x="7716" y="9437"/>
                  <a:pt x="7689" y="9475"/>
                </a:cubicBezTo>
                <a:cubicBezTo>
                  <a:pt x="7674" y="9496"/>
                  <a:pt x="7681" y="9505"/>
                  <a:pt x="7665" y="9525"/>
                </a:cubicBezTo>
                <a:cubicBezTo>
                  <a:pt x="7717" y="9533"/>
                  <a:pt x="7672" y="9589"/>
                  <a:pt x="7789" y="9500"/>
                </a:cubicBezTo>
                <a:cubicBezTo>
                  <a:pt x="7875" y="9434"/>
                  <a:pt x="7816" y="9469"/>
                  <a:pt x="7888" y="9451"/>
                </a:cubicBezTo>
              </a:path>
              <a:path w="7814" h="6500">
                <a:moveTo>
                  <a:pt x="7962" y="9798"/>
                </a:moveTo>
                <a:cubicBezTo>
                  <a:pt x="7954" y="9798"/>
                  <a:pt x="7946" y="9798"/>
                  <a:pt x="7938" y="9798"/>
                </a:cubicBezTo>
                <a:cubicBezTo>
                  <a:pt x="7977" y="9788"/>
                  <a:pt x="7992" y="9773"/>
                  <a:pt x="8037" y="9773"/>
                </a:cubicBezTo>
                <a:cubicBezTo>
                  <a:pt x="8074" y="9773"/>
                  <a:pt x="8174" y="9763"/>
                  <a:pt x="8210" y="9748"/>
                </a:cubicBezTo>
                <a:cubicBezTo>
                  <a:pt x="8255" y="9729"/>
                  <a:pt x="8304" y="9704"/>
                  <a:pt x="8359" y="9699"/>
                </a:cubicBezTo>
                <a:cubicBezTo>
                  <a:pt x="8392" y="9696"/>
                  <a:pt x="8425" y="9699"/>
                  <a:pt x="8458" y="9699"/>
                </a:cubicBezTo>
                <a:cubicBezTo>
                  <a:pt x="8458" y="9674"/>
                  <a:pt x="8458" y="9666"/>
                  <a:pt x="8483" y="9674"/>
                </a:cubicBezTo>
              </a:path>
              <a:path w="7814" h="6500">
                <a:moveTo>
                  <a:pt x="8037" y="10021"/>
                </a:moveTo>
                <a:cubicBezTo>
                  <a:pt x="8037" y="10120"/>
                  <a:pt x="8037" y="10220"/>
                  <a:pt x="8037" y="10319"/>
                </a:cubicBezTo>
              </a:path>
              <a:path w="7814" h="6500">
                <a:moveTo>
                  <a:pt x="8260" y="9996"/>
                </a:moveTo>
                <a:cubicBezTo>
                  <a:pt x="8197" y="10027"/>
                  <a:pt x="8210" y="10072"/>
                  <a:pt x="8210" y="10145"/>
                </a:cubicBezTo>
                <a:cubicBezTo>
                  <a:pt x="8210" y="10203"/>
                  <a:pt x="8203" y="10226"/>
                  <a:pt x="8260" y="10244"/>
                </a:cubicBezTo>
                <a:cubicBezTo>
                  <a:pt x="8299" y="10256"/>
                  <a:pt x="8381" y="10248"/>
                  <a:pt x="8409" y="10220"/>
                </a:cubicBezTo>
                <a:cubicBezTo>
                  <a:pt x="8471" y="10158"/>
                  <a:pt x="8450" y="10112"/>
                  <a:pt x="8434" y="10046"/>
                </a:cubicBezTo>
                <a:cubicBezTo>
                  <a:pt x="8421" y="9994"/>
                  <a:pt x="8383" y="9996"/>
                  <a:pt x="8334" y="9996"/>
                </a:cubicBezTo>
                <a:cubicBezTo>
                  <a:pt x="8292" y="9996"/>
                  <a:pt x="8297" y="9986"/>
                  <a:pt x="8285" y="10021"/>
                </a:cubicBezTo>
              </a:path>
              <a:path w="7814" h="6500">
                <a:moveTo>
                  <a:pt x="8062" y="9351"/>
                </a:moveTo>
                <a:cubicBezTo>
                  <a:pt x="8062" y="9317"/>
                  <a:pt x="8067" y="9299"/>
                  <a:pt x="8086" y="9277"/>
                </a:cubicBezTo>
                <a:cubicBezTo>
                  <a:pt x="8086" y="9373"/>
                  <a:pt x="8067" y="9456"/>
                  <a:pt x="8062" y="9550"/>
                </a:cubicBezTo>
                <a:cubicBezTo>
                  <a:pt x="8062" y="9578"/>
                  <a:pt x="8064" y="9584"/>
                  <a:pt x="8086" y="9550"/>
                </a:cubicBezTo>
              </a:path>
              <a:path w="7814" h="6500">
                <a:moveTo>
                  <a:pt x="8310" y="9227"/>
                </a:moveTo>
                <a:cubicBezTo>
                  <a:pt x="8243" y="9244"/>
                  <a:pt x="8251" y="9268"/>
                  <a:pt x="8235" y="9327"/>
                </a:cubicBezTo>
                <a:cubicBezTo>
                  <a:pt x="8218" y="9388"/>
                  <a:pt x="8210" y="9415"/>
                  <a:pt x="8210" y="9475"/>
                </a:cubicBezTo>
                <a:cubicBezTo>
                  <a:pt x="8259" y="9475"/>
                  <a:pt x="8270" y="9464"/>
                  <a:pt x="8310" y="9451"/>
                </a:cubicBezTo>
                <a:cubicBezTo>
                  <a:pt x="8362" y="9434"/>
                  <a:pt x="8379" y="9381"/>
                  <a:pt x="8384" y="9327"/>
                </a:cubicBezTo>
                <a:cubicBezTo>
                  <a:pt x="8387" y="9291"/>
                  <a:pt x="8398" y="9222"/>
                  <a:pt x="8359" y="9203"/>
                </a:cubicBezTo>
                <a:cubicBezTo>
                  <a:pt x="8344" y="9196"/>
                  <a:pt x="8302" y="9203"/>
                  <a:pt x="8285" y="9203"/>
                </a:cubicBezTo>
              </a:path>
              <a:path w="7814" h="6500">
                <a:moveTo>
                  <a:pt x="8756" y="9823"/>
                </a:moveTo>
                <a:cubicBezTo>
                  <a:pt x="8806" y="9823"/>
                  <a:pt x="8855" y="9823"/>
                  <a:pt x="8905" y="9823"/>
                </a:cubicBezTo>
              </a:path>
              <a:path w="7814" h="6500">
                <a:moveTo>
                  <a:pt x="8781" y="9947"/>
                </a:moveTo>
                <a:cubicBezTo>
                  <a:pt x="8826" y="9958"/>
                  <a:pt x="8852" y="9971"/>
                  <a:pt x="8905" y="9971"/>
                </a:cubicBezTo>
              </a:path>
              <a:path w="7814" h="6500">
                <a:moveTo>
                  <a:pt x="9302" y="10120"/>
                </a:moveTo>
                <a:cubicBezTo>
                  <a:pt x="9302" y="10051"/>
                  <a:pt x="9261" y="10361"/>
                  <a:pt x="9252" y="10393"/>
                </a:cubicBezTo>
                <a:cubicBezTo>
                  <a:pt x="9232" y="10462"/>
                  <a:pt x="9214" y="10442"/>
                  <a:pt x="9277" y="10368"/>
                </a:cubicBezTo>
              </a:path>
              <a:path w="7814" h="6500">
                <a:moveTo>
                  <a:pt x="9550" y="10145"/>
                </a:moveTo>
                <a:cubicBezTo>
                  <a:pt x="9539" y="10254"/>
                  <a:pt x="9500" y="10357"/>
                  <a:pt x="9500" y="10468"/>
                </a:cubicBezTo>
                <a:cubicBezTo>
                  <a:pt x="9590" y="10460"/>
                  <a:pt x="9699" y="10457"/>
                  <a:pt x="9723" y="10344"/>
                </a:cubicBezTo>
                <a:cubicBezTo>
                  <a:pt x="9745" y="10241"/>
                  <a:pt x="9687" y="10194"/>
                  <a:pt x="9599" y="10170"/>
                </a:cubicBezTo>
                <a:cubicBezTo>
                  <a:pt x="9565" y="10161"/>
                  <a:pt x="9575" y="10132"/>
                  <a:pt x="9575" y="10170"/>
                </a:cubicBezTo>
              </a:path>
              <a:path w="7814" h="6500">
                <a:moveTo>
                  <a:pt x="9227" y="9872"/>
                </a:moveTo>
                <a:cubicBezTo>
                  <a:pt x="9341" y="9915"/>
                  <a:pt x="9493" y="9897"/>
                  <a:pt x="9624" y="9897"/>
                </a:cubicBezTo>
                <a:cubicBezTo>
                  <a:pt x="9625" y="9897"/>
                  <a:pt x="9862" y="9860"/>
                  <a:pt x="9872" y="9872"/>
                </a:cubicBezTo>
                <a:cubicBezTo>
                  <a:pt x="9872" y="9880"/>
                  <a:pt x="9872" y="9889"/>
                  <a:pt x="9872" y="9897"/>
                </a:cubicBezTo>
              </a:path>
              <a:path w="7814" h="6500">
                <a:moveTo>
                  <a:pt x="9252" y="9351"/>
                </a:moveTo>
                <a:cubicBezTo>
                  <a:pt x="9207" y="9337"/>
                  <a:pt x="9198" y="9318"/>
                  <a:pt x="9178" y="9500"/>
                </a:cubicBezTo>
                <a:cubicBezTo>
                  <a:pt x="9178" y="9658"/>
                  <a:pt x="9181" y="9701"/>
                  <a:pt x="9153" y="9798"/>
                </a:cubicBezTo>
              </a:path>
              <a:path w="7814" h="6500">
                <a:moveTo>
                  <a:pt x="9401" y="9351"/>
                </a:moveTo>
                <a:cubicBezTo>
                  <a:pt x="9401" y="9392"/>
                  <a:pt x="9401" y="9434"/>
                  <a:pt x="9401" y="9475"/>
                </a:cubicBezTo>
                <a:cubicBezTo>
                  <a:pt x="9472" y="9475"/>
                  <a:pt x="9518" y="9480"/>
                  <a:pt x="9575" y="9500"/>
                </a:cubicBezTo>
                <a:cubicBezTo>
                  <a:pt x="9613" y="9513"/>
                  <a:pt x="9616" y="9500"/>
                  <a:pt x="9624" y="9475"/>
                </a:cubicBezTo>
              </a:path>
              <a:path w="7814" h="6500">
                <a:moveTo>
                  <a:pt x="9624" y="9203"/>
                </a:moveTo>
                <a:cubicBezTo>
                  <a:pt x="9624" y="9145"/>
                  <a:pt x="9624" y="9269"/>
                  <a:pt x="9624" y="9327"/>
                </a:cubicBezTo>
                <a:cubicBezTo>
                  <a:pt x="9624" y="9492"/>
                  <a:pt x="9624" y="9658"/>
                  <a:pt x="9624" y="9823"/>
                </a:cubicBezTo>
              </a:path>
              <a:path w="7814" h="6500">
                <a:moveTo>
                  <a:pt x="4663" y="13965"/>
                </a:moveTo>
                <a:cubicBezTo>
                  <a:pt x="4778" y="13942"/>
                  <a:pt x="4892" y="13931"/>
                  <a:pt x="5011" y="13915"/>
                </a:cubicBezTo>
                <a:cubicBezTo>
                  <a:pt x="5102" y="13893"/>
                  <a:pt x="5128" y="13887"/>
                  <a:pt x="5184" y="13866"/>
                </a:cubicBezTo>
                <a:cubicBezTo>
                  <a:pt x="5184" y="14000"/>
                  <a:pt x="5103" y="14140"/>
                  <a:pt x="5060" y="14263"/>
                </a:cubicBezTo>
                <a:cubicBezTo>
                  <a:pt x="5025" y="14362"/>
                  <a:pt x="4894" y="14479"/>
                  <a:pt x="4961" y="14560"/>
                </a:cubicBezTo>
                <a:cubicBezTo>
                  <a:pt x="4969" y="14560"/>
                  <a:pt x="4978" y="14560"/>
                  <a:pt x="4986" y="14560"/>
                </a:cubicBezTo>
              </a:path>
              <a:path w="7814" h="6500">
                <a:moveTo>
                  <a:pt x="3621" y="14288"/>
                </a:moveTo>
                <a:cubicBezTo>
                  <a:pt x="3512" y="14543"/>
                  <a:pt x="3389" y="14875"/>
                  <a:pt x="3398" y="15156"/>
                </a:cubicBezTo>
                <a:cubicBezTo>
                  <a:pt x="3415" y="15197"/>
                  <a:pt x="3431" y="15239"/>
                  <a:pt x="3448" y="15280"/>
                </a:cubicBezTo>
                <a:cubicBezTo>
                  <a:pt x="3732" y="15213"/>
                  <a:pt x="3820" y="14984"/>
                  <a:pt x="3746" y="14684"/>
                </a:cubicBezTo>
                <a:cubicBezTo>
                  <a:pt x="3720" y="14580"/>
                  <a:pt x="3505" y="14409"/>
                  <a:pt x="3497" y="14511"/>
                </a:cubicBezTo>
              </a:path>
              <a:path w="7814" h="6500">
                <a:moveTo>
                  <a:pt x="6449" y="14387"/>
                </a:moveTo>
                <a:cubicBezTo>
                  <a:pt x="6603" y="14363"/>
                  <a:pt x="6809" y="14303"/>
                  <a:pt x="6945" y="14337"/>
                </a:cubicBezTo>
              </a:path>
              <a:path w="7814" h="6500">
                <a:moveTo>
                  <a:pt x="8434" y="13767"/>
                </a:moveTo>
                <a:cubicBezTo>
                  <a:pt x="8400" y="13767"/>
                  <a:pt x="8776" y="13795"/>
                  <a:pt x="8830" y="13791"/>
                </a:cubicBezTo>
                <a:cubicBezTo>
                  <a:pt x="8863" y="13783"/>
                  <a:pt x="8897" y="13775"/>
                  <a:pt x="8930" y="13767"/>
                </a:cubicBezTo>
                <a:cubicBezTo>
                  <a:pt x="8930" y="13911"/>
                  <a:pt x="8766" y="14143"/>
                  <a:pt x="8706" y="14263"/>
                </a:cubicBezTo>
                <a:cubicBezTo>
                  <a:pt x="8670" y="14334"/>
                  <a:pt x="8599" y="14428"/>
                  <a:pt x="8632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5000" y="3438360"/>
            <a:ext cx="2278080" cy="1847880"/>
          </a:xfrm>
          <a:custGeom>
            <a:avLst/>
            <a:gdLst/>
            <a:ahLst/>
            <a:rect l="l" t="t" r="r" b="b"/>
            <a:pathLst>
              <a:path w="6327" h="5135">
                <a:moveTo>
                  <a:pt x="4118" y="9550"/>
                </a:moveTo>
                <a:lnTo>
                  <a:pt x="4118" y="9550"/>
                </a:lnTo>
              </a:path>
              <a:path w="6327" h="5135">
                <a:moveTo>
                  <a:pt x="2877" y="11485"/>
                </a:moveTo>
                <a:lnTo>
                  <a:pt x="2877" y="11485"/>
                </a:lnTo>
              </a:path>
              <a:path w="6327" h="5135">
                <a:moveTo>
                  <a:pt x="6573" y="14610"/>
                </a:moveTo>
                <a:cubicBezTo>
                  <a:pt x="6706" y="14603"/>
                  <a:pt x="6837" y="14591"/>
                  <a:pt x="6970" y="14585"/>
                </a:cubicBezTo>
              </a:path>
              <a:path w="6327" h="5135">
                <a:moveTo>
                  <a:pt x="8210" y="14684"/>
                </a:moveTo>
                <a:cubicBezTo>
                  <a:pt x="8468" y="14634"/>
                  <a:pt x="8949" y="14449"/>
                  <a:pt x="9203" y="14585"/>
                </a:cubicBezTo>
                <a:cubicBezTo>
                  <a:pt x="9203" y="14593"/>
                  <a:pt x="9203" y="14602"/>
                  <a:pt x="9203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05040" y="4660920"/>
            <a:ext cx="947880" cy="1135080"/>
          </a:xfrm>
          <a:custGeom>
            <a:avLst/>
            <a:gdLst/>
            <a:ahLst/>
            <a:rect l="l" t="t" r="r" b="b"/>
            <a:pathLst>
              <a:path w="2630" h="3151">
                <a:moveTo>
                  <a:pt x="8409" y="15007"/>
                </a:moveTo>
                <a:cubicBezTo>
                  <a:pt x="8379" y="15201"/>
                  <a:pt x="8309" y="15387"/>
                  <a:pt x="8260" y="15577"/>
                </a:cubicBezTo>
                <a:cubicBezTo>
                  <a:pt x="8260" y="15640"/>
                  <a:pt x="8287" y="15622"/>
                  <a:pt x="8359" y="15503"/>
                </a:cubicBezTo>
              </a:path>
              <a:path w="2630" h="3151">
                <a:moveTo>
                  <a:pt x="8855" y="14957"/>
                </a:moveTo>
                <a:cubicBezTo>
                  <a:pt x="8771" y="15167"/>
                  <a:pt x="8740" y="15259"/>
                  <a:pt x="8806" y="15478"/>
                </a:cubicBezTo>
                <a:cubicBezTo>
                  <a:pt x="8940" y="15447"/>
                  <a:pt x="9102" y="15338"/>
                  <a:pt x="8954" y="15180"/>
                </a:cubicBezTo>
                <a:cubicBezTo>
                  <a:pt x="8857" y="15122"/>
                  <a:pt x="8848" y="15098"/>
                  <a:pt x="8781" y="15106"/>
                </a:cubicBezTo>
              </a:path>
              <a:path w="2630" h="3151">
                <a:moveTo>
                  <a:pt x="7838" y="15949"/>
                </a:moveTo>
                <a:cubicBezTo>
                  <a:pt x="8020" y="16053"/>
                  <a:pt x="8193" y="16119"/>
                  <a:pt x="8409" y="16098"/>
                </a:cubicBezTo>
                <a:cubicBezTo>
                  <a:pt x="8782" y="16062"/>
                  <a:pt x="9154" y="15925"/>
                  <a:pt x="9451" y="15701"/>
                </a:cubicBezTo>
                <a:cubicBezTo>
                  <a:pt x="9780" y="15452"/>
                  <a:pt x="9993" y="15080"/>
                  <a:pt x="10096" y="14684"/>
                </a:cubicBezTo>
                <a:cubicBezTo>
                  <a:pt x="10182" y="14351"/>
                  <a:pt x="10182" y="13961"/>
                  <a:pt x="10046" y="13643"/>
                </a:cubicBezTo>
                <a:cubicBezTo>
                  <a:pt x="9938" y="13390"/>
                  <a:pt x="9722" y="13148"/>
                  <a:pt x="9475" y="13022"/>
                </a:cubicBezTo>
                <a:cubicBezTo>
                  <a:pt x="9251" y="12908"/>
                  <a:pt x="8962" y="12931"/>
                  <a:pt x="8731" y="12998"/>
                </a:cubicBezTo>
                <a:cubicBezTo>
                  <a:pt x="8375" y="13102"/>
                  <a:pt x="8150" y="13402"/>
                  <a:pt x="7913" y="13667"/>
                </a:cubicBezTo>
                <a:cubicBezTo>
                  <a:pt x="7688" y="13918"/>
                  <a:pt x="7576" y="14172"/>
                  <a:pt x="7541" y="14511"/>
                </a:cubicBezTo>
                <a:cubicBezTo>
                  <a:pt x="7512" y="14784"/>
                  <a:pt x="7520" y="15079"/>
                  <a:pt x="7516" y="15354"/>
                </a:cubicBezTo>
                <a:cubicBezTo>
                  <a:pt x="7514" y="15509"/>
                  <a:pt x="7443" y="15901"/>
                  <a:pt x="7590" y="16024"/>
                </a:cubicBezTo>
                <a:cubicBezTo>
                  <a:pt x="7678" y="16098"/>
                  <a:pt x="7750" y="16063"/>
                  <a:pt x="7863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9992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71600" y="2666880"/>
                <a:ext cx="1295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800600" y="2732040"/>
                <a:ext cx="1219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599000" y="1830240"/>
            <a:ext cx="446040" cy="438120"/>
          </a:xfrm>
          <a:custGeom>
            <a:avLst/>
            <a:gdLst/>
            <a:ahLst/>
            <a:rect l="l" t="t" r="r" b="b"/>
            <a:pathLst>
              <a:path w="1242" h="1216">
                <a:moveTo>
                  <a:pt x="13395" y="5358"/>
                </a:moveTo>
                <a:cubicBezTo>
                  <a:pt x="13355" y="5391"/>
                  <a:pt x="13245" y="5428"/>
                  <a:pt x="13221" y="5457"/>
                </a:cubicBezTo>
                <a:cubicBezTo>
                  <a:pt x="13198" y="5485"/>
                  <a:pt x="13221" y="5565"/>
                  <a:pt x="13221" y="5606"/>
                </a:cubicBezTo>
                <a:cubicBezTo>
                  <a:pt x="13314" y="5587"/>
                  <a:pt x="13384" y="5514"/>
                  <a:pt x="13469" y="5606"/>
                </a:cubicBezTo>
                <a:cubicBezTo>
                  <a:pt x="13623" y="5773"/>
                  <a:pt x="13390" y="5844"/>
                  <a:pt x="13295" y="5904"/>
                </a:cubicBezTo>
                <a:cubicBezTo>
                  <a:pt x="13256" y="5943"/>
                  <a:pt x="13255" y="5959"/>
                  <a:pt x="13221" y="5953"/>
                </a:cubicBezTo>
              </a:path>
              <a:path w="1242" h="1216">
                <a:moveTo>
                  <a:pt x="12973" y="6077"/>
                </a:moveTo>
                <a:cubicBezTo>
                  <a:pt x="13061" y="6209"/>
                  <a:pt x="13139" y="6245"/>
                  <a:pt x="13295" y="6276"/>
                </a:cubicBezTo>
                <a:cubicBezTo>
                  <a:pt x="13479" y="6313"/>
                  <a:pt x="13680" y="6271"/>
                  <a:pt x="13816" y="6127"/>
                </a:cubicBezTo>
                <a:cubicBezTo>
                  <a:pt x="13955" y="5981"/>
                  <a:pt x="14019" y="5703"/>
                  <a:pt x="14015" y="5507"/>
                </a:cubicBezTo>
                <a:cubicBezTo>
                  <a:pt x="14011" y="5329"/>
                  <a:pt x="13918" y="5236"/>
                  <a:pt x="13767" y="5159"/>
                </a:cubicBezTo>
                <a:cubicBezTo>
                  <a:pt x="13627" y="5087"/>
                  <a:pt x="13451" y="5064"/>
                  <a:pt x="13295" y="5085"/>
                </a:cubicBezTo>
                <a:cubicBezTo>
                  <a:pt x="13140" y="5106"/>
                  <a:pt x="13046" y="5195"/>
                  <a:pt x="12923" y="5283"/>
                </a:cubicBezTo>
                <a:cubicBezTo>
                  <a:pt x="12776" y="5388"/>
                  <a:pt x="12777" y="5479"/>
                  <a:pt x="12774" y="5655"/>
                </a:cubicBezTo>
                <a:cubicBezTo>
                  <a:pt x="12770" y="5851"/>
                  <a:pt x="12829" y="6013"/>
                  <a:pt x="12973" y="6152"/>
                </a:cubicBezTo>
                <a:cubicBezTo>
                  <a:pt x="13050" y="6227"/>
                  <a:pt x="13142" y="6288"/>
                  <a:pt x="13246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42120" y="3456000"/>
            <a:ext cx="723960" cy="1562040"/>
          </a:xfrm>
          <a:custGeom>
            <a:avLst/>
            <a:gdLst/>
            <a:ahLst/>
            <a:rect l="l" t="t" r="r" b="b"/>
            <a:pathLst>
              <a:path w="2010" h="4342">
                <a:moveTo>
                  <a:pt x="21059" y="11559"/>
                </a:moveTo>
                <a:cubicBezTo>
                  <a:pt x="21059" y="11465"/>
                  <a:pt x="21032" y="11436"/>
                  <a:pt x="20985" y="11361"/>
                </a:cubicBezTo>
                <a:cubicBezTo>
                  <a:pt x="20961" y="11313"/>
                  <a:pt x="20955" y="11296"/>
                  <a:pt x="20910" y="11311"/>
                </a:cubicBezTo>
                <a:cubicBezTo>
                  <a:pt x="20879" y="11383"/>
                  <a:pt x="20756" y="11631"/>
                  <a:pt x="20886" y="11658"/>
                </a:cubicBezTo>
                <a:cubicBezTo>
                  <a:pt x="21003" y="11683"/>
                  <a:pt x="21040" y="11572"/>
                  <a:pt x="21059" y="11485"/>
                </a:cubicBezTo>
                <a:cubicBezTo>
                  <a:pt x="21137" y="11586"/>
                  <a:pt x="21030" y="11797"/>
                  <a:pt x="21010" y="11906"/>
                </a:cubicBezTo>
                <a:cubicBezTo>
                  <a:pt x="20987" y="12064"/>
                  <a:pt x="20982" y="12106"/>
                  <a:pt x="20960" y="12204"/>
                </a:cubicBezTo>
              </a:path>
              <a:path w="2010" h="4342">
                <a:moveTo>
                  <a:pt x="21530" y="11311"/>
                </a:moveTo>
                <a:cubicBezTo>
                  <a:pt x="21530" y="11418"/>
                  <a:pt x="21530" y="11526"/>
                  <a:pt x="21530" y="11633"/>
                </a:cubicBezTo>
              </a:path>
              <a:path w="2010" h="4342">
                <a:moveTo>
                  <a:pt x="21903" y="11212"/>
                </a:moveTo>
                <a:cubicBezTo>
                  <a:pt x="21887" y="11216"/>
                  <a:pt x="21780" y="11258"/>
                  <a:pt x="21779" y="11261"/>
                </a:cubicBezTo>
                <a:cubicBezTo>
                  <a:pt x="21762" y="11299"/>
                  <a:pt x="21759" y="11368"/>
                  <a:pt x="21754" y="11410"/>
                </a:cubicBezTo>
                <a:cubicBezTo>
                  <a:pt x="21812" y="11395"/>
                  <a:pt x="21844" y="11344"/>
                  <a:pt x="21853" y="11435"/>
                </a:cubicBezTo>
                <a:cubicBezTo>
                  <a:pt x="21862" y="11530"/>
                  <a:pt x="21811" y="11543"/>
                  <a:pt x="21729" y="11559"/>
                </a:cubicBezTo>
              </a:path>
              <a:path w="2010" h="4342">
                <a:moveTo>
                  <a:pt x="21307" y="11757"/>
                </a:moveTo>
                <a:cubicBezTo>
                  <a:pt x="21497" y="11723"/>
                  <a:pt x="21685" y="11691"/>
                  <a:pt x="21878" y="11683"/>
                </a:cubicBezTo>
                <a:cubicBezTo>
                  <a:pt x="21886" y="11683"/>
                  <a:pt x="21895" y="11683"/>
                  <a:pt x="21903" y="11683"/>
                </a:cubicBezTo>
              </a:path>
              <a:path w="2010" h="4342">
                <a:moveTo>
                  <a:pt x="21357" y="11931"/>
                </a:moveTo>
                <a:cubicBezTo>
                  <a:pt x="21415" y="11931"/>
                  <a:pt x="21472" y="11931"/>
                  <a:pt x="21530" y="11931"/>
                </a:cubicBezTo>
                <a:cubicBezTo>
                  <a:pt x="21530" y="12064"/>
                  <a:pt x="21497" y="12092"/>
                  <a:pt x="21406" y="12179"/>
                </a:cubicBezTo>
                <a:cubicBezTo>
                  <a:pt x="21398" y="12187"/>
                  <a:pt x="21390" y="12196"/>
                  <a:pt x="21382" y="12204"/>
                </a:cubicBezTo>
                <a:cubicBezTo>
                  <a:pt x="21415" y="12227"/>
                  <a:pt x="21507" y="12184"/>
                  <a:pt x="21580" y="12179"/>
                </a:cubicBezTo>
                <a:cubicBezTo>
                  <a:pt x="21626" y="12179"/>
                  <a:pt x="21653" y="12167"/>
                  <a:pt x="21679" y="12129"/>
                </a:cubicBezTo>
              </a:path>
              <a:path w="2010" h="4342">
                <a:moveTo>
                  <a:pt x="21828" y="11931"/>
                </a:moveTo>
                <a:cubicBezTo>
                  <a:pt x="21797" y="11972"/>
                  <a:pt x="21751" y="12076"/>
                  <a:pt x="21754" y="12129"/>
                </a:cubicBezTo>
                <a:cubicBezTo>
                  <a:pt x="21759" y="12204"/>
                  <a:pt x="21904" y="12189"/>
                  <a:pt x="21927" y="12129"/>
                </a:cubicBezTo>
                <a:cubicBezTo>
                  <a:pt x="21972" y="12010"/>
                  <a:pt x="21846" y="12016"/>
                  <a:pt x="21779" y="12005"/>
                </a:cubicBezTo>
              </a:path>
              <a:path w="2010" h="4342">
                <a:moveTo>
                  <a:pt x="20117" y="12427"/>
                </a:moveTo>
                <a:cubicBezTo>
                  <a:pt x="20211" y="12452"/>
                  <a:pt x="20290" y="12474"/>
                  <a:pt x="20389" y="12477"/>
                </a:cubicBezTo>
                <a:cubicBezTo>
                  <a:pt x="20524" y="12481"/>
                  <a:pt x="20650" y="12502"/>
                  <a:pt x="20786" y="12502"/>
                </a:cubicBezTo>
                <a:cubicBezTo>
                  <a:pt x="20963" y="12502"/>
                  <a:pt x="21135" y="12494"/>
                  <a:pt x="21307" y="12477"/>
                </a:cubicBezTo>
                <a:cubicBezTo>
                  <a:pt x="21480" y="12460"/>
                  <a:pt x="21660" y="12474"/>
                  <a:pt x="21828" y="12452"/>
                </a:cubicBezTo>
                <a:cubicBezTo>
                  <a:pt x="21900" y="12443"/>
                  <a:pt x="21947" y="12469"/>
                  <a:pt x="22002" y="12477"/>
                </a:cubicBezTo>
                <a:cubicBezTo>
                  <a:pt x="22051" y="12484"/>
                  <a:pt x="22051" y="12477"/>
                  <a:pt x="22101" y="12477"/>
                </a:cubicBezTo>
              </a:path>
              <a:path w="2010" h="4342">
                <a:moveTo>
                  <a:pt x="21456" y="13246"/>
                </a:moveTo>
                <a:cubicBezTo>
                  <a:pt x="21531" y="13274"/>
                  <a:pt x="21622" y="13286"/>
                  <a:pt x="21704" y="13271"/>
                </a:cubicBezTo>
                <a:cubicBezTo>
                  <a:pt x="21783" y="13256"/>
                  <a:pt x="21846" y="13246"/>
                  <a:pt x="21927" y="13246"/>
                </a:cubicBezTo>
                <a:cubicBezTo>
                  <a:pt x="21983" y="13246"/>
                  <a:pt x="21997" y="13271"/>
                  <a:pt x="22051" y="13271"/>
                </a:cubicBezTo>
              </a:path>
              <a:path w="2010" h="4342">
                <a:moveTo>
                  <a:pt x="21481" y="13568"/>
                </a:moveTo>
                <a:cubicBezTo>
                  <a:pt x="21503" y="13534"/>
                  <a:pt x="21530" y="13523"/>
                  <a:pt x="21580" y="13519"/>
                </a:cubicBezTo>
                <a:cubicBezTo>
                  <a:pt x="21706" y="13508"/>
                  <a:pt x="21571" y="13716"/>
                  <a:pt x="21555" y="13742"/>
                </a:cubicBezTo>
                <a:cubicBezTo>
                  <a:pt x="21512" y="13810"/>
                  <a:pt x="21462" y="13859"/>
                  <a:pt x="21406" y="13915"/>
                </a:cubicBezTo>
                <a:cubicBezTo>
                  <a:pt x="21398" y="13923"/>
                  <a:pt x="21390" y="13932"/>
                  <a:pt x="21382" y="13940"/>
                </a:cubicBezTo>
                <a:cubicBezTo>
                  <a:pt x="21439" y="13940"/>
                  <a:pt x="21459" y="13910"/>
                  <a:pt x="21506" y="13891"/>
                </a:cubicBezTo>
                <a:cubicBezTo>
                  <a:pt x="21532" y="13881"/>
                  <a:pt x="21617" y="13896"/>
                  <a:pt x="21630" y="13915"/>
                </a:cubicBezTo>
                <a:cubicBezTo>
                  <a:pt x="21665" y="13967"/>
                  <a:pt x="21694" y="13884"/>
                  <a:pt x="21729" y="13841"/>
                </a:cubicBezTo>
              </a:path>
              <a:path w="2010" h="4342">
                <a:moveTo>
                  <a:pt x="21878" y="13618"/>
                </a:moveTo>
                <a:cubicBezTo>
                  <a:pt x="21826" y="13643"/>
                  <a:pt x="21791" y="13725"/>
                  <a:pt x="21779" y="13791"/>
                </a:cubicBezTo>
                <a:cubicBezTo>
                  <a:pt x="21779" y="13836"/>
                  <a:pt x="21775" y="13849"/>
                  <a:pt x="21803" y="13866"/>
                </a:cubicBezTo>
                <a:cubicBezTo>
                  <a:pt x="21896" y="13856"/>
                  <a:pt x="21933" y="13850"/>
                  <a:pt x="21977" y="13767"/>
                </a:cubicBezTo>
                <a:cubicBezTo>
                  <a:pt x="22031" y="13666"/>
                  <a:pt x="21994" y="13681"/>
                  <a:pt x="21952" y="13618"/>
                </a:cubicBezTo>
                <a:cubicBezTo>
                  <a:pt x="21952" y="13593"/>
                  <a:pt x="21952" y="13585"/>
                  <a:pt x="21927" y="13593"/>
                </a:cubicBezTo>
              </a:path>
              <a:path w="2010" h="4342">
                <a:moveTo>
                  <a:pt x="21059" y="10145"/>
                </a:moveTo>
                <a:cubicBezTo>
                  <a:pt x="21059" y="10137"/>
                  <a:pt x="21059" y="10128"/>
                  <a:pt x="21059" y="10120"/>
                </a:cubicBezTo>
                <a:cubicBezTo>
                  <a:pt x="21020" y="10160"/>
                  <a:pt x="20974" y="10239"/>
                  <a:pt x="20935" y="10269"/>
                </a:cubicBezTo>
                <a:cubicBezTo>
                  <a:pt x="20907" y="10291"/>
                  <a:pt x="20895" y="10297"/>
                  <a:pt x="20886" y="10344"/>
                </a:cubicBezTo>
                <a:cubicBezTo>
                  <a:pt x="20840" y="10355"/>
                  <a:pt x="20822" y="10373"/>
                  <a:pt x="20811" y="10418"/>
                </a:cubicBezTo>
                <a:cubicBezTo>
                  <a:pt x="20755" y="10432"/>
                  <a:pt x="20710" y="10483"/>
                  <a:pt x="20687" y="10542"/>
                </a:cubicBezTo>
                <a:cubicBezTo>
                  <a:pt x="20687" y="10550"/>
                  <a:pt x="20687" y="10559"/>
                  <a:pt x="20687" y="10567"/>
                </a:cubicBezTo>
                <a:cubicBezTo>
                  <a:pt x="20658" y="10577"/>
                  <a:pt x="20642" y="10600"/>
                  <a:pt x="20638" y="10641"/>
                </a:cubicBezTo>
                <a:cubicBezTo>
                  <a:pt x="20638" y="10666"/>
                  <a:pt x="20638" y="10674"/>
                  <a:pt x="20638" y="10691"/>
                </a:cubicBezTo>
              </a:path>
              <a:path w="2010" h="4342">
                <a:moveTo>
                  <a:pt x="20662" y="9599"/>
                </a:moveTo>
                <a:cubicBezTo>
                  <a:pt x="20662" y="9641"/>
                  <a:pt x="20662" y="9666"/>
                  <a:pt x="20662" y="9699"/>
                </a:cubicBezTo>
                <a:cubicBezTo>
                  <a:pt x="20662" y="9726"/>
                  <a:pt x="20671" y="9668"/>
                  <a:pt x="20712" y="9624"/>
                </a:cubicBezTo>
                <a:cubicBezTo>
                  <a:pt x="20747" y="9586"/>
                  <a:pt x="20789" y="9599"/>
                  <a:pt x="20836" y="9599"/>
                </a:cubicBezTo>
                <a:cubicBezTo>
                  <a:pt x="20844" y="9599"/>
                  <a:pt x="20853" y="9599"/>
                  <a:pt x="20861" y="9599"/>
                </a:cubicBezTo>
                <a:cubicBezTo>
                  <a:pt x="20841" y="9738"/>
                  <a:pt x="20819" y="9883"/>
                  <a:pt x="20786" y="10021"/>
                </a:cubicBezTo>
                <a:cubicBezTo>
                  <a:pt x="20770" y="10088"/>
                  <a:pt x="20737" y="10104"/>
                  <a:pt x="20786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3160" y="3589200"/>
            <a:ext cx="7170840" cy="1285920"/>
          </a:xfrm>
          <a:custGeom>
            <a:avLst/>
            <a:gdLst/>
            <a:ahLst/>
            <a:rect l="l" t="t" r="r" b="b"/>
            <a:pathLst>
              <a:path w="19920" h="3573">
                <a:moveTo>
                  <a:pt x="2232" y="13469"/>
                </a:moveTo>
                <a:cubicBezTo>
                  <a:pt x="2393" y="13504"/>
                  <a:pt x="2542" y="13521"/>
                  <a:pt x="2704" y="13543"/>
                </a:cubicBezTo>
              </a:path>
              <a:path w="19920" h="3573">
                <a:moveTo>
                  <a:pt x="17562" y="12378"/>
                </a:moveTo>
                <a:cubicBezTo>
                  <a:pt x="17544" y="12536"/>
                  <a:pt x="17498" y="12676"/>
                  <a:pt x="17462" y="12824"/>
                </a:cubicBezTo>
                <a:cubicBezTo>
                  <a:pt x="17462" y="12841"/>
                  <a:pt x="17462" y="12857"/>
                  <a:pt x="17462" y="12874"/>
                </a:cubicBezTo>
              </a:path>
              <a:path w="19920" h="3573">
                <a:moveTo>
                  <a:pt x="18604" y="10542"/>
                </a:moveTo>
                <a:cubicBezTo>
                  <a:pt x="18767" y="10500"/>
                  <a:pt x="18934" y="10457"/>
                  <a:pt x="19100" y="10418"/>
                </a:cubicBezTo>
                <a:cubicBezTo>
                  <a:pt x="19157" y="10399"/>
                  <a:pt x="19164" y="10390"/>
                  <a:pt x="19199" y="10393"/>
                </a:cubicBezTo>
              </a:path>
              <a:path w="19920" h="3573">
                <a:moveTo>
                  <a:pt x="22151" y="9971"/>
                </a:moveTo>
                <a:cubicBezTo>
                  <a:pt x="22129" y="10037"/>
                  <a:pt x="22113" y="10074"/>
                  <a:pt x="22101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1960" y="2000160"/>
            <a:ext cx="992160" cy="2448000"/>
          </a:xfrm>
          <a:custGeom>
            <a:avLst/>
            <a:gdLst/>
            <a:ahLst/>
            <a:rect l="l" t="t" r="r" b="b"/>
            <a:pathLst>
              <a:path w="2754" h="6798">
                <a:moveTo>
                  <a:pt x="2009" y="6300"/>
                </a:moveTo>
                <a:cubicBezTo>
                  <a:pt x="1992" y="6403"/>
                  <a:pt x="1961" y="6600"/>
                  <a:pt x="1935" y="6499"/>
                </a:cubicBezTo>
                <a:cubicBezTo>
                  <a:pt x="2090" y="6460"/>
                  <a:pt x="2173" y="6453"/>
                  <a:pt x="2332" y="6474"/>
                </a:cubicBezTo>
                <a:cubicBezTo>
                  <a:pt x="2389" y="6474"/>
                  <a:pt x="2397" y="6441"/>
                  <a:pt x="2356" y="6350"/>
                </a:cubicBezTo>
              </a:path>
              <a:path w="2754" h="6798">
                <a:moveTo>
                  <a:pt x="2307" y="5854"/>
                </a:moveTo>
                <a:cubicBezTo>
                  <a:pt x="2316" y="6127"/>
                  <a:pt x="2332" y="6398"/>
                  <a:pt x="2332" y="6672"/>
                </a:cubicBezTo>
                <a:cubicBezTo>
                  <a:pt x="2332" y="6680"/>
                  <a:pt x="2332" y="6689"/>
                  <a:pt x="2332" y="6697"/>
                </a:cubicBezTo>
              </a:path>
              <a:path w="2754" h="6798">
                <a:moveTo>
                  <a:pt x="1736" y="6945"/>
                </a:moveTo>
                <a:cubicBezTo>
                  <a:pt x="2009" y="7138"/>
                  <a:pt x="2240" y="7136"/>
                  <a:pt x="2555" y="6995"/>
                </a:cubicBezTo>
                <a:cubicBezTo>
                  <a:pt x="2902" y="6840"/>
                  <a:pt x="3110" y="6540"/>
                  <a:pt x="3051" y="6152"/>
                </a:cubicBezTo>
                <a:cubicBezTo>
                  <a:pt x="2976" y="5657"/>
                  <a:pt x="2468" y="5439"/>
                  <a:pt x="2009" y="5581"/>
                </a:cubicBezTo>
                <a:cubicBezTo>
                  <a:pt x="1522" y="5732"/>
                  <a:pt x="1413" y="6637"/>
                  <a:pt x="1662" y="7020"/>
                </a:cubicBezTo>
                <a:cubicBezTo>
                  <a:pt x="1900" y="7179"/>
                  <a:pt x="1993" y="7229"/>
                  <a:pt x="2208" y="7169"/>
                </a:cubicBezTo>
              </a:path>
              <a:path w="2754" h="6798">
                <a:moveTo>
                  <a:pt x="4291" y="10716"/>
                </a:moveTo>
                <a:cubicBezTo>
                  <a:pt x="4258" y="10716"/>
                  <a:pt x="4272" y="10703"/>
                  <a:pt x="4242" y="10716"/>
                </a:cubicBezTo>
                <a:cubicBezTo>
                  <a:pt x="4238" y="10718"/>
                  <a:pt x="4203" y="10757"/>
                  <a:pt x="4192" y="10765"/>
                </a:cubicBezTo>
                <a:cubicBezTo>
                  <a:pt x="4142" y="10802"/>
                  <a:pt x="4057" y="10843"/>
                  <a:pt x="4018" y="10889"/>
                </a:cubicBezTo>
                <a:cubicBezTo>
                  <a:pt x="3998" y="10913"/>
                  <a:pt x="3973" y="10958"/>
                  <a:pt x="3944" y="10988"/>
                </a:cubicBezTo>
                <a:cubicBezTo>
                  <a:pt x="3907" y="11027"/>
                  <a:pt x="3873" y="11078"/>
                  <a:pt x="3845" y="11112"/>
                </a:cubicBezTo>
                <a:cubicBezTo>
                  <a:pt x="3788" y="11180"/>
                  <a:pt x="3738" y="11230"/>
                  <a:pt x="3696" y="11311"/>
                </a:cubicBezTo>
                <a:cubicBezTo>
                  <a:pt x="3665" y="11370"/>
                  <a:pt x="3636" y="11434"/>
                  <a:pt x="3597" y="11485"/>
                </a:cubicBezTo>
                <a:cubicBezTo>
                  <a:pt x="3526" y="11578"/>
                  <a:pt x="3445" y="11664"/>
                  <a:pt x="3373" y="11757"/>
                </a:cubicBezTo>
                <a:cubicBezTo>
                  <a:pt x="3257" y="11907"/>
                  <a:pt x="3137" y="12022"/>
                  <a:pt x="3001" y="12154"/>
                </a:cubicBezTo>
                <a:cubicBezTo>
                  <a:pt x="2943" y="12210"/>
                  <a:pt x="2887" y="12245"/>
                  <a:pt x="2853" y="12303"/>
                </a:cubicBezTo>
                <a:cubicBezTo>
                  <a:pt x="2839" y="12328"/>
                  <a:pt x="2841" y="12303"/>
                  <a:pt x="2828" y="12328"/>
                </a:cubicBezTo>
              </a:path>
              <a:path w="2754" h="6798">
                <a:moveTo>
                  <a:pt x="3497" y="9922"/>
                </a:moveTo>
                <a:cubicBezTo>
                  <a:pt x="3476" y="10030"/>
                  <a:pt x="3406" y="10136"/>
                  <a:pt x="3373" y="10244"/>
                </a:cubicBezTo>
                <a:cubicBezTo>
                  <a:pt x="3334" y="10370"/>
                  <a:pt x="3291" y="10492"/>
                  <a:pt x="3249" y="10616"/>
                </a:cubicBezTo>
                <a:cubicBezTo>
                  <a:pt x="3225" y="10688"/>
                  <a:pt x="3225" y="10741"/>
                  <a:pt x="3225" y="10815"/>
                </a:cubicBezTo>
                <a:cubicBezTo>
                  <a:pt x="3225" y="10914"/>
                  <a:pt x="3412" y="10898"/>
                  <a:pt x="3473" y="10889"/>
                </a:cubicBezTo>
                <a:cubicBezTo>
                  <a:pt x="3565" y="10876"/>
                  <a:pt x="3601" y="10839"/>
                  <a:pt x="3671" y="10790"/>
                </a:cubicBezTo>
                <a:cubicBezTo>
                  <a:pt x="3786" y="10709"/>
                  <a:pt x="3760" y="10715"/>
                  <a:pt x="3795" y="10592"/>
                </a:cubicBezTo>
                <a:cubicBezTo>
                  <a:pt x="3810" y="10540"/>
                  <a:pt x="3820" y="10541"/>
                  <a:pt x="3820" y="10492"/>
                </a:cubicBezTo>
                <a:cubicBezTo>
                  <a:pt x="3787" y="10478"/>
                  <a:pt x="3706" y="10434"/>
                  <a:pt x="3671" y="10443"/>
                </a:cubicBezTo>
                <a:cubicBezTo>
                  <a:pt x="3545" y="10477"/>
                  <a:pt x="3528" y="10610"/>
                  <a:pt x="3522" y="10716"/>
                </a:cubicBezTo>
                <a:cubicBezTo>
                  <a:pt x="3517" y="10808"/>
                  <a:pt x="3539" y="10857"/>
                  <a:pt x="3547" y="10939"/>
                </a:cubicBezTo>
                <a:cubicBezTo>
                  <a:pt x="3547" y="10947"/>
                  <a:pt x="3547" y="10956"/>
                  <a:pt x="3547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87720" y="3652920"/>
            <a:ext cx="1330200" cy="776160"/>
          </a:xfrm>
          <a:custGeom>
            <a:avLst/>
            <a:gdLst/>
            <a:ahLst/>
            <a:rect l="l" t="t" r="r" b="b"/>
            <a:pathLst>
              <a:path w="3697" h="2159">
                <a:moveTo>
                  <a:pt x="7367" y="11162"/>
                </a:moveTo>
                <a:cubicBezTo>
                  <a:pt x="7410" y="11219"/>
                  <a:pt x="7430" y="11432"/>
                  <a:pt x="7417" y="11534"/>
                </a:cubicBezTo>
                <a:cubicBezTo>
                  <a:pt x="7409" y="11551"/>
                  <a:pt x="7400" y="11567"/>
                  <a:pt x="7392" y="11584"/>
                </a:cubicBezTo>
              </a:path>
              <a:path w="3697" h="2159">
                <a:moveTo>
                  <a:pt x="7243" y="11410"/>
                </a:moveTo>
                <a:cubicBezTo>
                  <a:pt x="7343" y="11430"/>
                  <a:pt x="7433" y="11415"/>
                  <a:pt x="7541" y="11410"/>
                </a:cubicBezTo>
                <a:cubicBezTo>
                  <a:pt x="7565" y="11410"/>
                  <a:pt x="7574" y="11410"/>
                  <a:pt x="7590" y="11410"/>
                </a:cubicBezTo>
              </a:path>
              <a:path w="3697" h="2159">
                <a:moveTo>
                  <a:pt x="7789" y="10616"/>
                </a:moveTo>
                <a:cubicBezTo>
                  <a:pt x="7799" y="10767"/>
                  <a:pt x="7811" y="10910"/>
                  <a:pt x="7813" y="11063"/>
                </a:cubicBezTo>
                <a:cubicBezTo>
                  <a:pt x="7817" y="11370"/>
                  <a:pt x="7843" y="11707"/>
                  <a:pt x="7789" y="12005"/>
                </a:cubicBezTo>
                <a:cubicBezTo>
                  <a:pt x="7789" y="12013"/>
                  <a:pt x="7789" y="12022"/>
                  <a:pt x="7789" y="12030"/>
                </a:cubicBezTo>
                <a:cubicBezTo>
                  <a:pt x="7876" y="12052"/>
                  <a:pt x="7913" y="12025"/>
                  <a:pt x="8037" y="12005"/>
                </a:cubicBezTo>
                <a:cubicBezTo>
                  <a:pt x="8227" y="11974"/>
                  <a:pt x="8415" y="11981"/>
                  <a:pt x="8607" y="11981"/>
                </a:cubicBezTo>
                <a:cubicBezTo>
                  <a:pt x="8632" y="11981"/>
                  <a:pt x="8640" y="11981"/>
                  <a:pt x="8657" y="11981"/>
                </a:cubicBezTo>
                <a:cubicBezTo>
                  <a:pt x="8637" y="11866"/>
                  <a:pt x="8622" y="11754"/>
                  <a:pt x="8632" y="11633"/>
                </a:cubicBezTo>
                <a:cubicBezTo>
                  <a:pt x="8654" y="11373"/>
                  <a:pt x="8681" y="11102"/>
                  <a:pt x="8657" y="10840"/>
                </a:cubicBezTo>
                <a:cubicBezTo>
                  <a:pt x="8641" y="10665"/>
                  <a:pt x="8632" y="10489"/>
                  <a:pt x="8582" y="10319"/>
                </a:cubicBezTo>
                <a:cubicBezTo>
                  <a:pt x="8568" y="10271"/>
                  <a:pt x="8543" y="10212"/>
                  <a:pt x="8533" y="10170"/>
                </a:cubicBezTo>
                <a:cubicBezTo>
                  <a:pt x="8533" y="10162"/>
                  <a:pt x="8533" y="10153"/>
                  <a:pt x="8533" y="10145"/>
                </a:cubicBezTo>
                <a:cubicBezTo>
                  <a:pt x="8397" y="10199"/>
                  <a:pt x="8255" y="10251"/>
                  <a:pt x="8111" y="10294"/>
                </a:cubicBezTo>
                <a:cubicBezTo>
                  <a:pt x="7914" y="10353"/>
                  <a:pt x="7871" y="10406"/>
                  <a:pt x="7739" y="10542"/>
                </a:cubicBezTo>
                <a:cubicBezTo>
                  <a:pt x="7660" y="10624"/>
                  <a:pt x="7608" y="10703"/>
                  <a:pt x="7541" y="10790"/>
                </a:cubicBezTo>
                <a:cubicBezTo>
                  <a:pt x="7509" y="10832"/>
                  <a:pt x="7533" y="10822"/>
                  <a:pt x="7590" y="10815"/>
                </a:cubicBezTo>
                <a:cubicBezTo>
                  <a:pt x="7722" y="10788"/>
                  <a:pt x="7771" y="10779"/>
                  <a:pt x="7863" y="10765"/>
                </a:cubicBezTo>
                <a:cubicBezTo>
                  <a:pt x="7930" y="10765"/>
                  <a:pt x="7960" y="10727"/>
                  <a:pt x="7813" y="10815"/>
                </a:cubicBezTo>
              </a:path>
              <a:path w="3697" h="2159">
                <a:moveTo>
                  <a:pt x="7813" y="11336"/>
                </a:moveTo>
                <a:cubicBezTo>
                  <a:pt x="7871" y="11336"/>
                  <a:pt x="7908" y="11348"/>
                  <a:pt x="7962" y="11361"/>
                </a:cubicBezTo>
                <a:cubicBezTo>
                  <a:pt x="8035" y="11378"/>
                  <a:pt x="8135" y="11361"/>
                  <a:pt x="8210" y="11361"/>
                </a:cubicBezTo>
                <a:cubicBezTo>
                  <a:pt x="8232" y="11327"/>
                  <a:pt x="8259" y="11336"/>
                  <a:pt x="8310" y="11336"/>
                </a:cubicBezTo>
                <a:cubicBezTo>
                  <a:pt x="8399" y="11336"/>
                  <a:pt x="8482" y="11337"/>
                  <a:pt x="8558" y="11311"/>
                </a:cubicBezTo>
                <a:cubicBezTo>
                  <a:pt x="8600" y="11297"/>
                  <a:pt x="8620" y="11332"/>
                  <a:pt x="8657" y="11336"/>
                </a:cubicBezTo>
                <a:cubicBezTo>
                  <a:pt x="8682" y="11336"/>
                  <a:pt x="8690" y="11336"/>
                  <a:pt x="8682" y="11361"/>
                </a:cubicBezTo>
              </a:path>
              <a:path w="3697" h="2159">
                <a:moveTo>
                  <a:pt x="8285" y="11485"/>
                </a:moveTo>
                <a:cubicBezTo>
                  <a:pt x="8274" y="11468"/>
                  <a:pt x="8205" y="11420"/>
                  <a:pt x="8161" y="11435"/>
                </a:cubicBezTo>
                <a:cubicBezTo>
                  <a:pt x="8101" y="11455"/>
                  <a:pt x="8062" y="11523"/>
                  <a:pt x="8062" y="11584"/>
                </a:cubicBezTo>
                <a:cubicBezTo>
                  <a:pt x="8099" y="11601"/>
                  <a:pt x="8271" y="11637"/>
                  <a:pt x="8285" y="11658"/>
                </a:cubicBezTo>
                <a:cubicBezTo>
                  <a:pt x="8345" y="11745"/>
                  <a:pt x="8303" y="11824"/>
                  <a:pt x="8210" y="11857"/>
                </a:cubicBezTo>
                <a:cubicBezTo>
                  <a:pt x="8194" y="11857"/>
                  <a:pt x="8177" y="11857"/>
                  <a:pt x="8161" y="11857"/>
                </a:cubicBezTo>
                <a:cubicBezTo>
                  <a:pt x="8149" y="11821"/>
                  <a:pt x="8136" y="11816"/>
                  <a:pt x="8136" y="11757"/>
                </a:cubicBezTo>
                <a:cubicBezTo>
                  <a:pt x="8136" y="11692"/>
                  <a:pt x="8204" y="11698"/>
                  <a:pt x="8235" y="11658"/>
                </a:cubicBezTo>
                <a:cubicBezTo>
                  <a:pt x="8257" y="11629"/>
                  <a:pt x="8269" y="11617"/>
                  <a:pt x="8285" y="11584"/>
                </a:cubicBezTo>
                <a:cubicBezTo>
                  <a:pt x="8297" y="11560"/>
                  <a:pt x="8303" y="11511"/>
                  <a:pt x="8310" y="11485"/>
                </a:cubicBezTo>
              </a:path>
              <a:path w="3697" h="2159">
                <a:moveTo>
                  <a:pt x="8210" y="10790"/>
                </a:moveTo>
                <a:cubicBezTo>
                  <a:pt x="8154" y="10721"/>
                  <a:pt x="8142" y="10727"/>
                  <a:pt x="8062" y="10740"/>
                </a:cubicBezTo>
                <a:cubicBezTo>
                  <a:pt x="8018" y="10747"/>
                  <a:pt x="7998" y="10822"/>
                  <a:pt x="7987" y="10864"/>
                </a:cubicBezTo>
                <a:cubicBezTo>
                  <a:pt x="8052" y="10908"/>
                  <a:pt x="8143" y="10936"/>
                  <a:pt x="8186" y="11013"/>
                </a:cubicBezTo>
                <a:cubicBezTo>
                  <a:pt x="8230" y="11092"/>
                  <a:pt x="8222" y="11176"/>
                  <a:pt x="8136" y="11212"/>
                </a:cubicBezTo>
                <a:cubicBezTo>
                  <a:pt x="8076" y="11237"/>
                  <a:pt x="8032" y="11186"/>
                  <a:pt x="8012" y="11137"/>
                </a:cubicBezTo>
                <a:cubicBezTo>
                  <a:pt x="7984" y="11066"/>
                  <a:pt x="8084" y="11045"/>
                  <a:pt x="8111" y="11013"/>
                </a:cubicBezTo>
                <a:cubicBezTo>
                  <a:pt x="8159" y="10957"/>
                  <a:pt x="8184" y="10919"/>
                  <a:pt x="8235" y="10864"/>
                </a:cubicBezTo>
                <a:cubicBezTo>
                  <a:pt x="8270" y="10826"/>
                  <a:pt x="8278" y="10779"/>
                  <a:pt x="8235" y="10765"/>
                </a:cubicBezTo>
              </a:path>
              <a:path w="3697" h="2159">
                <a:moveTo>
                  <a:pt x="8855" y="11286"/>
                </a:moveTo>
                <a:cubicBezTo>
                  <a:pt x="8921" y="11286"/>
                  <a:pt x="8968" y="11249"/>
                  <a:pt x="9029" y="11237"/>
                </a:cubicBezTo>
                <a:cubicBezTo>
                  <a:pt x="9046" y="11237"/>
                  <a:pt x="9062" y="11237"/>
                  <a:pt x="9079" y="11237"/>
                </a:cubicBezTo>
              </a:path>
              <a:path w="3697" h="2159">
                <a:moveTo>
                  <a:pt x="8930" y="11460"/>
                </a:moveTo>
                <a:cubicBezTo>
                  <a:pt x="8987" y="11460"/>
                  <a:pt x="9026" y="11440"/>
                  <a:pt x="9079" y="11435"/>
                </a:cubicBezTo>
                <a:cubicBezTo>
                  <a:pt x="9103" y="11435"/>
                  <a:pt x="9112" y="11435"/>
                  <a:pt x="9128" y="11435"/>
                </a:cubicBezTo>
              </a:path>
              <a:path w="3697" h="2159">
                <a:moveTo>
                  <a:pt x="9178" y="10666"/>
                </a:moveTo>
                <a:cubicBezTo>
                  <a:pt x="9194" y="10775"/>
                  <a:pt x="9231" y="10880"/>
                  <a:pt x="9252" y="10988"/>
                </a:cubicBezTo>
                <a:cubicBezTo>
                  <a:pt x="9252" y="10996"/>
                  <a:pt x="9252" y="11005"/>
                  <a:pt x="9252" y="11013"/>
                </a:cubicBezTo>
              </a:path>
              <a:path w="3697" h="2159">
                <a:moveTo>
                  <a:pt x="9351" y="10666"/>
                </a:moveTo>
                <a:cubicBezTo>
                  <a:pt x="9420" y="10649"/>
                  <a:pt x="9447" y="10640"/>
                  <a:pt x="9525" y="10666"/>
                </a:cubicBezTo>
                <a:cubicBezTo>
                  <a:pt x="9516" y="10754"/>
                  <a:pt x="9497" y="10842"/>
                  <a:pt x="9451" y="10914"/>
                </a:cubicBezTo>
                <a:cubicBezTo>
                  <a:pt x="9443" y="10922"/>
                  <a:pt x="9434" y="10931"/>
                  <a:pt x="9426" y="10939"/>
                </a:cubicBezTo>
                <a:cubicBezTo>
                  <a:pt x="9517" y="10939"/>
                  <a:pt x="9764" y="10952"/>
                  <a:pt x="9674" y="10964"/>
                </a:cubicBezTo>
                <a:cubicBezTo>
                  <a:pt x="9541" y="10964"/>
                  <a:pt x="9509" y="10965"/>
                  <a:pt x="9699" y="10988"/>
                </a:cubicBezTo>
              </a:path>
              <a:path w="3697" h="2159">
                <a:moveTo>
                  <a:pt x="9277" y="11237"/>
                </a:moveTo>
                <a:cubicBezTo>
                  <a:pt x="9348" y="11194"/>
                  <a:pt x="9460" y="11150"/>
                  <a:pt x="9550" y="11137"/>
                </a:cubicBezTo>
                <a:cubicBezTo>
                  <a:pt x="9621" y="11127"/>
                  <a:pt x="9701" y="11137"/>
                  <a:pt x="9773" y="11137"/>
                </a:cubicBezTo>
              </a:path>
              <a:path w="3697" h="2159">
                <a:moveTo>
                  <a:pt x="9599" y="11361"/>
                </a:moveTo>
                <a:cubicBezTo>
                  <a:pt x="9581" y="11304"/>
                  <a:pt x="9513" y="11378"/>
                  <a:pt x="9475" y="11410"/>
                </a:cubicBezTo>
                <a:cubicBezTo>
                  <a:pt x="9416" y="11460"/>
                  <a:pt x="9418" y="11505"/>
                  <a:pt x="9426" y="11534"/>
                </a:cubicBezTo>
                <a:cubicBezTo>
                  <a:pt x="9445" y="11600"/>
                  <a:pt x="9508" y="11593"/>
                  <a:pt x="9550" y="11633"/>
                </a:cubicBezTo>
                <a:cubicBezTo>
                  <a:pt x="9591" y="11671"/>
                  <a:pt x="9638" y="11758"/>
                  <a:pt x="9575" y="11782"/>
                </a:cubicBezTo>
                <a:cubicBezTo>
                  <a:pt x="9514" y="11806"/>
                  <a:pt x="9429" y="11804"/>
                  <a:pt x="9451" y="11708"/>
                </a:cubicBezTo>
                <a:cubicBezTo>
                  <a:pt x="9467" y="11637"/>
                  <a:pt x="9530" y="11596"/>
                  <a:pt x="9575" y="11559"/>
                </a:cubicBezTo>
                <a:cubicBezTo>
                  <a:pt x="9629" y="11514"/>
                  <a:pt x="9664" y="11477"/>
                  <a:pt x="9674" y="11410"/>
                </a:cubicBezTo>
                <a:cubicBezTo>
                  <a:pt x="9679" y="11374"/>
                  <a:pt x="9647" y="11358"/>
                  <a:pt x="9624" y="11336"/>
                </a:cubicBezTo>
              </a:path>
              <a:path w="3697" h="2159">
                <a:moveTo>
                  <a:pt x="6102" y="10666"/>
                </a:moveTo>
                <a:cubicBezTo>
                  <a:pt x="6154" y="10707"/>
                  <a:pt x="6168" y="10708"/>
                  <a:pt x="6226" y="10740"/>
                </a:cubicBezTo>
                <a:cubicBezTo>
                  <a:pt x="6478" y="10881"/>
                  <a:pt x="6762" y="10923"/>
                  <a:pt x="7020" y="11038"/>
                </a:cubicBezTo>
                <a:cubicBezTo>
                  <a:pt x="7123" y="11084"/>
                  <a:pt x="7216" y="11121"/>
                  <a:pt x="7317" y="11162"/>
                </a:cubicBezTo>
                <a:cubicBezTo>
                  <a:pt x="7495" y="11235"/>
                  <a:pt x="7660" y="11334"/>
                  <a:pt x="7838" y="11410"/>
                </a:cubicBezTo>
                <a:cubicBezTo>
                  <a:pt x="7983" y="11472"/>
                  <a:pt x="8137" y="11530"/>
                  <a:pt x="8285" y="11584"/>
                </a:cubicBezTo>
                <a:cubicBezTo>
                  <a:pt x="8410" y="11630"/>
                  <a:pt x="8509" y="11704"/>
                  <a:pt x="8632" y="11757"/>
                </a:cubicBezTo>
                <a:cubicBezTo>
                  <a:pt x="8662" y="11770"/>
                  <a:pt x="8700" y="11770"/>
                  <a:pt x="8731" y="11782"/>
                </a:cubicBezTo>
              </a:path>
              <a:path w="3697" h="2159">
                <a:moveTo>
                  <a:pt x="8508" y="10344"/>
                </a:moveTo>
                <a:cubicBezTo>
                  <a:pt x="8473" y="10449"/>
                  <a:pt x="8451" y="10514"/>
                  <a:pt x="8359" y="10592"/>
                </a:cubicBezTo>
                <a:cubicBezTo>
                  <a:pt x="8264" y="10672"/>
                  <a:pt x="8184" y="10760"/>
                  <a:pt x="8086" y="10840"/>
                </a:cubicBezTo>
                <a:cubicBezTo>
                  <a:pt x="7962" y="10941"/>
                  <a:pt x="7829" y="11025"/>
                  <a:pt x="7714" y="11137"/>
                </a:cubicBezTo>
                <a:cubicBezTo>
                  <a:pt x="7615" y="11233"/>
                  <a:pt x="7535" y="11337"/>
                  <a:pt x="7441" y="11435"/>
                </a:cubicBezTo>
                <a:cubicBezTo>
                  <a:pt x="7351" y="11528"/>
                  <a:pt x="7272" y="11634"/>
                  <a:pt x="7169" y="11708"/>
                </a:cubicBezTo>
                <a:cubicBezTo>
                  <a:pt x="7064" y="11784"/>
                  <a:pt x="6946" y="11849"/>
                  <a:pt x="6846" y="11931"/>
                </a:cubicBezTo>
                <a:cubicBezTo>
                  <a:pt x="6771" y="11993"/>
                  <a:pt x="6697" y="12046"/>
                  <a:pt x="6623" y="12105"/>
                </a:cubicBezTo>
                <a:cubicBezTo>
                  <a:pt x="6549" y="12163"/>
                  <a:pt x="6474" y="12222"/>
                  <a:pt x="6400" y="12278"/>
                </a:cubicBezTo>
                <a:cubicBezTo>
                  <a:pt x="6400" y="12303"/>
                  <a:pt x="6400" y="12311"/>
                  <a:pt x="6375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86240" y="3490920"/>
            <a:ext cx="1660680" cy="1241280"/>
          </a:xfrm>
          <a:custGeom>
            <a:avLst/>
            <a:gdLst/>
            <a:ahLst/>
            <a:rect l="l" t="t" r="r" b="b"/>
            <a:pathLst>
              <a:path w="4615" h="3448">
                <a:moveTo>
                  <a:pt x="15925" y="10319"/>
                </a:moveTo>
                <a:cubicBezTo>
                  <a:pt x="15978" y="10337"/>
                  <a:pt x="15904" y="10717"/>
                  <a:pt x="15900" y="10740"/>
                </a:cubicBezTo>
                <a:cubicBezTo>
                  <a:pt x="15869" y="10941"/>
                  <a:pt x="15578" y="11292"/>
                  <a:pt x="15776" y="11336"/>
                </a:cubicBezTo>
                <a:cubicBezTo>
                  <a:pt x="15792" y="11328"/>
                  <a:pt x="15809" y="11319"/>
                  <a:pt x="15825" y="11311"/>
                </a:cubicBezTo>
              </a:path>
              <a:path w="4615" h="3448">
                <a:moveTo>
                  <a:pt x="16619" y="10368"/>
                </a:moveTo>
                <a:cubicBezTo>
                  <a:pt x="16514" y="10368"/>
                  <a:pt x="16426" y="10417"/>
                  <a:pt x="16371" y="10517"/>
                </a:cubicBezTo>
                <a:cubicBezTo>
                  <a:pt x="16317" y="10615"/>
                  <a:pt x="16566" y="10745"/>
                  <a:pt x="16570" y="10840"/>
                </a:cubicBezTo>
                <a:cubicBezTo>
                  <a:pt x="16524" y="10955"/>
                  <a:pt x="16514" y="10990"/>
                  <a:pt x="16446" y="11038"/>
                </a:cubicBezTo>
                <a:cubicBezTo>
                  <a:pt x="16274" y="11063"/>
                  <a:pt x="16425" y="10804"/>
                  <a:pt x="16470" y="10716"/>
                </a:cubicBezTo>
                <a:cubicBezTo>
                  <a:pt x="16520" y="10619"/>
                  <a:pt x="16619" y="10531"/>
                  <a:pt x="16619" y="10418"/>
                </a:cubicBezTo>
              </a:path>
              <a:path w="4615" h="3448">
                <a:moveTo>
                  <a:pt x="17140" y="10021"/>
                </a:moveTo>
                <a:cubicBezTo>
                  <a:pt x="17167" y="9967"/>
                  <a:pt x="17216" y="9920"/>
                  <a:pt x="17264" y="9872"/>
                </a:cubicBezTo>
                <a:cubicBezTo>
                  <a:pt x="17357" y="10034"/>
                  <a:pt x="17272" y="10177"/>
                  <a:pt x="17165" y="10319"/>
                </a:cubicBezTo>
                <a:cubicBezTo>
                  <a:pt x="17093" y="10391"/>
                  <a:pt x="17060" y="10386"/>
                  <a:pt x="17066" y="10443"/>
                </a:cubicBezTo>
                <a:cubicBezTo>
                  <a:pt x="17075" y="10388"/>
                  <a:pt x="17074" y="10323"/>
                  <a:pt x="17140" y="10319"/>
                </a:cubicBezTo>
                <a:cubicBezTo>
                  <a:pt x="17241" y="10314"/>
                  <a:pt x="17341" y="10362"/>
                  <a:pt x="17438" y="10319"/>
                </a:cubicBezTo>
                <a:cubicBezTo>
                  <a:pt x="17446" y="10311"/>
                  <a:pt x="17454" y="10302"/>
                  <a:pt x="17462" y="10294"/>
                </a:cubicBezTo>
              </a:path>
              <a:path w="4615" h="3448">
                <a:moveTo>
                  <a:pt x="17016" y="10492"/>
                </a:moveTo>
                <a:cubicBezTo>
                  <a:pt x="17182" y="10492"/>
                  <a:pt x="17348" y="10473"/>
                  <a:pt x="17512" y="10443"/>
                </a:cubicBezTo>
                <a:cubicBezTo>
                  <a:pt x="17646" y="10418"/>
                  <a:pt x="17585" y="10399"/>
                  <a:pt x="17636" y="10468"/>
                </a:cubicBezTo>
              </a:path>
              <a:path w="4615" h="3448">
                <a:moveTo>
                  <a:pt x="17438" y="10691"/>
                </a:moveTo>
                <a:cubicBezTo>
                  <a:pt x="17354" y="10699"/>
                  <a:pt x="17276" y="10716"/>
                  <a:pt x="17190" y="10716"/>
                </a:cubicBezTo>
                <a:cubicBezTo>
                  <a:pt x="17131" y="10716"/>
                  <a:pt x="17127" y="10890"/>
                  <a:pt x="17115" y="10939"/>
                </a:cubicBezTo>
                <a:cubicBezTo>
                  <a:pt x="17251" y="10909"/>
                  <a:pt x="17275" y="10875"/>
                  <a:pt x="17413" y="10939"/>
                </a:cubicBezTo>
                <a:cubicBezTo>
                  <a:pt x="17427" y="11122"/>
                  <a:pt x="17312" y="11187"/>
                  <a:pt x="17115" y="11187"/>
                </a:cubicBezTo>
                <a:cubicBezTo>
                  <a:pt x="17082" y="11179"/>
                  <a:pt x="17049" y="11170"/>
                  <a:pt x="17016" y="11162"/>
                </a:cubicBezTo>
              </a:path>
              <a:path w="4615" h="3448">
                <a:moveTo>
                  <a:pt x="14684" y="12998"/>
                </a:moveTo>
                <a:cubicBezTo>
                  <a:pt x="14971" y="13108"/>
                  <a:pt x="15295" y="13114"/>
                  <a:pt x="15602" y="13122"/>
                </a:cubicBezTo>
                <a:cubicBezTo>
                  <a:pt x="16267" y="13139"/>
                  <a:pt x="16923" y="13137"/>
                  <a:pt x="17587" y="13097"/>
                </a:cubicBezTo>
                <a:cubicBezTo>
                  <a:pt x="17802" y="13084"/>
                  <a:pt x="18003" y="13060"/>
                  <a:pt x="18207" y="13022"/>
                </a:cubicBezTo>
                <a:cubicBezTo>
                  <a:pt x="18215" y="13022"/>
                  <a:pt x="18223" y="13022"/>
                  <a:pt x="18231" y="13022"/>
                </a:cubicBezTo>
              </a:path>
              <a:path w="4615" h="3448">
                <a:moveTo>
                  <a:pt x="18728" y="10716"/>
                </a:moveTo>
                <a:cubicBezTo>
                  <a:pt x="18743" y="10652"/>
                  <a:pt x="18840" y="10631"/>
                  <a:pt x="18876" y="10716"/>
                </a:cubicBezTo>
                <a:cubicBezTo>
                  <a:pt x="18939" y="10866"/>
                  <a:pt x="18764" y="10994"/>
                  <a:pt x="18653" y="11013"/>
                </a:cubicBezTo>
                <a:cubicBezTo>
                  <a:pt x="18628" y="11013"/>
                  <a:pt x="18620" y="11013"/>
                  <a:pt x="18628" y="10988"/>
                </a:cubicBezTo>
                <a:cubicBezTo>
                  <a:pt x="18710" y="10925"/>
                  <a:pt x="18760" y="10883"/>
                  <a:pt x="18852" y="10964"/>
                </a:cubicBezTo>
                <a:cubicBezTo>
                  <a:pt x="18868" y="10980"/>
                  <a:pt x="18885" y="10997"/>
                  <a:pt x="18901" y="11013"/>
                </a:cubicBezTo>
              </a:path>
              <a:path w="4615" h="3448">
                <a:moveTo>
                  <a:pt x="19100" y="10691"/>
                </a:moveTo>
                <a:cubicBezTo>
                  <a:pt x="19030" y="10796"/>
                  <a:pt x="19035" y="10867"/>
                  <a:pt x="19050" y="10988"/>
                </a:cubicBezTo>
                <a:cubicBezTo>
                  <a:pt x="19115" y="10978"/>
                  <a:pt x="19243" y="10953"/>
                  <a:pt x="19248" y="10864"/>
                </a:cubicBezTo>
                <a:cubicBezTo>
                  <a:pt x="19252" y="10791"/>
                  <a:pt x="19146" y="10778"/>
                  <a:pt x="19100" y="10765"/>
                </a:cubicBezTo>
              </a:path>
              <a:path w="4615" h="3448">
                <a:moveTo>
                  <a:pt x="18752" y="12229"/>
                </a:moveTo>
                <a:cubicBezTo>
                  <a:pt x="18703" y="12262"/>
                  <a:pt x="18703" y="12283"/>
                  <a:pt x="18703" y="12254"/>
                </a:cubicBezTo>
                <a:cubicBezTo>
                  <a:pt x="18819" y="12235"/>
                  <a:pt x="18873" y="12270"/>
                  <a:pt x="18827" y="12427"/>
                </a:cubicBezTo>
                <a:cubicBezTo>
                  <a:pt x="18785" y="12572"/>
                  <a:pt x="18727" y="12613"/>
                  <a:pt x="18604" y="12650"/>
                </a:cubicBezTo>
                <a:cubicBezTo>
                  <a:pt x="18604" y="12576"/>
                  <a:pt x="18599" y="12493"/>
                  <a:pt x="18728" y="12526"/>
                </a:cubicBezTo>
                <a:cubicBezTo>
                  <a:pt x="18774" y="12538"/>
                  <a:pt x="18818" y="12592"/>
                  <a:pt x="18852" y="12626"/>
                </a:cubicBezTo>
              </a:path>
              <a:path w="4615" h="3448">
                <a:moveTo>
                  <a:pt x="19149" y="12278"/>
                </a:moveTo>
                <a:cubicBezTo>
                  <a:pt x="19102" y="12396"/>
                  <a:pt x="19081" y="12480"/>
                  <a:pt x="19100" y="12601"/>
                </a:cubicBezTo>
                <a:cubicBezTo>
                  <a:pt x="19157" y="12588"/>
                  <a:pt x="19415" y="12488"/>
                  <a:pt x="19273" y="12378"/>
                </a:cubicBezTo>
                <a:cubicBezTo>
                  <a:pt x="19183" y="12355"/>
                  <a:pt x="19159" y="12347"/>
                  <a:pt x="19100" y="12353"/>
                </a:cubicBezTo>
              </a:path>
              <a:path w="4615" h="3448">
                <a:moveTo>
                  <a:pt x="18604" y="12229"/>
                </a:moveTo>
                <a:cubicBezTo>
                  <a:pt x="18617" y="12188"/>
                  <a:pt x="18757" y="12186"/>
                  <a:pt x="18802" y="12179"/>
                </a:cubicBezTo>
                <a:cubicBezTo>
                  <a:pt x="18952" y="12156"/>
                  <a:pt x="19097" y="12129"/>
                  <a:pt x="19248" y="12129"/>
                </a:cubicBezTo>
              </a:path>
              <a:path w="4615" h="3448">
                <a:moveTo>
                  <a:pt x="17735" y="10443"/>
                </a:moveTo>
                <a:cubicBezTo>
                  <a:pt x="17735" y="10418"/>
                  <a:pt x="17735" y="10410"/>
                  <a:pt x="17735" y="10393"/>
                </a:cubicBezTo>
                <a:cubicBezTo>
                  <a:pt x="17735" y="10471"/>
                  <a:pt x="17802" y="10563"/>
                  <a:pt x="17859" y="10616"/>
                </a:cubicBezTo>
                <a:cubicBezTo>
                  <a:pt x="17875" y="10631"/>
                  <a:pt x="17886" y="10633"/>
                  <a:pt x="17909" y="10641"/>
                </a:cubicBezTo>
              </a:path>
              <a:path w="4615" h="3448">
                <a:moveTo>
                  <a:pt x="17959" y="10344"/>
                </a:moveTo>
                <a:cubicBezTo>
                  <a:pt x="17899" y="10453"/>
                  <a:pt x="17816" y="10560"/>
                  <a:pt x="17760" y="10666"/>
                </a:cubicBezTo>
                <a:cubicBezTo>
                  <a:pt x="17753" y="10680"/>
                  <a:pt x="17760" y="10724"/>
                  <a:pt x="17760" y="10740"/>
                </a:cubicBezTo>
              </a:path>
              <a:path w="4615" h="3448">
                <a:moveTo>
                  <a:pt x="18157" y="10542"/>
                </a:moveTo>
                <a:cubicBezTo>
                  <a:pt x="18157" y="10622"/>
                  <a:pt x="18111" y="10691"/>
                  <a:pt x="18083" y="10765"/>
                </a:cubicBezTo>
                <a:cubicBezTo>
                  <a:pt x="18158" y="10765"/>
                  <a:pt x="18209" y="10758"/>
                  <a:pt x="18281" y="10740"/>
                </a:cubicBezTo>
              </a:path>
              <a:path w="4615" h="3448">
                <a:moveTo>
                  <a:pt x="18281" y="10616"/>
                </a:moveTo>
                <a:cubicBezTo>
                  <a:pt x="18281" y="10711"/>
                  <a:pt x="18266" y="10796"/>
                  <a:pt x="18256" y="10889"/>
                </a:cubicBezTo>
                <a:cubicBezTo>
                  <a:pt x="18256" y="10931"/>
                  <a:pt x="18256" y="10939"/>
                  <a:pt x="18256" y="10964"/>
                </a:cubicBezTo>
              </a:path>
              <a:path w="4615" h="3448">
                <a:moveTo>
                  <a:pt x="18107" y="10517"/>
                </a:moveTo>
                <a:cubicBezTo>
                  <a:pt x="18082" y="10489"/>
                  <a:pt x="18250" y="10454"/>
                  <a:pt x="18306" y="10443"/>
                </a:cubicBezTo>
                <a:cubicBezTo>
                  <a:pt x="18331" y="10443"/>
                  <a:pt x="18339" y="10443"/>
                  <a:pt x="18355" y="10443"/>
                </a:cubicBezTo>
              </a:path>
              <a:path w="4615" h="3448">
                <a:moveTo>
                  <a:pt x="18083" y="10195"/>
                </a:moveTo>
                <a:cubicBezTo>
                  <a:pt x="18083" y="10243"/>
                  <a:pt x="18081" y="10256"/>
                  <a:pt x="18058" y="10294"/>
                </a:cubicBezTo>
                <a:cubicBezTo>
                  <a:pt x="18094" y="10294"/>
                  <a:pt x="18185" y="10296"/>
                  <a:pt x="18207" y="10269"/>
                </a:cubicBezTo>
                <a:cubicBezTo>
                  <a:pt x="18207" y="10261"/>
                  <a:pt x="18207" y="10252"/>
                  <a:pt x="18207" y="10244"/>
                </a:cubicBezTo>
              </a:path>
              <a:path w="4615" h="3448">
                <a:moveTo>
                  <a:pt x="18157" y="10071"/>
                </a:moveTo>
                <a:cubicBezTo>
                  <a:pt x="18157" y="10170"/>
                  <a:pt x="18178" y="10267"/>
                  <a:pt x="18182" y="10368"/>
                </a:cubicBezTo>
                <a:cubicBezTo>
                  <a:pt x="18182" y="10376"/>
                  <a:pt x="18182" y="10385"/>
                  <a:pt x="18182" y="10393"/>
                </a:cubicBezTo>
              </a:path>
              <a:path w="4615" h="3448">
                <a:moveTo>
                  <a:pt x="18852" y="9699"/>
                </a:moveTo>
                <a:cubicBezTo>
                  <a:pt x="18722" y="9719"/>
                  <a:pt x="18674" y="9753"/>
                  <a:pt x="18579" y="9847"/>
                </a:cubicBezTo>
                <a:cubicBezTo>
                  <a:pt x="18672" y="9987"/>
                  <a:pt x="18865" y="10052"/>
                  <a:pt x="18901" y="10220"/>
                </a:cubicBezTo>
                <a:cubicBezTo>
                  <a:pt x="18893" y="10236"/>
                  <a:pt x="18884" y="10253"/>
                  <a:pt x="18876" y="10269"/>
                </a:cubicBezTo>
                <a:cubicBezTo>
                  <a:pt x="18766" y="10315"/>
                  <a:pt x="18674" y="10316"/>
                  <a:pt x="18678" y="10145"/>
                </a:cubicBezTo>
                <a:cubicBezTo>
                  <a:pt x="18682" y="9985"/>
                  <a:pt x="18750" y="9833"/>
                  <a:pt x="18827" y="9699"/>
                </a:cubicBezTo>
              </a:path>
              <a:path w="4615" h="3448">
                <a:moveTo>
                  <a:pt x="17165" y="9798"/>
                </a:moveTo>
                <a:cubicBezTo>
                  <a:pt x="17198" y="9850"/>
                  <a:pt x="17233" y="9928"/>
                  <a:pt x="17289" y="9971"/>
                </a:cubicBezTo>
                <a:cubicBezTo>
                  <a:pt x="17360" y="10026"/>
                  <a:pt x="17408" y="10071"/>
                  <a:pt x="17487" y="10120"/>
                </a:cubicBezTo>
                <a:cubicBezTo>
                  <a:pt x="17549" y="10159"/>
                  <a:pt x="17597" y="10229"/>
                  <a:pt x="17661" y="10269"/>
                </a:cubicBezTo>
                <a:cubicBezTo>
                  <a:pt x="17725" y="10309"/>
                  <a:pt x="17777" y="10339"/>
                  <a:pt x="17835" y="10368"/>
                </a:cubicBezTo>
                <a:cubicBezTo>
                  <a:pt x="17898" y="10400"/>
                  <a:pt x="17923" y="10457"/>
                  <a:pt x="17983" y="10492"/>
                </a:cubicBezTo>
                <a:cubicBezTo>
                  <a:pt x="18055" y="10534"/>
                  <a:pt x="18075" y="10580"/>
                  <a:pt x="18132" y="10641"/>
                </a:cubicBezTo>
                <a:cubicBezTo>
                  <a:pt x="18153" y="10663"/>
                  <a:pt x="18199" y="10708"/>
                  <a:pt x="18231" y="10740"/>
                </a:cubicBezTo>
                <a:cubicBezTo>
                  <a:pt x="18255" y="10764"/>
                  <a:pt x="18251" y="10776"/>
                  <a:pt x="18281" y="10790"/>
                </a:cubicBezTo>
                <a:cubicBezTo>
                  <a:pt x="18289" y="10790"/>
                  <a:pt x="18298" y="10790"/>
                  <a:pt x="18306" y="10790"/>
                </a:cubicBezTo>
              </a:path>
              <a:path w="4615" h="3448">
                <a:moveTo>
                  <a:pt x="18306" y="10021"/>
                </a:moveTo>
                <a:cubicBezTo>
                  <a:pt x="18271" y="10070"/>
                  <a:pt x="18226" y="10154"/>
                  <a:pt x="18182" y="10195"/>
                </a:cubicBezTo>
                <a:cubicBezTo>
                  <a:pt x="18143" y="10231"/>
                  <a:pt x="18078" y="10280"/>
                  <a:pt x="18033" y="10319"/>
                </a:cubicBezTo>
                <a:cubicBezTo>
                  <a:pt x="17971" y="10374"/>
                  <a:pt x="17899" y="10394"/>
                  <a:pt x="17835" y="10443"/>
                </a:cubicBezTo>
                <a:cubicBezTo>
                  <a:pt x="17774" y="10490"/>
                  <a:pt x="17722" y="10546"/>
                  <a:pt x="17661" y="10592"/>
                </a:cubicBezTo>
                <a:cubicBezTo>
                  <a:pt x="17569" y="10661"/>
                  <a:pt x="17484" y="10704"/>
                  <a:pt x="17388" y="10765"/>
                </a:cubicBezTo>
                <a:cubicBezTo>
                  <a:pt x="17319" y="10809"/>
                  <a:pt x="17264" y="10873"/>
                  <a:pt x="17214" y="10939"/>
                </a:cubicBezTo>
                <a:cubicBezTo>
                  <a:pt x="17153" y="11020"/>
                  <a:pt x="17087" y="11086"/>
                  <a:pt x="17016" y="11162"/>
                </a:cubicBezTo>
                <a:cubicBezTo>
                  <a:pt x="17016" y="11187"/>
                  <a:pt x="17016" y="11195"/>
                  <a:pt x="16991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23120" y="3429000"/>
            <a:ext cx="623880" cy="758880"/>
          </a:xfrm>
          <a:custGeom>
            <a:avLst/>
            <a:gdLst/>
            <a:ahLst/>
            <a:rect l="l" t="t" r="r" b="b"/>
            <a:pathLst>
              <a:path w="1737" h="2109">
                <a:moveTo>
                  <a:pt x="20414" y="10244"/>
                </a:moveTo>
                <a:cubicBezTo>
                  <a:pt x="20436" y="10395"/>
                  <a:pt x="20439" y="10538"/>
                  <a:pt x="20439" y="10691"/>
                </a:cubicBezTo>
                <a:cubicBezTo>
                  <a:pt x="20439" y="10726"/>
                  <a:pt x="20444" y="10725"/>
                  <a:pt x="20464" y="10666"/>
                </a:cubicBezTo>
              </a:path>
              <a:path w="1737" h="2109">
                <a:moveTo>
                  <a:pt x="20985" y="10096"/>
                </a:moveTo>
                <a:cubicBezTo>
                  <a:pt x="20906" y="10116"/>
                  <a:pt x="20739" y="10192"/>
                  <a:pt x="20762" y="10319"/>
                </a:cubicBezTo>
                <a:cubicBezTo>
                  <a:pt x="20779" y="10413"/>
                  <a:pt x="20997" y="10488"/>
                  <a:pt x="20910" y="10592"/>
                </a:cubicBezTo>
                <a:cubicBezTo>
                  <a:pt x="20845" y="10635"/>
                  <a:pt x="20830" y="10656"/>
                  <a:pt x="20786" y="10616"/>
                </a:cubicBezTo>
                <a:cubicBezTo>
                  <a:pt x="20803" y="10476"/>
                  <a:pt x="20830" y="10340"/>
                  <a:pt x="20910" y="10220"/>
                </a:cubicBezTo>
                <a:cubicBezTo>
                  <a:pt x="20918" y="10212"/>
                  <a:pt x="20927" y="10203"/>
                  <a:pt x="20935" y="10195"/>
                </a:cubicBezTo>
              </a:path>
              <a:path w="1737" h="2109">
                <a:moveTo>
                  <a:pt x="21704" y="9525"/>
                </a:moveTo>
                <a:cubicBezTo>
                  <a:pt x="21605" y="9547"/>
                  <a:pt x="21492" y="9599"/>
                  <a:pt x="21555" y="9723"/>
                </a:cubicBezTo>
                <a:cubicBezTo>
                  <a:pt x="21621" y="9855"/>
                  <a:pt x="21810" y="9937"/>
                  <a:pt x="21605" y="10071"/>
                </a:cubicBezTo>
                <a:cubicBezTo>
                  <a:pt x="21588" y="10071"/>
                  <a:pt x="21572" y="10071"/>
                  <a:pt x="21555" y="10071"/>
                </a:cubicBezTo>
                <a:cubicBezTo>
                  <a:pt x="21574" y="9908"/>
                  <a:pt x="21654" y="9823"/>
                  <a:pt x="21704" y="9674"/>
                </a:cubicBezTo>
                <a:cubicBezTo>
                  <a:pt x="21719" y="9630"/>
                  <a:pt x="21683" y="9639"/>
                  <a:pt x="21729" y="9624"/>
                </a:cubicBezTo>
              </a:path>
              <a:path w="1737" h="2109">
                <a:moveTo>
                  <a:pt x="21481" y="10269"/>
                </a:moveTo>
                <a:cubicBezTo>
                  <a:pt x="21660" y="10196"/>
                  <a:pt x="21808" y="10133"/>
                  <a:pt x="22002" y="10120"/>
                </a:cubicBezTo>
              </a:path>
              <a:path w="1737" h="2109">
                <a:moveTo>
                  <a:pt x="21481" y="10393"/>
                </a:moveTo>
                <a:cubicBezTo>
                  <a:pt x="21547" y="10349"/>
                  <a:pt x="21557" y="10352"/>
                  <a:pt x="21630" y="10368"/>
                </a:cubicBezTo>
                <a:cubicBezTo>
                  <a:pt x="21611" y="10465"/>
                  <a:pt x="21525" y="10523"/>
                  <a:pt x="21456" y="10592"/>
                </a:cubicBezTo>
                <a:cubicBezTo>
                  <a:pt x="21433" y="10614"/>
                  <a:pt x="21425" y="10619"/>
                  <a:pt x="21431" y="10641"/>
                </a:cubicBezTo>
                <a:cubicBezTo>
                  <a:pt x="21533" y="10641"/>
                  <a:pt x="21609" y="10629"/>
                  <a:pt x="21704" y="10592"/>
                </a:cubicBezTo>
              </a:path>
              <a:path w="1737" h="2109">
                <a:moveTo>
                  <a:pt x="21927" y="10344"/>
                </a:moveTo>
                <a:cubicBezTo>
                  <a:pt x="21859" y="10432"/>
                  <a:pt x="21829" y="10486"/>
                  <a:pt x="21853" y="10592"/>
                </a:cubicBezTo>
                <a:cubicBezTo>
                  <a:pt x="21941" y="10598"/>
                  <a:pt x="22179" y="10554"/>
                  <a:pt x="22051" y="10393"/>
                </a:cubicBezTo>
                <a:cubicBezTo>
                  <a:pt x="21978" y="10368"/>
                  <a:pt x="21955" y="10360"/>
                  <a:pt x="21903" y="10368"/>
                </a:cubicBezTo>
              </a:path>
              <a:path w="1737" h="2109">
                <a:moveTo>
                  <a:pt x="20340" y="11633"/>
                </a:moveTo>
                <a:cubicBezTo>
                  <a:pt x="20406" y="11633"/>
                  <a:pt x="20472" y="11633"/>
                  <a:pt x="20538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7160" y="3786120"/>
            <a:ext cx="1652760" cy="2241720"/>
          </a:xfrm>
          <a:custGeom>
            <a:avLst/>
            <a:gdLst/>
            <a:ahLst/>
            <a:rect l="l" t="t" r="r" b="b"/>
            <a:pathLst>
              <a:path w="4590" h="6227">
                <a:moveTo>
                  <a:pt x="3373" y="11162"/>
                </a:moveTo>
                <a:cubicBezTo>
                  <a:pt x="3392" y="11267"/>
                  <a:pt x="3367" y="11359"/>
                  <a:pt x="3398" y="11286"/>
                </a:cubicBezTo>
                <a:cubicBezTo>
                  <a:pt x="3464" y="11129"/>
                  <a:pt x="3711" y="11154"/>
                  <a:pt x="3870" y="11112"/>
                </a:cubicBezTo>
                <a:cubicBezTo>
                  <a:pt x="3895" y="11104"/>
                  <a:pt x="3919" y="11096"/>
                  <a:pt x="3944" y="11088"/>
                </a:cubicBezTo>
                <a:cubicBezTo>
                  <a:pt x="3925" y="11345"/>
                  <a:pt x="3852" y="11564"/>
                  <a:pt x="3770" y="11807"/>
                </a:cubicBezTo>
                <a:cubicBezTo>
                  <a:pt x="3737" y="11905"/>
                  <a:pt x="3696" y="12208"/>
                  <a:pt x="3696" y="12105"/>
                </a:cubicBezTo>
                <a:cubicBezTo>
                  <a:pt x="3696" y="12097"/>
                  <a:pt x="3696" y="12088"/>
                  <a:pt x="3696" y="12080"/>
                </a:cubicBezTo>
              </a:path>
              <a:path w="4590" h="6227">
                <a:moveTo>
                  <a:pt x="4986" y="10641"/>
                </a:moveTo>
                <a:cubicBezTo>
                  <a:pt x="4986" y="10809"/>
                  <a:pt x="4986" y="10970"/>
                  <a:pt x="4961" y="11137"/>
                </a:cubicBezTo>
                <a:cubicBezTo>
                  <a:pt x="4953" y="11170"/>
                  <a:pt x="4944" y="11204"/>
                  <a:pt x="4936" y="11237"/>
                </a:cubicBezTo>
              </a:path>
              <a:path w="4590" h="6227">
                <a:moveTo>
                  <a:pt x="4539" y="11336"/>
                </a:moveTo>
                <a:cubicBezTo>
                  <a:pt x="4791" y="11336"/>
                  <a:pt x="5060" y="11285"/>
                  <a:pt x="5308" y="11311"/>
                </a:cubicBezTo>
                <a:cubicBezTo>
                  <a:pt x="5325" y="11319"/>
                  <a:pt x="5341" y="11328"/>
                  <a:pt x="5358" y="11336"/>
                </a:cubicBezTo>
              </a:path>
              <a:path w="4590" h="6227">
                <a:moveTo>
                  <a:pt x="4911" y="11733"/>
                </a:moveTo>
                <a:cubicBezTo>
                  <a:pt x="4846" y="11699"/>
                  <a:pt x="5070" y="11643"/>
                  <a:pt x="5110" y="11633"/>
                </a:cubicBezTo>
                <a:cubicBezTo>
                  <a:pt x="5118" y="11633"/>
                  <a:pt x="5127" y="11633"/>
                  <a:pt x="5135" y="11633"/>
                </a:cubicBezTo>
                <a:cubicBezTo>
                  <a:pt x="5135" y="11844"/>
                  <a:pt x="5054" y="11887"/>
                  <a:pt x="4911" y="12030"/>
                </a:cubicBezTo>
                <a:cubicBezTo>
                  <a:pt x="4843" y="12097"/>
                  <a:pt x="4738" y="12206"/>
                  <a:pt x="4713" y="12278"/>
                </a:cubicBezTo>
                <a:cubicBezTo>
                  <a:pt x="4740" y="12234"/>
                  <a:pt x="4817" y="12142"/>
                  <a:pt x="4887" y="12154"/>
                </a:cubicBezTo>
                <a:cubicBezTo>
                  <a:pt x="5060" y="12183"/>
                  <a:pt x="5068" y="12270"/>
                  <a:pt x="5259" y="12179"/>
                </a:cubicBezTo>
                <a:cubicBezTo>
                  <a:pt x="5284" y="12162"/>
                  <a:pt x="5308" y="12146"/>
                  <a:pt x="5333" y="12129"/>
                </a:cubicBezTo>
              </a:path>
              <a:path w="4590" h="6227">
                <a:moveTo>
                  <a:pt x="3646" y="13022"/>
                </a:moveTo>
                <a:cubicBezTo>
                  <a:pt x="3702" y="13177"/>
                  <a:pt x="3673" y="13255"/>
                  <a:pt x="3572" y="13395"/>
                </a:cubicBezTo>
                <a:cubicBezTo>
                  <a:pt x="3743" y="13272"/>
                  <a:pt x="3776" y="13322"/>
                  <a:pt x="3919" y="13419"/>
                </a:cubicBezTo>
                <a:cubicBezTo>
                  <a:pt x="3960" y="13439"/>
                  <a:pt x="3976" y="13437"/>
                  <a:pt x="3969" y="13469"/>
                </a:cubicBezTo>
              </a:path>
              <a:path w="4590" h="6227">
                <a:moveTo>
                  <a:pt x="4018" y="12973"/>
                </a:moveTo>
                <a:cubicBezTo>
                  <a:pt x="4055" y="13244"/>
                  <a:pt x="4063" y="13540"/>
                  <a:pt x="4043" y="13816"/>
                </a:cubicBezTo>
                <a:cubicBezTo>
                  <a:pt x="4033" y="13952"/>
                  <a:pt x="4025" y="13966"/>
                  <a:pt x="4043" y="14089"/>
                </a:cubicBezTo>
              </a:path>
              <a:path w="4590" h="6227">
                <a:moveTo>
                  <a:pt x="4986" y="13022"/>
                </a:moveTo>
                <a:cubicBezTo>
                  <a:pt x="5104" y="13022"/>
                  <a:pt x="5216" y="13005"/>
                  <a:pt x="5333" y="12998"/>
                </a:cubicBezTo>
                <a:cubicBezTo>
                  <a:pt x="5341" y="12998"/>
                  <a:pt x="5350" y="12998"/>
                  <a:pt x="5358" y="12998"/>
                </a:cubicBezTo>
                <a:cubicBezTo>
                  <a:pt x="5258" y="13130"/>
                  <a:pt x="5181" y="13270"/>
                  <a:pt x="5110" y="13419"/>
                </a:cubicBezTo>
              </a:path>
              <a:path w="4590" h="6227">
                <a:moveTo>
                  <a:pt x="4812" y="13742"/>
                </a:moveTo>
                <a:cubicBezTo>
                  <a:pt x="5053" y="13734"/>
                  <a:pt x="5424" y="13614"/>
                  <a:pt x="5655" y="13692"/>
                </a:cubicBezTo>
                <a:cubicBezTo>
                  <a:pt x="5655" y="13700"/>
                  <a:pt x="5655" y="13709"/>
                  <a:pt x="5655" y="13717"/>
                </a:cubicBezTo>
              </a:path>
              <a:path w="4590" h="6227">
                <a:moveTo>
                  <a:pt x="5308" y="14064"/>
                </a:moveTo>
                <a:cubicBezTo>
                  <a:pt x="5195" y="14111"/>
                  <a:pt x="5113" y="14165"/>
                  <a:pt x="5011" y="14238"/>
                </a:cubicBezTo>
                <a:cubicBezTo>
                  <a:pt x="5120" y="14307"/>
                  <a:pt x="5340" y="14338"/>
                  <a:pt x="5383" y="14486"/>
                </a:cubicBezTo>
                <a:cubicBezTo>
                  <a:pt x="5429" y="14648"/>
                  <a:pt x="5233" y="14615"/>
                  <a:pt x="5159" y="14610"/>
                </a:cubicBezTo>
                <a:cubicBezTo>
                  <a:pt x="5177" y="14467"/>
                  <a:pt x="5204" y="14277"/>
                  <a:pt x="5308" y="14163"/>
                </a:cubicBezTo>
                <a:cubicBezTo>
                  <a:pt x="5333" y="14163"/>
                  <a:pt x="5341" y="14163"/>
                  <a:pt x="5333" y="14139"/>
                </a:cubicBezTo>
              </a:path>
              <a:path w="4590" h="6227">
                <a:moveTo>
                  <a:pt x="2381" y="15156"/>
                </a:moveTo>
                <a:cubicBezTo>
                  <a:pt x="2667" y="15147"/>
                  <a:pt x="2938" y="15152"/>
                  <a:pt x="3225" y="15156"/>
                </a:cubicBezTo>
                <a:cubicBezTo>
                  <a:pt x="4018" y="15166"/>
                  <a:pt x="4814" y="15156"/>
                  <a:pt x="5606" y="15180"/>
                </a:cubicBezTo>
                <a:cubicBezTo>
                  <a:pt x="5752" y="15184"/>
                  <a:pt x="5904" y="15200"/>
                  <a:pt x="6052" y="15205"/>
                </a:cubicBezTo>
              </a:path>
              <a:path w="4590" h="6227">
                <a:moveTo>
                  <a:pt x="6672" y="11609"/>
                </a:moveTo>
                <a:cubicBezTo>
                  <a:pt x="6779" y="11573"/>
                  <a:pt x="6537" y="11603"/>
                  <a:pt x="6524" y="11609"/>
                </a:cubicBezTo>
                <a:cubicBezTo>
                  <a:pt x="6467" y="11633"/>
                  <a:pt x="6340" y="11734"/>
                  <a:pt x="6424" y="11807"/>
                </a:cubicBezTo>
                <a:cubicBezTo>
                  <a:pt x="6530" y="11899"/>
                  <a:pt x="6700" y="11913"/>
                  <a:pt x="6747" y="12055"/>
                </a:cubicBezTo>
                <a:cubicBezTo>
                  <a:pt x="6747" y="12072"/>
                  <a:pt x="6747" y="12088"/>
                  <a:pt x="6747" y="12105"/>
                </a:cubicBezTo>
                <a:cubicBezTo>
                  <a:pt x="6624" y="12148"/>
                  <a:pt x="6614" y="12153"/>
                  <a:pt x="6499" y="12080"/>
                </a:cubicBezTo>
                <a:cubicBezTo>
                  <a:pt x="6551" y="11945"/>
                  <a:pt x="6609" y="11891"/>
                  <a:pt x="6697" y="11782"/>
                </a:cubicBezTo>
                <a:cubicBezTo>
                  <a:pt x="6744" y="11724"/>
                  <a:pt x="6773" y="11700"/>
                  <a:pt x="6722" y="11683"/>
                </a:cubicBezTo>
              </a:path>
              <a:path w="4590" h="6227">
                <a:moveTo>
                  <a:pt x="6127" y="11385"/>
                </a:moveTo>
                <a:cubicBezTo>
                  <a:pt x="6262" y="11385"/>
                  <a:pt x="6391" y="11367"/>
                  <a:pt x="6524" y="11361"/>
                </a:cubicBezTo>
                <a:cubicBezTo>
                  <a:pt x="6672" y="11355"/>
                  <a:pt x="6822" y="11361"/>
                  <a:pt x="6970" y="11361"/>
                </a:cubicBezTo>
              </a:path>
              <a:path w="4590" h="6227">
                <a:moveTo>
                  <a:pt x="5457" y="11361"/>
                </a:moveTo>
                <a:cubicBezTo>
                  <a:pt x="5471" y="11428"/>
                  <a:pt x="5503" y="11495"/>
                  <a:pt x="5531" y="11559"/>
                </a:cubicBezTo>
              </a:path>
              <a:path w="4590" h="6227">
                <a:moveTo>
                  <a:pt x="5556" y="11336"/>
                </a:moveTo>
                <a:cubicBezTo>
                  <a:pt x="5539" y="11365"/>
                  <a:pt x="5429" y="11609"/>
                  <a:pt x="5432" y="11609"/>
                </a:cubicBezTo>
                <a:cubicBezTo>
                  <a:pt x="5449" y="11601"/>
                  <a:pt x="5465" y="11592"/>
                  <a:pt x="5482" y="11584"/>
                </a:cubicBezTo>
              </a:path>
              <a:path w="4590" h="6227">
                <a:moveTo>
                  <a:pt x="5655" y="11509"/>
                </a:moveTo>
                <a:cubicBezTo>
                  <a:pt x="5655" y="11608"/>
                  <a:pt x="5677" y="11605"/>
                  <a:pt x="5779" y="11609"/>
                </a:cubicBezTo>
                <a:cubicBezTo>
                  <a:pt x="5889" y="11613"/>
                  <a:pt x="5868" y="11632"/>
                  <a:pt x="5879" y="11534"/>
                </a:cubicBezTo>
              </a:path>
              <a:path w="4590" h="6227">
                <a:moveTo>
                  <a:pt x="5854" y="11460"/>
                </a:moveTo>
                <a:cubicBezTo>
                  <a:pt x="5813" y="11581"/>
                  <a:pt x="5798" y="11710"/>
                  <a:pt x="5755" y="11832"/>
                </a:cubicBezTo>
              </a:path>
              <a:path w="4590" h="6227">
                <a:moveTo>
                  <a:pt x="5680" y="11435"/>
                </a:moveTo>
                <a:cubicBezTo>
                  <a:pt x="5757" y="11424"/>
                  <a:pt x="5825" y="11410"/>
                  <a:pt x="5904" y="11410"/>
                </a:cubicBezTo>
                <a:cubicBezTo>
                  <a:pt x="5912" y="11410"/>
                  <a:pt x="5920" y="11410"/>
                  <a:pt x="5928" y="11410"/>
                </a:cubicBezTo>
              </a:path>
              <a:path w="4590" h="6227">
                <a:moveTo>
                  <a:pt x="5779" y="11013"/>
                </a:moveTo>
                <a:cubicBezTo>
                  <a:pt x="5779" y="11057"/>
                  <a:pt x="5765" y="11073"/>
                  <a:pt x="5755" y="11112"/>
                </a:cubicBezTo>
                <a:cubicBezTo>
                  <a:pt x="5821" y="11112"/>
                  <a:pt x="5868" y="11100"/>
                  <a:pt x="5928" y="11088"/>
                </a:cubicBezTo>
              </a:path>
              <a:path w="4590" h="6227">
                <a:moveTo>
                  <a:pt x="5904" y="10889"/>
                </a:moveTo>
                <a:cubicBezTo>
                  <a:pt x="5864" y="11022"/>
                  <a:pt x="5859" y="11169"/>
                  <a:pt x="5854" y="11311"/>
                </a:cubicBezTo>
                <a:cubicBezTo>
                  <a:pt x="5854" y="11319"/>
                  <a:pt x="5854" y="11328"/>
                  <a:pt x="5854" y="11336"/>
                </a:cubicBezTo>
              </a:path>
              <a:path w="4590" h="6227">
                <a:moveTo>
                  <a:pt x="6300" y="10616"/>
                </a:moveTo>
                <a:cubicBezTo>
                  <a:pt x="6267" y="10690"/>
                  <a:pt x="6219" y="10769"/>
                  <a:pt x="6201" y="10840"/>
                </a:cubicBezTo>
                <a:cubicBezTo>
                  <a:pt x="6314" y="10840"/>
                  <a:pt x="6415" y="10847"/>
                  <a:pt x="6524" y="10864"/>
                </a:cubicBezTo>
                <a:cubicBezTo>
                  <a:pt x="6532" y="10864"/>
                  <a:pt x="6540" y="10864"/>
                  <a:pt x="6548" y="10864"/>
                </a:cubicBezTo>
              </a:path>
              <a:path w="4590" h="6227">
                <a:moveTo>
                  <a:pt x="6573" y="10517"/>
                </a:moveTo>
                <a:cubicBezTo>
                  <a:pt x="6517" y="10536"/>
                  <a:pt x="6548" y="10693"/>
                  <a:pt x="6548" y="10740"/>
                </a:cubicBezTo>
                <a:cubicBezTo>
                  <a:pt x="6548" y="10963"/>
                  <a:pt x="6548" y="11584"/>
                  <a:pt x="6548" y="11361"/>
                </a:cubicBezTo>
              </a:path>
              <a:path w="4590" h="6227">
                <a:moveTo>
                  <a:pt x="4787" y="10517"/>
                </a:moveTo>
                <a:cubicBezTo>
                  <a:pt x="4838" y="10585"/>
                  <a:pt x="4935" y="10710"/>
                  <a:pt x="5011" y="10790"/>
                </a:cubicBezTo>
                <a:cubicBezTo>
                  <a:pt x="5141" y="10926"/>
                  <a:pt x="5236" y="11065"/>
                  <a:pt x="5383" y="11187"/>
                </a:cubicBezTo>
                <a:cubicBezTo>
                  <a:pt x="5496" y="11280"/>
                  <a:pt x="5553" y="11350"/>
                  <a:pt x="5631" y="11460"/>
                </a:cubicBezTo>
                <a:cubicBezTo>
                  <a:pt x="5672" y="11518"/>
                  <a:pt x="5720" y="11545"/>
                  <a:pt x="5755" y="11609"/>
                </a:cubicBezTo>
                <a:cubicBezTo>
                  <a:pt x="5788" y="11669"/>
                  <a:pt x="5847" y="11696"/>
                  <a:pt x="5879" y="11733"/>
                </a:cubicBezTo>
                <a:cubicBezTo>
                  <a:pt x="5912" y="11770"/>
                  <a:pt x="5896" y="11824"/>
                  <a:pt x="5953" y="11832"/>
                </a:cubicBezTo>
                <a:cubicBezTo>
                  <a:pt x="5953" y="11824"/>
                  <a:pt x="5953" y="11815"/>
                  <a:pt x="5953" y="11807"/>
                </a:cubicBezTo>
              </a:path>
              <a:path w="4590" h="6227">
                <a:moveTo>
                  <a:pt x="6003" y="10716"/>
                </a:moveTo>
                <a:cubicBezTo>
                  <a:pt x="5922" y="10826"/>
                  <a:pt x="5838" y="10931"/>
                  <a:pt x="5755" y="11038"/>
                </a:cubicBezTo>
                <a:cubicBezTo>
                  <a:pt x="5658" y="11162"/>
                  <a:pt x="5560" y="11291"/>
                  <a:pt x="5457" y="11410"/>
                </a:cubicBezTo>
                <a:cubicBezTo>
                  <a:pt x="5373" y="11508"/>
                  <a:pt x="5294" y="11612"/>
                  <a:pt x="5209" y="11708"/>
                </a:cubicBezTo>
                <a:cubicBezTo>
                  <a:pt x="5128" y="11799"/>
                  <a:pt x="5098" y="11861"/>
                  <a:pt x="5035" y="11956"/>
                </a:cubicBezTo>
                <a:cubicBezTo>
                  <a:pt x="4991" y="12022"/>
                  <a:pt x="4935" y="12091"/>
                  <a:pt x="4887" y="12154"/>
                </a:cubicBezTo>
                <a:cubicBezTo>
                  <a:pt x="4870" y="12176"/>
                  <a:pt x="4856" y="12193"/>
                  <a:pt x="4837" y="12229"/>
                </a:cubicBezTo>
                <a:cubicBezTo>
                  <a:pt x="4826" y="12249"/>
                  <a:pt x="4823" y="12282"/>
                  <a:pt x="4812" y="12303"/>
                </a:cubicBezTo>
              </a:path>
              <a:path w="4590" h="6227">
                <a:moveTo>
                  <a:pt x="5035" y="15974"/>
                </a:moveTo>
                <a:cubicBezTo>
                  <a:pt x="5225" y="16001"/>
                  <a:pt x="5417" y="15973"/>
                  <a:pt x="5606" y="15999"/>
                </a:cubicBezTo>
                <a:cubicBezTo>
                  <a:pt x="5664" y="16007"/>
                  <a:pt x="5678" y="16024"/>
                  <a:pt x="5730" y="16024"/>
                </a:cubicBezTo>
              </a:path>
              <a:path w="4590" h="6227">
                <a:moveTo>
                  <a:pt x="5482" y="16222"/>
                </a:moveTo>
                <a:cubicBezTo>
                  <a:pt x="5412" y="16222"/>
                  <a:pt x="5321" y="16244"/>
                  <a:pt x="5259" y="16272"/>
                </a:cubicBezTo>
                <a:cubicBezTo>
                  <a:pt x="5221" y="16289"/>
                  <a:pt x="5155" y="16380"/>
                  <a:pt x="5184" y="16421"/>
                </a:cubicBezTo>
                <a:cubicBezTo>
                  <a:pt x="5239" y="16501"/>
                  <a:pt x="5355" y="16514"/>
                  <a:pt x="5407" y="16619"/>
                </a:cubicBezTo>
                <a:cubicBezTo>
                  <a:pt x="5454" y="16714"/>
                  <a:pt x="5352" y="16698"/>
                  <a:pt x="5308" y="16718"/>
                </a:cubicBezTo>
                <a:cubicBezTo>
                  <a:pt x="5256" y="16742"/>
                  <a:pt x="5218" y="16692"/>
                  <a:pt x="5234" y="16619"/>
                </a:cubicBezTo>
                <a:cubicBezTo>
                  <a:pt x="5240" y="16592"/>
                  <a:pt x="5291" y="16483"/>
                  <a:pt x="5308" y="16470"/>
                </a:cubicBezTo>
                <a:cubicBezTo>
                  <a:pt x="5355" y="16433"/>
                  <a:pt x="5411" y="16412"/>
                  <a:pt x="5457" y="16371"/>
                </a:cubicBezTo>
                <a:cubicBezTo>
                  <a:pt x="5511" y="16322"/>
                  <a:pt x="5462" y="16337"/>
                  <a:pt x="5457" y="16297"/>
                </a:cubicBezTo>
                <a:cubicBezTo>
                  <a:pt x="5457" y="16289"/>
                  <a:pt x="5457" y="16280"/>
                  <a:pt x="5457" y="16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6160" y="4321080"/>
            <a:ext cx="142920" cy="1800"/>
          </a:xfrm>
          <a:custGeom>
            <a:avLst/>
            <a:gdLst/>
            <a:ahLst/>
            <a:rect l="l" t="t" r="r" b="b"/>
            <a:pathLst>
              <a:path w="398" h="1">
                <a:moveTo>
                  <a:pt x="15156" y="12005"/>
                </a:moveTo>
                <a:cubicBezTo>
                  <a:pt x="15288" y="12005"/>
                  <a:pt x="15421" y="12005"/>
                  <a:pt x="15553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11920" y="4179960"/>
            <a:ext cx="919080" cy="436320"/>
          </a:xfrm>
          <a:custGeom>
            <a:avLst/>
            <a:gdLst/>
            <a:ahLst/>
            <a:rect l="l" t="t" r="r" b="b"/>
            <a:pathLst>
              <a:path w="2556" h="1216">
                <a:moveTo>
                  <a:pt x="16793" y="12254"/>
                </a:moveTo>
                <a:cubicBezTo>
                  <a:pt x="16775" y="12162"/>
                  <a:pt x="16723" y="12063"/>
                  <a:pt x="16644" y="12005"/>
                </a:cubicBezTo>
                <a:cubicBezTo>
                  <a:pt x="16473" y="11878"/>
                  <a:pt x="16417" y="12001"/>
                  <a:pt x="16421" y="12179"/>
                </a:cubicBezTo>
                <a:cubicBezTo>
                  <a:pt x="16429" y="12212"/>
                  <a:pt x="16438" y="12245"/>
                  <a:pt x="16446" y="12278"/>
                </a:cubicBezTo>
                <a:cubicBezTo>
                  <a:pt x="16581" y="12251"/>
                  <a:pt x="16639" y="12194"/>
                  <a:pt x="16718" y="12080"/>
                </a:cubicBezTo>
                <a:cubicBezTo>
                  <a:pt x="16738" y="12313"/>
                  <a:pt x="16674" y="12495"/>
                  <a:pt x="16644" y="12725"/>
                </a:cubicBezTo>
                <a:cubicBezTo>
                  <a:pt x="16644" y="12786"/>
                  <a:pt x="16635" y="12820"/>
                  <a:pt x="16669" y="12774"/>
                </a:cubicBezTo>
              </a:path>
              <a:path w="2556" h="1216">
                <a:moveTo>
                  <a:pt x="17289" y="11857"/>
                </a:moveTo>
                <a:cubicBezTo>
                  <a:pt x="17343" y="11839"/>
                  <a:pt x="17378" y="11794"/>
                  <a:pt x="17413" y="11782"/>
                </a:cubicBezTo>
                <a:cubicBezTo>
                  <a:pt x="17403" y="11862"/>
                  <a:pt x="17403" y="11860"/>
                  <a:pt x="17338" y="11906"/>
                </a:cubicBezTo>
                <a:cubicBezTo>
                  <a:pt x="17350" y="11931"/>
                  <a:pt x="17437" y="11889"/>
                  <a:pt x="17462" y="11981"/>
                </a:cubicBezTo>
                <a:cubicBezTo>
                  <a:pt x="17496" y="12106"/>
                  <a:pt x="17349" y="12117"/>
                  <a:pt x="17264" y="12129"/>
                </a:cubicBezTo>
              </a:path>
              <a:path w="2556" h="1216">
                <a:moveTo>
                  <a:pt x="17140" y="12278"/>
                </a:moveTo>
                <a:cubicBezTo>
                  <a:pt x="17321" y="12254"/>
                  <a:pt x="17500" y="12200"/>
                  <a:pt x="17686" y="12179"/>
                </a:cubicBezTo>
                <a:cubicBezTo>
                  <a:pt x="17727" y="12179"/>
                  <a:pt x="17743" y="12171"/>
                  <a:pt x="17735" y="12204"/>
                </a:cubicBezTo>
              </a:path>
              <a:path w="2556" h="1216">
                <a:moveTo>
                  <a:pt x="17338" y="12452"/>
                </a:moveTo>
                <a:cubicBezTo>
                  <a:pt x="17329" y="12524"/>
                  <a:pt x="17313" y="12584"/>
                  <a:pt x="17289" y="12650"/>
                </a:cubicBezTo>
                <a:cubicBezTo>
                  <a:pt x="17402" y="12644"/>
                  <a:pt x="17500" y="12627"/>
                  <a:pt x="17611" y="12601"/>
                </a:cubicBezTo>
              </a:path>
              <a:path w="2556" h="1216">
                <a:moveTo>
                  <a:pt x="17735" y="12154"/>
                </a:moveTo>
                <a:cubicBezTo>
                  <a:pt x="17735" y="12146"/>
                  <a:pt x="17735" y="12137"/>
                  <a:pt x="17735" y="12129"/>
                </a:cubicBezTo>
                <a:cubicBezTo>
                  <a:pt x="17796" y="12144"/>
                  <a:pt x="17867" y="12201"/>
                  <a:pt x="17909" y="12254"/>
                </a:cubicBezTo>
                <a:cubicBezTo>
                  <a:pt x="17917" y="12270"/>
                  <a:pt x="17926" y="12287"/>
                  <a:pt x="17934" y="12303"/>
                </a:cubicBezTo>
              </a:path>
              <a:path w="2556" h="1216">
                <a:moveTo>
                  <a:pt x="17959" y="12055"/>
                </a:moveTo>
                <a:cubicBezTo>
                  <a:pt x="17894" y="12158"/>
                  <a:pt x="17865" y="12307"/>
                  <a:pt x="17785" y="12402"/>
                </a:cubicBezTo>
                <a:cubicBezTo>
                  <a:pt x="17785" y="12394"/>
                  <a:pt x="17785" y="12386"/>
                  <a:pt x="17785" y="12378"/>
                </a:cubicBezTo>
              </a:path>
              <a:path w="2556" h="1216">
                <a:moveTo>
                  <a:pt x="18281" y="12254"/>
                </a:moveTo>
                <a:cubicBezTo>
                  <a:pt x="18269" y="12258"/>
                  <a:pt x="18192" y="12268"/>
                  <a:pt x="18182" y="12278"/>
                </a:cubicBezTo>
                <a:cubicBezTo>
                  <a:pt x="18164" y="12296"/>
                  <a:pt x="18162" y="12370"/>
                  <a:pt x="18157" y="12402"/>
                </a:cubicBezTo>
                <a:cubicBezTo>
                  <a:pt x="18170" y="12427"/>
                  <a:pt x="18223" y="12385"/>
                  <a:pt x="18281" y="12427"/>
                </a:cubicBezTo>
                <a:cubicBezTo>
                  <a:pt x="18365" y="12488"/>
                  <a:pt x="18249" y="12576"/>
                  <a:pt x="18182" y="12576"/>
                </a:cubicBezTo>
                <a:cubicBezTo>
                  <a:pt x="18174" y="12568"/>
                  <a:pt x="18165" y="12559"/>
                  <a:pt x="18157" y="12551"/>
                </a:cubicBezTo>
              </a:path>
              <a:path w="2556" h="1216">
                <a:moveTo>
                  <a:pt x="18157" y="12254"/>
                </a:moveTo>
                <a:cubicBezTo>
                  <a:pt x="18149" y="12254"/>
                  <a:pt x="18140" y="12254"/>
                  <a:pt x="18132" y="12254"/>
                </a:cubicBezTo>
                <a:cubicBezTo>
                  <a:pt x="18182" y="12241"/>
                  <a:pt x="18196" y="12229"/>
                  <a:pt x="18256" y="12229"/>
                </a:cubicBezTo>
                <a:cubicBezTo>
                  <a:pt x="18281" y="12229"/>
                  <a:pt x="18306" y="12229"/>
                  <a:pt x="18331" y="12229"/>
                </a:cubicBezTo>
              </a:path>
              <a:path w="2556" h="1216">
                <a:moveTo>
                  <a:pt x="18231" y="11931"/>
                </a:moveTo>
                <a:cubicBezTo>
                  <a:pt x="18187" y="11931"/>
                  <a:pt x="18112" y="11913"/>
                  <a:pt x="18107" y="11956"/>
                </a:cubicBezTo>
                <a:cubicBezTo>
                  <a:pt x="18103" y="11988"/>
                  <a:pt x="18090" y="12000"/>
                  <a:pt x="18083" y="12030"/>
                </a:cubicBezTo>
                <a:cubicBezTo>
                  <a:pt x="18139" y="12030"/>
                  <a:pt x="18202" y="12022"/>
                  <a:pt x="18182" y="12105"/>
                </a:cubicBezTo>
                <a:cubicBezTo>
                  <a:pt x="18158" y="12204"/>
                  <a:pt x="18122" y="12149"/>
                  <a:pt x="18107" y="12105"/>
                </a:cubicBezTo>
              </a:path>
              <a:path w="2556" h="1216">
                <a:moveTo>
                  <a:pt x="18579" y="11757"/>
                </a:moveTo>
                <a:cubicBezTo>
                  <a:pt x="18597" y="11866"/>
                  <a:pt x="18622" y="11967"/>
                  <a:pt x="18628" y="12080"/>
                </a:cubicBezTo>
                <a:cubicBezTo>
                  <a:pt x="18576" y="12080"/>
                  <a:pt x="18644" y="12005"/>
                  <a:pt x="18678" y="11931"/>
                </a:cubicBezTo>
              </a:path>
              <a:path w="2556" h="1216">
                <a:moveTo>
                  <a:pt x="18926" y="11609"/>
                </a:moveTo>
                <a:cubicBezTo>
                  <a:pt x="18898" y="11649"/>
                  <a:pt x="18837" y="11704"/>
                  <a:pt x="18827" y="11733"/>
                </a:cubicBezTo>
                <a:cubicBezTo>
                  <a:pt x="18808" y="11790"/>
                  <a:pt x="18799" y="11797"/>
                  <a:pt x="18802" y="11832"/>
                </a:cubicBezTo>
                <a:cubicBezTo>
                  <a:pt x="18892" y="11802"/>
                  <a:pt x="18952" y="11767"/>
                  <a:pt x="18976" y="11881"/>
                </a:cubicBezTo>
                <a:cubicBezTo>
                  <a:pt x="19005" y="12020"/>
                  <a:pt x="18885" y="12008"/>
                  <a:pt x="18802" y="11981"/>
                </a:cubicBezTo>
              </a:path>
              <a:path w="2556" h="1216">
                <a:moveTo>
                  <a:pt x="17214" y="11807"/>
                </a:moveTo>
                <a:cubicBezTo>
                  <a:pt x="17267" y="11781"/>
                  <a:pt x="17349" y="11807"/>
                  <a:pt x="17413" y="11857"/>
                </a:cubicBezTo>
                <a:cubicBezTo>
                  <a:pt x="17513" y="11934"/>
                  <a:pt x="17617" y="12021"/>
                  <a:pt x="17711" y="12105"/>
                </a:cubicBezTo>
                <a:cubicBezTo>
                  <a:pt x="17782" y="12168"/>
                  <a:pt x="17905" y="12238"/>
                  <a:pt x="17959" y="12303"/>
                </a:cubicBezTo>
                <a:cubicBezTo>
                  <a:pt x="18013" y="12368"/>
                  <a:pt x="18051" y="12404"/>
                  <a:pt x="18107" y="12452"/>
                </a:cubicBezTo>
                <a:cubicBezTo>
                  <a:pt x="18165" y="12501"/>
                  <a:pt x="18238" y="12624"/>
                  <a:pt x="18306" y="12650"/>
                </a:cubicBezTo>
                <a:cubicBezTo>
                  <a:pt x="18380" y="12679"/>
                  <a:pt x="18260" y="12501"/>
                  <a:pt x="18231" y="12427"/>
                </a:cubicBezTo>
              </a:path>
              <a:path w="2556" h="1216">
                <a:moveTo>
                  <a:pt x="18256" y="11956"/>
                </a:moveTo>
                <a:cubicBezTo>
                  <a:pt x="18176" y="11993"/>
                  <a:pt x="18085" y="12027"/>
                  <a:pt x="18008" y="12080"/>
                </a:cubicBezTo>
                <a:cubicBezTo>
                  <a:pt x="17861" y="12181"/>
                  <a:pt x="17716" y="12305"/>
                  <a:pt x="17587" y="12427"/>
                </a:cubicBezTo>
                <a:cubicBezTo>
                  <a:pt x="17497" y="12512"/>
                  <a:pt x="17403" y="12623"/>
                  <a:pt x="17314" y="12700"/>
                </a:cubicBezTo>
                <a:cubicBezTo>
                  <a:pt x="17275" y="12734"/>
                  <a:pt x="17189" y="12813"/>
                  <a:pt x="17239" y="12799"/>
                </a:cubicBezTo>
                <a:cubicBezTo>
                  <a:pt x="17239" y="12857"/>
                  <a:pt x="17265" y="12846"/>
                  <a:pt x="17338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4527720"/>
            <a:ext cx="866880" cy="750600"/>
          </a:xfrm>
          <a:custGeom>
            <a:avLst/>
            <a:gdLst/>
            <a:ahLst/>
            <a:rect l="l" t="t" r="r" b="b"/>
            <a:pathLst>
              <a:path w="2407" h="2085">
                <a:moveTo>
                  <a:pt x="21605" y="12774"/>
                </a:moveTo>
                <a:cubicBezTo>
                  <a:pt x="21605" y="12909"/>
                  <a:pt x="21586" y="13037"/>
                  <a:pt x="21580" y="13171"/>
                </a:cubicBezTo>
                <a:cubicBezTo>
                  <a:pt x="21580" y="13179"/>
                  <a:pt x="21580" y="13188"/>
                  <a:pt x="21580" y="13196"/>
                </a:cubicBezTo>
              </a:path>
              <a:path w="2407" h="2085">
                <a:moveTo>
                  <a:pt x="21803" y="12799"/>
                </a:moveTo>
                <a:cubicBezTo>
                  <a:pt x="21828" y="12750"/>
                  <a:pt x="21837" y="12733"/>
                  <a:pt x="21878" y="12725"/>
                </a:cubicBezTo>
                <a:cubicBezTo>
                  <a:pt x="21944" y="12792"/>
                  <a:pt x="21948" y="12877"/>
                  <a:pt x="21853" y="12948"/>
                </a:cubicBezTo>
                <a:cubicBezTo>
                  <a:pt x="21845" y="12948"/>
                  <a:pt x="21836" y="12948"/>
                  <a:pt x="21828" y="12948"/>
                </a:cubicBezTo>
                <a:cubicBezTo>
                  <a:pt x="21871" y="12922"/>
                  <a:pt x="21977" y="12904"/>
                  <a:pt x="21977" y="12998"/>
                </a:cubicBezTo>
                <a:cubicBezTo>
                  <a:pt x="21977" y="13089"/>
                  <a:pt x="21891" y="13187"/>
                  <a:pt x="21803" y="13196"/>
                </a:cubicBezTo>
                <a:cubicBezTo>
                  <a:pt x="21795" y="13196"/>
                  <a:pt x="21787" y="13196"/>
                  <a:pt x="21779" y="13196"/>
                </a:cubicBezTo>
              </a:path>
              <a:path w="2407" h="2085">
                <a:moveTo>
                  <a:pt x="20712" y="13146"/>
                </a:moveTo>
                <a:cubicBezTo>
                  <a:pt x="20770" y="13128"/>
                  <a:pt x="20703" y="13103"/>
                  <a:pt x="20662" y="13097"/>
                </a:cubicBezTo>
                <a:cubicBezTo>
                  <a:pt x="20550" y="13082"/>
                  <a:pt x="20494" y="13132"/>
                  <a:pt x="20439" y="13221"/>
                </a:cubicBezTo>
                <a:cubicBezTo>
                  <a:pt x="20364" y="13341"/>
                  <a:pt x="20531" y="13407"/>
                  <a:pt x="20613" y="13444"/>
                </a:cubicBezTo>
                <a:cubicBezTo>
                  <a:pt x="20712" y="13489"/>
                  <a:pt x="20928" y="13557"/>
                  <a:pt x="20811" y="13717"/>
                </a:cubicBezTo>
                <a:cubicBezTo>
                  <a:pt x="20753" y="13796"/>
                  <a:pt x="20704" y="13767"/>
                  <a:pt x="20638" y="13742"/>
                </a:cubicBezTo>
                <a:cubicBezTo>
                  <a:pt x="20618" y="13572"/>
                  <a:pt x="20649" y="13472"/>
                  <a:pt x="20737" y="13320"/>
                </a:cubicBezTo>
                <a:cubicBezTo>
                  <a:pt x="20747" y="13302"/>
                  <a:pt x="20875" y="13123"/>
                  <a:pt x="20836" y="13097"/>
                </a:cubicBezTo>
                <a:cubicBezTo>
                  <a:pt x="20805" y="13076"/>
                  <a:pt x="20653" y="13118"/>
                  <a:pt x="20712" y="13146"/>
                </a:cubicBezTo>
              </a:path>
              <a:path w="2407" h="2085">
                <a:moveTo>
                  <a:pt x="22374" y="12725"/>
                </a:moveTo>
                <a:cubicBezTo>
                  <a:pt x="22346" y="12707"/>
                  <a:pt x="22280" y="12655"/>
                  <a:pt x="22225" y="12626"/>
                </a:cubicBezTo>
                <a:cubicBezTo>
                  <a:pt x="22144" y="12584"/>
                  <a:pt x="22064" y="12579"/>
                  <a:pt x="21977" y="12576"/>
                </a:cubicBezTo>
                <a:cubicBezTo>
                  <a:pt x="21792" y="12571"/>
                  <a:pt x="21613" y="12585"/>
                  <a:pt x="21431" y="12601"/>
                </a:cubicBezTo>
                <a:cubicBezTo>
                  <a:pt x="21300" y="12612"/>
                  <a:pt x="21188" y="12633"/>
                  <a:pt x="21059" y="12650"/>
                </a:cubicBezTo>
                <a:cubicBezTo>
                  <a:pt x="20983" y="12660"/>
                  <a:pt x="20933" y="12667"/>
                  <a:pt x="20861" y="12700"/>
                </a:cubicBezTo>
                <a:cubicBezTo>
                  <a:pt x="20736" y="12757"/>
                  <a:pt x="20619" y="12864"/>
                  <a:pt x="20513" y="12948"/>
                </a:cubicBezTo>
                <a:cubicBezTo>
                  <a:pt x="20451" y="12997"/>
                  <a:pt x="20356" y="13060"/>
                  <a:pt x="20315" y="13122"/>
                </a:cubicBezTo>
                <a:cubicBezTo>
                  <a:pt x="20274" y="13185"/>
                  <a:pt x="20227" y="13322"/>
                  <a:pt x="20216" y="13395"/>
                </a:cubicBezTo>
                <a:cubicBezTo>
                  <a:pt x="20200" y="13506"/>
                  <a:pt x="20237" y="13609"/>
                  <a:pt x="20241" y="13717"/>
                </a:cubicBezTo>
                <a:cubicBezTo>
                  <a:pt x="20247" y="13868"/>
                  <a:pt x="20316" y="13952"/>
                  <a:pt x="20365" y="14089"/>
                </a:cubicBezTo>
                <a:cubicBezTo>
                  <a:pt x="20399" y="14183"/>
                  <a:pt x="20432" y="14269"/>
                  <a:pt x="20513" y="14337"/>
                </a:cubicBezTo>
                <a:cubicBezTo>
                  <a:pt x="20615" y="14422"/>
                  <a:pt x="20713" y="14505"/>
                  <a:pt x="20836" y="14560"/>
                </a:cubicBezTo>
                <a:cubicBezTo>
                  <a:pt x="20950" y="14612"/>
                  <a:pt x="21104" y="14675"/>
                  <a:pt x="21233" y="14660"/>
                </a:cubicBezTo>
                <a:cubicBezTo>
                  <a:pt x="21375" y="14644"/>
                  <a:pt x="21512" y="14578"/>
                  <a:pt x="21654" y="14560"/>
                </a:cubicBezTo>
                <a:cubicBezTo>
                  <a:pt x="21733" y="14550"/>
                  <a:pt x="21805" y="14539"/>
                  <a:pt x="21878" y="14511"/>
                </a:cubicBezTo>
                <a:cubicBezTo>
                  <a:pt x="21978" y="14473"/>
                  <a:pt x="22091" y="14422"/>
                  <a:pt x="22175" y="14362"/>
                </a:cubicBezTo>
                <a:cubicBezTo>
                  <a:pt x="22236" y="14318"/>
                  <a:pt x="22295" y="14287"/>
                  <a:pt x="22349" y="14238"/>
                </a:cubicBezTo>
                <a:cubicBezTo>
                  <a:pt x="22427" y="14168"/>
                  <a:pt x="22468" y="14124"/>
                  <a:pt x="22523" y="14039"/>
                </a:cubicBezTo>
                <a:cubicBezTo>
                  <a:pt x="22563" y="13978"/>
                  <a:pt x="22611" y="13891"/>
                  <a:pt x="22622" y="13816"/>
                </a:cubicBezTo>
                <a:cubicBezTo>
                  <a:pt x="22641" y="13687"/>
                  <a:pt x="22625" y="13540"/>
                  <a:pt x="22597" y="13419"/>
                </a:cubicBezTo>
                <a:cubicBezTo>
                  <a:pt x="22583" y="13357"/>
                  <a:pt x="22576" y="13305"/>
                  <a:pt x="22547" y="13246"/>
                </a:cubicBezTo>
                <a:cubicBezTo>
                  <a:pt x="22512" y="13176"/>
                  <a:pt x="22516" y="13167"/>
                  <a:pt x="22498" y="13097"/>
                </a:cubicBezTo>
                <a:cubicBezTo>
                  <a:pt x="22490" y="13067"/>
                  <a:pt x="22464" y="13005"/>
                  <a:pt x="22448" y="12973"/>
                </a:cubicBezTo>
                <a:cubicBezTo>
                  <a:pt x="22434" y="12944"/>
                  <a:pt x="22399" y="12916"/>
                  <a:pt x="22374" y="12874"/>
                </a:cubicBezTo>
                <a:cubicBezTo>
                  <a:pt x="22357" y="12846"/>
                  <a:pt x="22340" y="12845"/>
                  <a:pt x="22324" y="12824"/>
                </a:cubicBezTo>
                <a:cubicBezTo>
                  <a:pt x="22297" y="12788"/>
                  <a:pt x="22297" y="12794"/>
                  <a:pt x="22250" y="12750"/>
                </a:cubicBezTo>
                <a:cubicBezTo>
                  <a:pt x="22233" y="12734"/>
                  <a:pt x="22202" y="12720"/>
                  <a:pt x="22175" y="12700"/>
                </a:cubicBezTo>
                <a:cubicBezTo>
                  <a:pt x="22161" y="12690"/>
                  <a:pt x="22132" y="12647"/>
                  <a:pt x="22101" y="12626"/>
                </a:cubicBezTo>
                <a:cubicBezTo>
                  <a:pt x="22097" y="12624"/>
                  <a:pt x="22038" y="12574"/>
                  <a:pt x="22027" y="12576"/>
                </a:cubicBezTo>
                <a:cubicBezTo>
                  <a:pt x="22019" y="12593"/>
                  <a:pt x="22010" y="12609"/>
                  <a:pt x="22002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1040" y="3813120"/>
            <a:ext cx="903240" cy="1884240"/>
          </a:xfrm>
          <a:custGeom>
            <a:avLst/>
            <a:gdLst/>
            <a:ahLst/>
            <a:rect l="l" t="t" r="r" b="b"/>
            <a:pathLst>
              <a:path w="2507" h="5234">
                <a:moveTo>
                  <a:pt x="11063" y="10815"/>
                </a:moveTo>
                <a:cubicBezTo>
                  <a:pt x="11063" y="10925"/>
                  <a:pt x="11081" y="11029"/>
                  <a:pt x="11088" y="11137"/>
                </a:cubicBezTo>
                <a:cubicBezTo>
                  <a:pt x="11098" y="11286"/>
                  <a:pt x="11034" y="11435"/>
                  <a:pt x="11063" y="11584"/>
                </a:cubicBezTo>
                <a:cubicBezTo>
                  <a:pt x="11071" y="11624"/>
                  <a:pt x="11151" y="11724"/>
                  <a:pt x="11187" y="11733"/>
                </a:cubicBezTo>
                <a:cubicBezTo>
                  <a:pt x="11249" y="11749"/>
                  <a:pt x="11384" y="11692"/>
                  <a:pt x="11435" y="11658"/>
                </a:cubicBezTo>
                <a:cubicBezTo>
                  <a:pt x="11505" y="11612"/>
                  <a:pt x="11511" y="11549"/>
                  <a:pt x="11534" y="11485"/>
                </a:cubicBezTo>
                <a:cubicBezTo>
                  <a:pt x="11549" y="11444"/>
                  <a:pt x="11578" y="11373"/>
                  <a:pt x="11534" y="11336"/>
                </a:cubicBezTo>
                <a:cubicBezTo>
                  <a:pt x="11527" y="11330"/>
                  <a:pt x="11427" y="11293"/>
                  <a:pt x="11410" y="11311"/>
                </a:cubicBezTo>
                <a:cubicBezTo>
                  <a:pt x="11365" y="11361"/>
                  <a:pt x="11345" y="11472"/>
                  <a:pt x="11336" y="11534"/>
                </a:cubicBezTo>
                <a:cubicBezTo>
                  <a:pt x="11325" y="11608"/>
                  <a:pt x="11356" y="11663"/>
                  <a:pt x="11361" y="11733"/>
                </a:cubicBezTo>
                <a:cubicBezTo>
                  <a:pt x="11361" y="11757"/>
                  <a:pt x="11361" y="11766"/>
                  <a:pt x="11361" y="11782"/>
                </a:cubicBezTo>
              </a:path>
              <a:path w="2507" h="5234">
                <a:moveTo>
                  <a:pt x="11683" y="10666"/>
                </a:moveTo>
                <a:cubicBezTo>
                  <a:pt x="11683" y="10658"/>
                  <a:pt x="11683" y="10649"/>
                  <a:pt x="11683" y="10641"/>
                </a:cubicBezTo>
                <a:cubicBezTo>
                  <a:pt x="11741" y="10660"/>
                  <a:pt x="11769" y="10817"/>
                  <a:pt x="11782" y="10889"/>
                </a:cubicBezTo>
                <a:cubicBezTo>
                  <a:pt x="11782" y="10906"/>
                  <a:pt x="11782" y="10922"/>
                  <a:pt x="11782" y="10939"/>
                </a:cubicBezTo>
              </a:path>
              <a:path w="2507" h="5234">
                <a:moveTo>
                  <a:pt x="11857" y="10641"/>
                </a:moveTo>
                <a:cubicBezTo>
                  <a:pt x="11887" y="10595"/>
                  <a:pt x="12010" y="10579"/>
                  <a:pt x="12080" y="10616"/>
                </a:cubicBezTo>
                <a:cubicBezTo>
                  <a:pt x="12193" y="10676"/>
                  <a:pt x="11980" y="10874"/>
                  <a:pt x="11956" y="10914"/>
                </a:cubicBezTo>
                <a:cubicBezTo>
                  <a:pt x="11956" y="10922"/>
                  <a:pt x="11956" y="10931"/>
                  <a:pt x="11956" y="10939"/>
                </a:cubicBezTo>
                <a:cubicBezTo>
                  <a:pt x="12036" y="10939"/>
                  <a:pt x="12102" y="10920"/>
                  <a:pt x="12179" y="10914"/>
                </a:cubicBezTo>
                <a:cubicBezTo>
                  <a:pt x="12187" y="10914"/>
                  <a:pt x="12196" y="10914"/>
                  <a:pt x="12204" y="10914"/>
                </a:cubicBezTo>
              </a:path>
              <a:path w="2507" h="5234">
                <a:moveTo>
                  <a:pt x="11832" y="11137"/>
                </a:moveTo>
                <a:cubicBezTo>
                  <a:pt x="11986" y="11155"/>
                  <a:pt x="12121" y="11118"/>
                  <a:pt x="12278" y="11112"/>
                </a:cubicBezTo>
                <a:cubicBezTo>
                  <a:pt x="12323" y="11112"/>
                  <a:pt x="12336" y="11109"/>
                  <a:pt x="12353" y="11137"/>
                </a:cubicBezTo>
              </a:path>
              <a:path w="2507" h="5234">
                <a:moveTo>
                  <a:pt x="12378" y="11336"/>
                </a:moveTo>
                <a:cubicBezTo>
                  <a:pt x="12286" y="11356"/>
                  <a:pt x="12168" y="11404"/>
                  <a:pt x="12105" y="11485"/>
                </a:cubicBezTo>
                <a:cubicBezTo>
                  <a:pt x="12050" y="11556"/>
                  <a:pt x="12082" y="11565"/>
                  <a:pt x="12129" y="11584"/>
                </a:cubicBezTo>
                <a:cubicBezTo>
                  <a:pt x="12222" y="11623"/>
                  <a:pt x="12260" y="11665"/>
                  <a:pt x="12328" y="11733"/>
                </a:cubicBezTo>
                <a:cubicBezTo>
                  <a:pt x="12286" y="11795"/>
                  <a:pt x="12300" y="11776"/>
                  <a:pt x="12229" y="11807"/>
                </a:cubicBezTo>
                <a:cubicBezTo>
                  <a:pt x="12203" y="11729"/>
                  <a:pt x="12195" y="11638"/>
                  <a:pt x="12229" y="11559"/>
                </a:cubicBezTo>
                <a:cubicBezTo>
                  <a:pt x="12258" y="11492"/>
                  <a:pt x="12328" y="11493"/>
                  <a:pt x="12229" y="11460"/>
                </a:cubicBezTo>
              </a:path>
              <a:path w="2507" h="5234">
                <a:moveTo>
                  <a:pt x="10616" y="12650"/>
                </a:moveTo>
                <a:cubicBezTo>
                  <a:pt x="10699" y="12650"/>
                  <a:pt x="10781" y="12650"/>
                  <a:pt x="10864" y="12650"/>
                </a:cubicBezTo>
              </a:path>
              <a:path w="2507" h="5234">
                <a:moveTo>
                  <a:pt x="11237" y="12477"/>
                </a:moveTo>
                <a:cubicBezTo>
                  <a:pt x="11308" y="12596"/>
                  <a:pt x="11277" y="12642"/>
                  <a:pt x="11237" y="12774"/>
                </a:cubicBezTo>
                <a:cubicBezTo>
                  <a:pt x="11237" y="12782"/>
                  <a:pt x="11237" y="12791"/>
                  <a:pt x="11237" y="12799"/>
                </a:cubicBezTo>
                <a:cubicBezTo>
                  <a:pt x="11323" y="12792"/>
                  <a:pt x="11398" y="12774"/>
                  <a:pt x="11485" y="12774"/>
                </a:cubicBezTo>
              </a:path>
              <a:path w="2507" h="5234">
                <a:moveTo>
                  <a:pt x="11460" y="12427"/>
                </a:moveTo>
                <a:cubicBezTo>
                  <a:pt x="11460" y="12349"/>
                  <a:pt x="11508" y="12697"/>
                  <a:pt x="11509" y="12700"/>
                </a:cubicBezTo>
                <a:cubicBezTo>
                  <a:pt x="11541" y="12890"/>
                  <a:pt x="11578" y="13080"/>
                  <a:pt x="11609" y="13271"/>
                </a:cubicBezTo>
                <a:cubicBezTo>
                  <a:pt x="11609" y="13279"/>
                  <a:pt x="11609" y="13287"/>
                  <a:pt x="11609" y="13295"/>
                </a:cubicBezTo>
              </a:path>
              <a:path w="2507" h="5234">
                <a:moveTo>
                  <a:pt x="12005" y="12378"/>
                </a:moveTo>
                <a:cubicBezTo>
                  <a:pt x="12072" y="12378"/>
                  <a:pt x="12117" y="12346"/>
                  <a:pt x="12179" y="12328"/>
                </a:cubicBezTo>
                <a:cubicBezTo>
                  <a:pt x="12204" y="12328"/>
                  <a:pt x="12212" y="12328"/>
                  <a:pt x="12229" y="12328"/>
                </a:cubicBezTo>
                <a:cubicBezTo>
                  <a:pt x="12215" y="12428"/>
                  <a:pt x="12185" y="12524"/>
                  <a:pt x="12179" y="12626"/>
                </a:cubicBezTo>
                <a:cubicBezTo>
                  <a:pt x="12179" y="12634"/>
                  <a:pt x="12179" y="12642"/>
                  <a:pt x="12179" y="12650"/>
                </a:cubicBezTo>
              </a:path>
              <a:path w="2507" h="5234">
                <a:moveTo>
                  <a:pt x="12005" y="12799"/>
                </a:moveTo>
                <a:cubicBezTo>
                  <a:pt x="12148" y="12788"/>
                  <a:pt x="12285" y="12750"/>
                  <a:pt x="12427" y="12725"/>
                </a:cubicBezTo>
                <a:cubicBezTo>
                  <a:pt x="12435" y="12725"/>
                  <a:pt x="12444" y="12725"/>
                  <a:pt x="12452" y="12725"/>
                </a:cubicBezTo>
              </a:path>
              <a:path w="2507" h="5234">
                <a:moveTo>
                  <a:pt x="12378" y="12973"/>
                </a:moveTo>
                <a:cubicBezTo>
                  <a:pt x="12305" y="12955"/>
                  <a:pt x="12233" y="12979"/>
                  <a:pt x="12179" y="13047"/>
                </a:cubicBezTo>
                <a:cubicBezTo>
                  <a:pt x="12179" y="13072"/>
                  <a:pt x="12179" y="13080"/>
                  <a:pt x="12179" y="13097"/>
                </a:cubicBezTo>
                <a:cubicBezTo>
                  <a:pt x="12259" y="13141"/>
                  <a:pt x="12396" y="13188"/>
                  <a:pt x="12402" y="13295"/>
                </a:cubicBezTo>
                <a:cubicBezTo>
                  <a:pt x="12378" y="13345"/>
                  <a:pt x="12370" y="13362"/>
                  <a:pt x="12328" y="13370"/>
                </a:cubicBezTo>
                <a:cubicBezTo>
                  <a:pt x="12253" y="13314"/>
                  <a:pt x="12288" y="13254"/>
                  <a:pt x="12328" y="13171"/>
                </a:cubicBezTo>
                <a:cubicBezTo>
                  <a:pt x="12341" y="13144"/>
                  <a:pt x="12405" y="13056"/>
                  <a:pt x="12402" y="13047"/>
                </a:cubicBezTo>
                <a:cubicBezTo>
                  <a:pt x="12394" y="13039"/>
                  <a:pt x="12386" y="13030"/>
                  <a:pt x="12378" y="13022"/>
                </a:cubicBezTo>
              </a:path>
              <a:path w="2507" h="5234">
                <a:moveTo>
                  <a:pt x="10815" y="13841"/>
                </a:moveTo>
                <a:cubicBezTo>
                  <a:pt x="10897" y="13795"/>
                  <a:pt x="10959" y="13764"/>
                  <a:pt x="11063" y="13742"/>
                </a:cubicBezTo>
                <a:cubicBezTo>
                  <a:pt x="11307" y="13691"/>
                  <a:pt x="11559" y="13690"/>
                  <a:pt x="11807" y="13643"/>
                </a:cubicBezTo>
                <a:cubicBezTo>
                  <a:pt x="12140" y="13580"/>
                  <a:pt x="12485" y="13528"/>
                  <a:pt x="12824" y="13519"/>
                </a:cubicBezTo>
                <a:cubicBezTo>
                  <a:pt x="12918" y="13517"/>
                  <a:pt x="12897" y="13522"/>
                  <a:pt x="12948" y="13543"/>
                </a:cubicBezTo>
              </a:path>
              <a:path w="2507" h="5234">
                <a:moveTo>
                  <a:pt x="12278" y="14312"/>
                </a:moveTo>
                <a:cubicBezTo>
                  <a:pt x="12383" y="14312"/>
                  <a:pt x="12473" y="14305"/>
                  <a:pt x="12576" y="14312"/>
                </a:cubicBezTo>
                <a:cubicBezTo>
                  <a:pt x="12635" y="14312"/>
                  <a:pt x="12661" y="14315"/>
                  <a:pt x="12700" y="14337"/>
                </a:cubicBezTo>
              </a:path>
              <a:path w="2507" h="5234">
                <a:moveTo>
                  <a:pt x="12526" y="14684"/>
                </a:moveTo>
                <a:cubicBezTo>
                  <a:pt x="12487" y="14627"/>
                  <a:pt x="12441" y="14690"/>
                  <a:pt x="12378" y="14709"/>
                </a:cubicBezTo>
                <a:cubicBezTo>
                  <a:pt x="12332" y="14723"/>
                  <a:pt x="12348" y="14794"/>
                  <a:pt x="12378" y="14833"/>
                </a:cubicBezTo>
                <a:cubicBezTo>
                  <a:pt x="12431" y="14903"/>
                  <a:pt x="12468" y="14963"/>
                  <a:pt x="12477" y="15056"/>
                </a:cubicBezTo>
                <a:cubicBezTo>
                  <a:pt x="12477" y="15064"/>
                  <a:pt x="12477" y="15073"/>
                  <a:pt x="12477" y="15081"/>
                </a:cubicBezTo>
                <a:cubicBezTo>
                  <a:pt x="12402" y="15081"/>
                  <a:pt x="12383" y="15089"/>
                  <a:pt x="12378" y="15007"/>
                </a:cubicBezTo>
                <a:cubicBezTo>
                  <a:pt x="12372" y="14905"/>
                  <a:pt x="12453" y="14916"/>
                  <a:pt x="12502" y="14858"/>
                </a:cubicBezTo>
                <a:cubicBezTo>
                  <a:pt x="12540" y="14813"/>
                  <a:pt x="12542" y="14740"/>
                  <a:pt x="12526" y="14709"/>
                </a:cubicBezTo>
              </a:path>
              <a:path w="2507" h="5234">
                <a:moveTo>
                  <a:pt x="12477" y="13816"/>
                </a:moveTo>
                <a:cubicBezTo>
                  <a:pt x="12444" y="13865"/>
                  <a:pt x="12367" y="13871"/>
                  <a:pt x="12303" y="13866"/>
                </a:cubicBezTo>
                <a:cubicBezTo>
                  <a:pt x="12278" y="13866"/>
                  <a:pt x="12270" y="13866"/>
                  <a:pt x="12254" y="13866"/>
                </a:cubicBezTo>
                <a:cubicBezTo>
                  <a:pt x="12254" y="13914"/>
                  <a:pt x="12214" y="13974"/>
                  <a:pt x="12229" y="14015"/>
                </a:cubicBezTo>
                <a:cubicBezTo>
                  <a:pt x="12252" y="14037"/>
                  <a:pt x="12260" y="14042"/>
                  <a:pt x="12254" y="14064"/>
                </a:cubicBezTo>
                <a:cubicBezTo>
                  <a:pt x="12285" y="14052"/>
                  <a:pt x="12426" y="14004"/>
                  <a:pt x="12452" y="14039"/>
                </a:cubicBezTo>
                <a:cubicBezTo>
                  <a:pt x="12515" y="14126"/>
                  <a:pt x="12414" y="14241"/>
                  <a:pt x="12328" y="14263"/>
                </a:cubicBezTo>
                <a:cubicBezTo>
                  <a:pt x="12239" y="14286"/>
                  <a:pt x="12218" y="14254"/>
                  <a:pt x="12154" y="14238"/>
                </a:cubicBezTo>
              </a:path>
              <a:path w="2507" h="5234">
                <a:moveTo>
                  <a:pt x="12080" y="14436"/>
                </a:moveTo>
                <a:cubicBezTo>
                  <a:pt x="12149" y="14419"/>
                  <a:pt x="12227" y="14412"/>
                  <a:pt x="12303" y="14387"/>
                </a:cubicBezTo>
                <a:cubicBezTo>
                  <a:pt x="12367" y="14366"/>
                  <a:pt x="12408" y="14362"/>
                  <a:pt x="12477" y="14362"/>
                </a:cubicBezTo>
                <a:cubicBezTo>
                  <a:pt x="12502" y="14362"/>
                  <a:pt x="12510" y="14362"/>
                  <a:pt x="12526" y="14362"/>
                </a:cubicBezTo>
              </a:path>
              <a:path w="2507" h="5234">
                <a:moveTo>
                  <a:pt x="11410" y="14436"/>
                </a:moveTo>
                <a:cubicBezTo>
                  <a:pt x="11387" y="14407"/>
                  <a:pt x="11367" y="14355"/>
                  <a:pt x="11385" y="14312"/>
                </a:cubicBezTo>
                <a:cubicBezTo>
                  <a:pt x="11398" y="14282"/>
                  <a:pt x="11542" y="14212"/>
                  <a:pt x="11559" y="14213"/>
                </a:cubicBezTo>
                <a:cubicBezTo>
                  <a:pt x="11649" y="14219"/>
                  <a:pt x="11644" y="14376"/>
                  <a:pt x="11633" y="14436"/>
                </a:cubicBezTo>
                <a:cubicBezTo>
                  <a:pt x="11616" y="14527"/>
                  <a:pt x="11574" y="14626"/>
                  <a:pt x="11534" y="14709"/>
                </a:cubicBezTo>
                <a:cubicBezTo>
                  <a:pt x="11500" y="14780"/>
                  <a:pt x="11440" y="14828"/>
                  <a:pt x="11385" y="14883"/>
                </a:cubicBezTo>
                <a:cubicBezTo>
                  <a:pt x="11322" y="14946"/>
                  <a:pt x="11286" y="15045"/>
                  <a:pt x="11261" y="15131"/>
                </a:cubicBezTo>
                <a:cubicBezTo>
                  <a:pt x="11261" y="15156"/>
                  <a:pt x="11261" y="15164"/>
                  <a:pt x="11261" y="15180"/>
                </a:cubicBezTo>
                <a:cubicBezTo>
                  <a:pt x="11261" y="15243"/>
                  <a:pt x="11301" y="15073"/>
                  <a:pt x="11311" y="15056"/>
                </a:cubicBezTo>
                <a:cubicBezTo>
                  <a:pt x="11340" y="15006"/>
                  <a:pt x="11384" y="14986"/>
                  <a:pt x="11435" y="14982"/>
                </a:cubicBezTo>
                <a:cubicBezTo>
                  <a:pt x="11473" y="14979"/>
                  <a:pt x="11512" y="14998"/>
                  <a:pt x="11534" y="15032"/>
                </a:cubicBezTo>
                <a:cubicBezTo>
                  <a:pt x="11556" y="15065"/>
                  <a:pt x="11545" y="15092"/>
                  <a:pt x="11584" y="15131"/>
                </a:cubicBezTo>
                <a:cubicBezTo>
                  <a:pt x="11628" y="15175"/>
                  <a:pt x="11661" y="15156"/>
                  <a:pt x="11708" y="15131"/>
                </a:cubicBezTo>
                <a:cubicBezTo>
                  <a:pt x="11774" y="15095"/>
                  <a:pt x="11785" y="15035"/>
                  <a:pt x="11807" y="14957"/>
                </a:cubicBezTo>
              </a:path>
              <a:path w="2507" h="5234">
                <a:moveTo>
                  <a:pt x="11038" y="15577"/>
                </a:moveTo>
                <a:cubicBezTo>
                  <a:pt x="11097" y="15609"/>
                  <a:pt x="11232" y="15661"/>
                  <a:pt x="11311" y="15701"/>
                </a:cubicBezTo>
                <a:cubicBezTo>
                  <a:pt x="11424" y="15758"/>
                  <a:pt x="11531" y="15789"/>
                  <a:pt x="11658" y="15801"/>
                </a:cubicBezTo>
                <a:cubicBezTo>
                  <a:pt x="11779" y="15812"/>
                  <a:pt x="11863" y="15814"/>
                  <a:pt x="11981" y="15801"/>
                </a:cubicBezTo>
                <a:cubicBezTo>
                  <a:pt x="12127" y="15785"/>
                  <a:pt x="12252" y="15757"/>
                  <a:pt x="12378" y="15677"/>
                </a:cubicBezTo>
                <a:cubicBezTo>
                  <a:pt x="12478" y="15614"/>
                  <a:pt x="12563" y="15509"/>
                  <a:pt x="12626" y="15453"/>
                </a:cubicBezTo>
                <a:cubicBezTo>
                  <a:pt x="12716" y="15373"/>
                  <a:pt x="12791" y="15338"/>
                  <a:pt x="12849" y="15230"/>
                </a:cubicBezTo>
                <a:cubicBezTo>
                  <a:pt x="12893" y="15148"/>
                  <a:pt x="12937" y="15071"/>
                  <a:pt x="12973" y="14982"/>
                </a:cubicBezTo>
                <a:cubicBezTo>
                  <a:pt x="13012" y="14885"/>
                  <a:pt x="13043" y="14808"/>
                  <a:pt x="13072" y="14709"/>
                </a:cubicBezTo>
                <a:cubicBezTo>
                  <a:pt x="13109" y="14585"/>
                  <a:pt x="13122" y="14491"/>
                  <a:pt x="13122" y="14362"/>
                </a:cubicBezTo>
                <a:cubicBezTo>
                  <a:pt x="13122" y="14259"/>
                  <a:pt x="13100" y="14167"/>
                  <a:pt x="13097" y="14064"/>
                </a:cubicBezTo>
                <a:cubicBezTo>
                  <a:pt x="13095" y="13984"/>
                  <a:pt x="13077" y="13988"/>
                  <a:pt x="13047" y="13915"/>
                </a:cubicBezTo>
                <a:cubicBezTo>
                  <a:pt x="13018" y="13844"/>
                  <a:pt x="13015" y="13829"/>
                  <a:pt x="12948" y="13767"/>
                </a:cubicBezTo>
                <a:cubicBezTo>
                  <a:pt x="12869" y="13695"/>
                  <a:pt x="12797" y="13659"/>
                  <a:pt x="12700" y="13618"/>
                </a:cubicBezTo>
                <a:cubicBezTo>
                  <a:pt x="12572" y="13564"/>
                  <a:pt x="12438" y="13529"/>
                  <a:pt x="12303" y="13494"/>
                </a:cubicBezTo>
                <a:cubicBezTo>
                  <a:pt x="12132" y="13450"/>
                  <a:pt x="11983" y="13444"/>
                  <a:pt x="11807" y="13444"/>
                </a:cubicBezTo>
                <a:cubicBezTo>
                  <a:pt x="11653" y="13444"/>
                  <a:pt x="11482" y="13464"/>
                  <a:pt x="11336" y="13519"/>
                </a:cubicBezTo>
                <a:cubicBezTo>
                  <a:pt x="11193" y="13573"/>
                  <a:pt x="11109" y="13687"/>
                  <a:pt x="10988" y="13767"/>
                </a:cubicBezTo>
                <a:cubicBezTo>
                  <a:pt x="10865" y="13849"/>
                  <a:pt x="10804" y="13947"/>
                  <a:pt x="10740" y="14089"/>
                </a:cubicBezTo>
                <a:cubicBezTo>
                  <a:pt x="10683" y="14216"/>
                  <a:pt x="10706" y="14285"/>
                  <a:pt x="10691" y="14412"/>
                </a:cubicBezTo>
                <a:cubicBezTo>
                  <a:pt x="10683" y="14484"/>
                  <a:pt x="10666" y="14556"/>
                  <a:pt x="10666" y="14635"/>
                </a:cubicBezTo>
                <a:cubicBezTo>
                  <a:pt x="10666" y="14706"/>
                  <a:pt x="10686" y="14770"/>
                  <a:pt x="10691" y="14833"/>
                </a:cubicBezTo>
                <a:cubicBezTo>
                  <a:pt x="10696" y="14904"/>
                  <a:pt x="10690" y="14967"/>
                  <a:pt x="10716" y="15032"/>
                </a:cubicBezTo>
                <a:cubicBezTo>
                  <a:pt x="10737" y="15084"/>
                  <a:pt x="10772" y="15134"/>
                  <a:pt x="10790" y="15180"/>
                </a:cubicBezTo>
                <a:cubicBezTo>
                  <a:pt x="10812" y="15236"/>
                  <a:pt x="10821" y="15263"/>
                  <a:pt x="10864" y="15304"/>
                </a:cubicBezTo>
                <a:cubicBezTo>
                  <a:pt x="10918" y="15355"/>
                  <a:pt x="10961" y="15372"/>
                  <a:pt x="11013" y="15429"/>
                </a:cubicBezTo>
                <a:cubicBezTo>
                  <a:pt x="11052" y="15472"/>
                  <a:pt x="11081" y="15521"/>
                  <a:pt x="11112" y="15553"/>
                </a:cubicBezTo>
                <a:cubicBezTo>
                  <a:pt x="11149" y="15591"/>
                  <a:pt x="11170" y="15641"/>
                  <a:pt x="11212" y="15677"/>
                </a:cubicBezTo>
                <a:cubicBezTo>
                  <a:pt x="11238" y="15699"/>
                  <a:pt x="11240" y="15698"/>
                  <a:pt x="11261" y="15726"/>
                </a:cubicBezTo>
                <a:cubicBezTo>
                  <a:pt x="11286" y="15726"/>
                  <a:pt x="11294" y="15726"/>
                  <a:pt x="11286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32800" y="3402000"/>
            <a:ext cx="893520" cy="482760"/>
          </a:xfrm>
          <a:custGeom>
            <a:avLst/>
            <a:gdLst/>
            <a:ahLst/>
            <a:rect l="l" t="t" r="r" b="b"/>
            <a:pathLst>
              <a:path w="2481" h="1340">
                <a:moveTo>
                  <a:pt x="22076" y="10120"/>
                </a:moveTo>
                <a:cubicBezTo>
                  <a:pt x="22129" y="10110"/>
                  <a:pt x="22169" y="10096"/>
                  <a:pt x="22225" y="10096"/>
                </a:cubicBezTo>
                <a:cubicBezTo>
                  <a:pt x="22233" y="10096"/>
                  <a:pt x="22242" y="10096"/>
                  <a:pt x="22250" y="10096"/>
                </a:cubicBezTo>
              </a:path>
              <a:path w="2481" h="1340">
                <a:moveTo>
                  <a:pt x="22498" y="10145"/>
                </a:moveTo>
                <a:cubicBezTo>
                  <a:pt x="22627" y="10145"/>
                  <a:pt x="22744" y="10138"/>
                  <a:pt x="22870" y="10120"/>
                </a:cubicBezTo>
                <a:cubicBezTo>
                  <a:pt x="22917" y="10113"/>
                  <a:pt x="22971" y="10120"/>
                  <a:pt x="23019" y="10120"/>
                </a:cubicBezTo>
              </a:path>
              <a:path w="2481" h="1340">
                <a:moveTo>
                  <a:pt x="22572" y="9699"/>
                </a:moveTo>
                <a:cubicBezTo>
                  <a:pt x="22595" y="9661"/>
                  <a:pt x="22622" y="9641"/>
                  <a:pt x="22671" y="9624"/>
                </a:cubicBezTo>
                <a:cubicBezTo>
                  <a:pt x="22663" y="9763"/>
                  <a:pt x="22650" y="9841"/>
                  <a:pt x="22572" y="9947"/>
                </a:cubicBezTo>
                <a:cubicBezTo>
                  <a:pt x="22517" y="10021"/>
                  <a:pt x="22693" y="9932"/>
                  <a:pt x="22721" y="9922"/>
                </a:cubicBezTo>
              </a:path>
              <a:path w="2481" h="1340">
                <a:moveTo>
                  <a:pt x="22870" y="9599"/>
                </a:moveTo>
                <a:cubicBezTo>
                  <a:pt x="22808" y="9679"/>
                  <a:pt x="22767" y="9796"/>
                  <a:pt x="22796" y="9897"/>
                </a:cubicBezTo>
                <a:cubicBezTo>
                  <a:pt x="22876" y="9875"/>
                  <a:pt x="23014" y="9791"/>
                  <a:pt x="22920" y="9674"/>
                </a:cubicBezTo>
                <a:cubicBezTo>
                  <a:pt x="22879" y="9654"/>
                  <a:pt x="22873" y="9645"/>
                  <a:pt x="22845" y="9649"/>
                </a:cubicBezTo>
              </a:path>
              <a:path w="2481" h="1340">
                <a:moveTo>
                  <a:pt x="22597" y="10344"/>
                </a:moveTo>
                <a:cubicBezTo>
                  <a:pt x="22597" y="10319"/>
                  <a:pt x="22597" y="10311"/>
                  <a:pt x="22622" y="10319"/>
                </a:cubicBezTo>
                <a:cubicBezTo>
                  <a:pt x="22670" y="10335"/>
                  <a:pt x="22644" y="10371"/>
                  <a:pt x="22622" y="10418"/>
                </a:cubicBezTo>
                <a:cubicBezTo>
                  <a:pt x="22600" y="10464"/>
                  <a:pt x="22582" y="10483"/>
                  <a:pt x="22547" y="10517"/>
                </a:cubicBezTo>
                <a:cubicBezTo>
                  <a:pt x="22582" y="10510"/>
                  <a:pt x="22702" y="10487"/>
                  <a:pt x="22721" y="10468"/>
                </a:cubicBezTo>
                <a:cubicBezTo>
                  <a:pt x="22721" y="10460"/>
                  <a:pt x="22721" y="10451"/>
                  <a:pt x="22721" y="10443"/>
                </a:cubicBezTo>
              </a:path>
              <a:path w="2481" h="1340">
                <a:moveTo>
                  <a:pt x="22870" y="10319"/>
                </a:moveTo>
                <a:cubicBezTo>
                  <a:pt x="22843" y="10339"/>
                  <a:pt x="22776" y="10436"/>
                  <a:pt x="22796" y="10492"/>
                </a:cubicBezTo>
                <a:cubicBezTo>
                  <a:pt x="22804" y="10500"/>
                  <a:pt x="22812" y="10509"/>
                  <a:pt x="22820" y="10517"/>
                </a:cubicBezTo>
                <a:cubicBezTo>
                  <a:pt x="22884" y="10505"/>
                  <a:pt x="23006" y="10453"/>
                  <a:pt x="22969" y="10344"/>
                </a:cubicBezTo>
                <a:cubicBezTo>
                  <a:pt x="22964" y="10331"/>
                  <a:pt x="22881" y="10321"/>
                  <a:pt x="22870" y="10319"/>
                </a:cubicBezTo>
              </a:path>
              <a:path w="2481" h="1340">
                <a:moveTo>
                  <a:pt x="23168" y="10046"/>
                </a:moveTo>
                <a:cubicBezTo>
                  <a:pt x="23168" y="10038"/>
                  <a:pt x="23168" y="10029"/>
                  <a:pt x="23168" y="10021"/>
                </a:cubicBezTo>
                <a:cubicBezTo>
                  <a:pt x="23226" y="10021"/>
                  <a:pt x="23267" y="10033"/>
                  <a:pt x="23292" y="9996"/>
                </a:cubicBezTo>
                <a:cubicBezTo>
                  <a:pt x="23300" y="10004"/>
                  <a:pt x="23308" y="10013"/>
                  <a:pt x="23316" y="10021"/>
                </a:cubicBezTo>
              </a:path>
              <a:path w="2481" h="1340">
                <a:moveTo>
                  <a:pt x="23192" y="10120"/>
                </a:moveTo>
                <a:cubicBezTo>
                  <a:pt x="23233" y="10120"/>
                  <a:pt x="23275" y="10120"/>
                  <a:pt x="23316" y="10120"/>
                </a:cubicBezTo>
              </a:path>
              <a:path w="2481" h="1340">
                <a:moveTo>
                  <a:pt x="23366" y="9599"/>
                </a:moveTo>
                <a:cubicBezTo>
                  <a:pt x="23408" y="9589"/>
                  <a:pt x="23464" y="9524"/>
                  <a:pt x="23515" y="9550"/>
                </a:cubicBezTo>
                <a:cubicBezTo>
                  <a:pt x="23598" y="9592"/>
                  <a:pt x="23488" y="9805"/>
                  <a:pt x="23465" y="9847"/>
                </a:cubicBezTo>
                <a:cubicBezTo>
                  <a:pt x="23449" y="9872"/>
                  <a:pt x="23432" y="9897"/>
                  <a:pt x="23416" y="9922"/>
                </a:cubicBezTo>
                <a:cubicBezTo>
                  <a:pt x="23498" y="9939"/>
                  <a:pt x="23550" y="9927"/>
                  <a:pt x="23639" y="9922"/>
                </a:cubicBezTo>
                <a:cubicBezTo>
                  <a:pt x="23664" y="9922"/>
                  <a:pt x="23672" y="9922"/>
                  <a:pt x="23664" y="9897"/>
                </a:cubicBezTo>
              </a:path>
              <a:path w="2481" h="1340">
                <a:moveTo>
                  <a:pt x="23788" y="9475"/>
                </a:moveTo>
                <a:cubicBezTo>
                  <a:pt x="23707" y="9526"/>
                  <a:pt x="23620" y="9610"/>
                  <a:pt x="23664" y="9723"/>
                </a:cubicBezTo>
                <a:cubicBezTo>
                  <a:pt x="23687" y="9782"/>
                  <a:pt x="23833" y="9834"/>
                  <a:pt x="23788" y="9922"/>
                </a:cubicBezTo>
                <a:cubicBezTo>
                  <a:pt x="23771" y="9938"/>
                  <a:pt x="23755" y="9955"/>
                  <a:pt x="23738" y="9971"/>
                </a:cubicBezTo>
                <a:cubicBezTo>
                  <a:pt x="23627" y="9935"/>
                  <a:pt x="23724" y="9819"/>
                  <a:pt x="23763" y="9723"/>
                </a:cubicBezTo>
                <a:cubicBezTo>
                  <a:pt x="23790" y="9656"/>
                  <a:pt x="23883" y="9442"/>
                  <a:pt x="23738" y="9500"/>
                </a:cubicBezTo>
              </a:path>
              <a:path w="2481" h="1340">
                <a:moveTo>
                  <a:pt x="23391" y="10096"/>
                </a:moveTo>
                <a:cubicBezTo>
                  <a:pt x="23308" y="10096"/>
                  <a:pt x="23507" y="10084"/>
                  <a:pt x="23589" y="10071"/>
                </a:cubicBezTo>
                <a:cubicBezTo>
                  <a:pt x="23703" y="10053"/>
                  <a:pt x="23827" y="10007"/>
                  <a:pt x="23937" y="9996"/>
                </a:cubicBezTo>
                <a:cubicBezTo>
                  <a:pt x="23945" y="9996"/>
                  <a:pt x="23953" y="9996"/>
                  <a:pt x="23961" y="9996"/>
                </a:cubicBezTo>
              </a:path>
              <a:path w="2481" h="1340">
                <a:moveTo>
                  <a:pt x="23391" y="10319"/>
                </a:moveTo>
                <a:cubicBezTo>
                  <a:pt x="23432" y="10319"/>
                  <a:pt x="23474" y="10319"/>
                  <a:pt x="23515" y="10319"/>
                </a:cubicBezTo>
                <a:cubicBezTo>
                  <a:pt x="23530" y="10448"/>
                  <a:pt x="23543" y="10468"/>
                  <a:pt x="23416" y="10542"/>
                </a:cubicBezTo>
                <a:cubicBezTo>
                  <a:pt x="23342" y="10579"/>
                  <a:pt x="23338" y="10596"/>
                  <a:pt x="23292" y="10592"/>
                </a:cubicBezTo>
                <a:cubicBezTo>
                  <a:pt x="23300" y="10528"/>
                  <a:pt x="23304" y="10431"/>
                  <a:pt x="23391" y="10443"/>
                </a:cubicBezTo>
                <a:cubicBezTo>
                  <a:pt x="23464" y="10453"/>
                  <a:pt x="23516" y="10492"/>
                  <a:pt x="23564" y="10542"/>
                </a:cubicBezTo>
              </a:path>
              <a:path w="2481" h="1340">
                <a:moveTo>
                  <a:pt x="23788" y="10319"/>
                </a:moveTo>
                <a:cubicBezTo>
                  <a:pt x="23746" y="10333"/>
                  <a:pt x="23738" y="10415"/>
                  <a:pt x="23713" y="10468"/>
                </a:cubicBezTo>
                <a:cubicBezTo>
                  <a:pt x="23691" y="10511"/>
                  <a:pt x="23678" y="10523"/>
                  <a:pt x="23713" y="10542"/>
                </a:cubicBezTo>
                <a:cubicBezTo>
                  <a:pt x="23798" y="10551"/>
                  <a:pt x="23883" y="10526"/>
                  <a:pt x="23912" y="10418"/>
                </a:cubicBezTo>
                <a:cubicBezTo>
                  <a:pt x="23935" y="10335"/>
                  <a:pt x="23839" y="10325"/>
                  <a:pt x="23788" y="10319"/>
                </a:cubicBezTo>
              </a:path>
              <a:path w="2481" h="1340">
                <a:moveTo>
                  <a:pt x="21481" y="9599"/>
                </a:moveTo>
                <a:cubicBezTo>
                  <a:pt x="21521" y="9639"/>
                  <a:pt x="21531" y="9637"/>
                  <a:pt x="21580" y="9674"/>
                </a:cubicBezTo>
                <a:cubicBezTo>
                  <a:pt x="21628" y="9710"/>
                  <a:pt x="21681" y="9737"/>
                  <a:pt x="21729" y="9773"/>
                </a:cubicBezTo>
                <a:cubicBezTo>
                  <a:pt x="21774" y="9806"/>
                  <a:pt x="21827" y="9840"/>
                  <a:pt x="21878" y="9872"/>
                </a:cubicBezTo>
                <a:cubicBezTo>
                  <a:pt x="21921" y="9899"/>
                  <a:pt x="21991" y="9922"/>
                  <a:pt x="22027" y="9947"/>
                </a:cubicBezTo>
                <a:cubicBezTo>
                  <a:pt x="22110" y="10005"/>
                  <a:pt x="22188" y="10046"/>
                  <a:pt x="22275" y="10096"/>
                </a:cubicBezTo>
                <a:cubicBezTo>
                  <a:pt x="22336" y="10131"/>
                  <a:pt x="22394" y="10188"/>
                  <a:pt x="22448" y="10220"/>
                </a:cubicBezTo>
                <a:cubicBezTo>
                  <a:pt x="22512" y="10258"/>
                  <a:pt x="22581" y="10284"/>
                  <a:pt x="22647" y="10319"/>
                </a:cubicBezTo>
                <a:cubicBezTo>
                  <a:pt x="22692" y="10343"/>
                  <a:pt x="22729" y="10367"/>
                  <a:pt x="22771" y="10393"/>
                </a:cubicBezTo>
                <a:cubicBezTo>
                  <a:pt x="22811" y="10418"/>
                  <a:pt x="22845" y="10433"/>
                  <a:pt x="22895" y="10443"/>
                </a:cubicBezTo>
                <a:cubicBezTo>
                  <a:pt x="22950" y="10454"/>
                  <a:pt x="22972" y="10431"/>
                  <a:pt x="22994" y="10418"/>
                </a:cubicBezTo>
              </a:path>
              <a:path w="2481" h="1340">
                <a:moveTo>
                  <a:pt x="23044" y="9451"/>
                </a:moveTo>
                <a:cubicBezTo>
                  <a:pt x="23000" y="9491"/>
                  <a:pt x="22929" y="9555"/>
                  <a:pt x="22870" y="9599"/>
                </a:cubicBezTo>
                <a:cubicBezTo>
                  <a:pt x="22795" y="9655"/>
                  <a:pt x="22749" y="9719"/>
                  <a:pt x="22671" y="9773"/>
                </a:cubicBezTo>
                <a:cubicBezTo>
                  <a:pt x="22593" y="9827"/>
                  <a:pt x="22553" y="9896"/>
                  <a:pt x="22473" y="9947"/>
                </a:cubicBezTo>
                <a:cubicBezTo>
                  <a:pt x="22404" y="9992"/>
                  <a:pt x="22340" y="10063"/>
                  <a:pt x="22275" y="10120"/>
                </a:cubicBezTo>
                <a:cubicBezTo>
                  <a:pt x="22202" y="10184"/>
                  <a:pt x="22090" y="10249"/>
                  <a:pt x="22027" y="10319"/>
                </a:cubicBezTo>
                <a:cubicBezTo>
                  <a:pt x="21941" y="10415"/>
                  <a:pt x="21855" y="10486"/>
                  <a:pt x="21754" y="10567"/>
                </a:cubicBezTo>
                <a:cubicBezTo>
                  <a:pt x="21671" y="10634"/>
                  <a:pt x="21607" y="10697"/>
                  <a:pt x="21530" y="10765"/>
                </a:cubicBezTo>
                <a:cubicBezTo>
                  <a:pt x="21522" y="10773"/>
                  <a:pt x="21514" y="10782"/>
                  <a:pt x="21506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66080" y="1347840"/>
            <a:ext cx="598320" cy="1036440"/>
          </a:xfrm>
          <a:custGeom>
            <a:avLst/>
            <a:gdLst/>
            <a:ahLst/>
            <a:rect l="l" t="t" r="r" b="b"/>
            <a:pathLst>
              <a:path w="1663" h="2878">
                <a:moveTo>
                  <a:pt x="22572" y="3770"/>
                </a:moveTo>
                <a:cubicBezTo>
                  <a:pt x="22555" y="3832"/>
                  <a:pt x="22547" y="3858"/>
                  <a:pt x="22547" y="3919"/>
                </a:cubicBezTo>
                <a:cubicBezTo>
                  <a:pt x="22566" y="3822"/>
                  <a:pt x="22668" y="3691"/>
                  <a:pt x="22746" y="3845"/>
                </a:cubicBezTo>
                <a:cubicBezTo>
                  <a:pt x="22893" y="4138"/>
                  <a:pt x="22667" y="4405"/>
                  <a:pt x="22448" y="4539"/>
                </a:cubicBezTo>
                <a:cubicBezTo>
                  <a:pt x="22448" y="4383"/>
                  <a:pt x="22556" y="4255"/>
                  <a:pt x="22721" y="4415"/>
                </a:cubicBezTo>
                <a:cubicBezTo>
                  <a:pt x="22830" y="4520"/>
                  <a:pt x="22772" y="4627"/>
                  <a:pt x="22870" y="4589"/>
                </a:cubicBezTo>
              </a:path>
              <a:path w="1663" h="2878">
                <a:moveTo>
                  <a:pt x="23168" y="3746"/>
                </a:moveTo>
                <a:cubicBezTo>
                  <a:pt x="23056" y="3883"/>
                  <a:pt x="22965" y="3931"/>
                  <a:pt x="23118" y="4043"/>
                </a:cubicBezTo>
                <a:cubicBezTo>
                  <a:pt x="23306" y="4180"/>
                  <a:pt x="23316" y="4175"/>
                  <a:pt x="23316" y="4390"/>
                </a:cubicBezTo>
                <a:cubicBezTo>
                  <a:pt x="23275" y="4415"/>
                  <a:pt x="23233" y="4440"/>
                  <a:pt x="23192" y="4465"/>
                </a:cubicBezTo>
                <a:cubicBezTo>
                  <a:pt x="23107" y="4221"/>
                  <a:pt x="23223" y="4085"/>
                  <a:pt x="23292" y="3820"/>
                </a:cubicBezTo>
                <a:cubicBezTo>
                  <a:pt x="23292" y="3755"/>
                  <a:pt x="23258" y="3767"/>
                  <a:pt x="23168" y="3870"/>
                </a:cubicBezTo>
              </a:path>
              <a:path w="1663" h="2878">
                <a:moveTo>
                  <a:pt x="22126" y="5358"/>
                </a:moveTo>
                <a:cubicBezTo>
                  <a:pt x="22246" y="5358"/>
                  <a:pt x="22355" y="5340"/>
                  <a:pt x="22473" y="5333"/>
                </a:cubicBezTo>
              </a:path>
              <a:path w="1663" h="2878">
                <a:moveTo>
                  <a:pt x="22796" y="5035"/>
                </a:moveTo>
                <a:cubicBezTo>
                  <a:pt x="22817" y="5191"/>
                  <a:pt x="22765" y="5440"/>
                  <a:pt x="22820" y="5581"/>
                </a:cubicBezTo>
                <a:cubicBezTo>
                  <a:pt x="22828" y="5573"/>
                  <a:pt x="22837" y="5564"/>
                  <a:pt x="22845" y="5556"/>
                </a:cubicBezTo>
              </a:path>
              <a:path w="1663" h="2878">
                <a:moveTo>
                  <a:pt x="23366" y="4936"/>
                </a:moveTo>
                <a:cubicBezTo>
                  <a:pt x="23305" y="4961"/>
                  <a:pt x="23198" y="4990"/>
                  <a:pt x="23168" y="5060"/>
                </a:cubicBezTo>
                <a:cubicBezTo>
                  <a:pt x="23148" y="5105"/>
                  <a:pt x="23168" y="5182"/>
                  <a:pt x="23168" y="5234"/>
                </a:cubicBezTo>
                <a:cubicBezTo>
                  <a:pt x="23239" y="5219"/>
                  <a:pt x="23378" y="5100"/>
                  <a:pt x="23440" y="5184"/>
                </a:cubicBezTo>
                <a:cubicBezTo>
                  <a:pt x="23577" y="5371"/>
                  <a:pt x="23320" y="5526"/>
                  <a:pt x="23168" y="5531"/>
                </a:cubicBezTo>
                <a:cubicBezTo>
                  <a:pt x="23127" y="5511"/>
                  <a:pt x="23110" y="5514"/>
                  <a:pt x="23118" y="5482"/>
                </a:cubicBezTo>
              </a:path>
              <a:path w="1663" h="2878">
                <a:moveTo>
                  <a:pt x="22175" y="5829"/>
                </a:moveTo>
                <a:cubicBezTo>
                  <a:pt x="22629" y="5779"/>
                  <a:pt x="23083" y="5704"/>
                  <a:pt x="23540" y="5680"/>
                </a:cubicBezTo>
                <a:cubicBezTo>
                  <a:pt x="23620" y="5676"/>
                  <a:pt x="23706" y="5680"/>
                  <a:pt x="23788" y="5680"/>
                </a:cubicBezTo>
              </a:path>
              <a:path w="1663" h="2878">
                <a:moveTo>
                  <a:pt x="22820" y="5978"/>
                </a:moveTo>
                <a:cubicBezTo>
                  <a:pt x="22801" y="6176"/>
                  <a:pt x="22787" y="6375"/>
                  <a:pt x="22771" y="6573"/>
                </a:cubicBezTo>
                <a:cubicBezTo>
                  <a:pt x="22771" y="6625"/>
                  <a:pt x="22772" y="6640"/>
                  <a:pt x="22796" y="6573"/>
                </a:cubicBezTo>
              </a:path>
              <a:path w="1663" h="2878">
                <a:moveTo>
                  <a:pt x="23093" y="6003"/>
                </a:moveTo>
                <a:cubicBezTo>
                  <a:pt x="23093" y="5960"/>
                  <a:pt x="23110" y="5946"/>
                  <a:pt x="23168" y="5953"/>
                </a:cubicBezTo>
                <a:cubicBezTo>
                  <a:pt x="23253" y="6128"/>
                  <a:pt x="23186" y="6167"/>
                  <a:pt x="23068" y="6300"/>
                </a:cubicBezTo>
                <a:cubicBezTo>
                  <a:pt x="23022" y="6277"/>
                  <a:pt x="23155" y="6193"/>
                  <a:pt x="23217" y="6251"/>
                </a:cubicBezTo>
                <a:cubicBezTo>
                  <a:pt x="23365" y="6390"/>
                  <a:pt x="23073" y="6529"/>
                  <a:pt x="23019" y="6573"/>
                </a:cubicBezTo>
                <a:cubicBezTo>
                  <a:pt x="23019" y="6601"/>
                  <a:pt x="23017" y="6607"/>
                  <a:pt x="22994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subtract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360" y="182844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81 subtracti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7000" y="2955960"/>
            <a:ext cx="1027080" cy="152280"/>
          </a:xfrm>
          <a:custGeom>
            <a:avLst/>
            <a:gdLst/>
            <a:ahLst/>
            <a:rect l="l" t="t" r="r" b="b"/>
            <a:pathLst>
              <a:path w="2854" h="423">
                <a:moveTo>
                  <a:pt x="6573" y="8483"/>
                </a:moveTo>
                <a:cubicBezTo>
                  <a:pt x="6586" y="8488"/>
                  <a:pt x="6627" y="8508"/>
                  <a:pt x="6672" y="8508"/>
                </a:cubicBezTo>
                <a:cubicBezTo>
                  <a:pt x="6778" y="8508"/>
                  <a:pt x="6867" y="8498"/>
                  <a:pt x="6970" y="8483"/>
                </a:cubicBezTo>
                <a:cubicBezTo>
                  <a:pt x="7049" y="8472"/>
                  <a:pt x="7139" y="8475"/>
                  <a:pt x="7218" y="8458"/>
                </a:cubicBezTo>
                <a:cubicBezTo>
                  <a:pt x="7289" y="8443"/>
                  <a:pt x="7341" y="8434"/>
                  <a:pt x="7417" y="8434"/>
                </a:cubicBezTo>
                <a:cubicBezTo>
                  <a:pt x="7523" y="8434"/>
                  <a:pt x="7613" y="8413"/>
                  <a:pt x="7714" y="8409"/>
                </a:cubicBezTo>
                <a:cubicBezTo>
                  <a:pt x="7817" y="8405"/>
                  <a:pt x="7908" y="8367"/>
                  <a:pt x="8012" y="8359"/>
                </a:cubicBezTo>
                <a:cubicBezTo>
                  <a:pt x="8188" y="8346"/>
                  <a:pt x="8358" y="8302"/>
                  <a:pt x="8533" y="8285"/>
                </a:cubicBezTo>
                <a:cubicBezTo>
                  <a:pt x="8632" y="8275"/>
                  <a:pt x="8732" y="8264"/>
                  <a:pt x="8830" y="8260"/>
                </a:cubicBezTo>
                <a:cubicBezTo>
                  <a:pt x="8885" y="8257"/>
                  <a:pt x="8950" y="8248"/>
                  <a:pt x="9004" y="8235"/>
                </a:cubicBezTo>
                <a:cubicBezTo>
                  <a:pt x="9077" y="8218"/>
                  <a:pt x="9129" y="8210"/>
                  <a:pt x="9203" y="8210"/>
                </a:cubicBezTo>
                <a:cubicBezTo>
                  <a:pt x="9286" y="8210"/>
                  <a:pt x="9318" y="8210"/>
                  <a:pt x="9401" y="8210"/>
                </a:cubicBezTo>
              </a:path>
              <a:path w="2854" h="423">
                <a:moveTo>
                  <a:pt x="6846" y="8607"/>
                </a:moveTo>
                <a:cubicBezTo>
                  <a:pt x="6980" y="8623"/>
                  <a:pt x="7078" y="8608"/>
                  <a:pt x="7218" y="8582"/>
                </a:cubicBezTo>
                <a:cubicBezTo>
                  <a:pt x="7399" y="8549"/>
                  <a:pt x="7580" y="8512"/>
                  <a:pt x="7764" y="8508"/>
                </a:cubicBezTo>
                <a:cubicBezTo>
                  <a:pt x="7948" y="8504"/>
                  <a:pt x="8134" y="8501"/>
                  <a:pt x="8310" y="8483"/>
                </a:cubicBezTo>
                <a:cubicBezTo>
                  <a:pt x="8557" y="8458"/>
                  <a:pt x="8810" y="8485"/>
                  <a:pt x="9054" y="8458"/>
                </a:cubicBezTo>
                <a:cubicBezTo>
                  <a:pt x="9121" y="8450"/>
                  <a:pt x="9185" y="8441"/>
                  <a:pt x="9252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1:44:19Z</dcterms:created>
  <dc:creator>Brian McGrath</dc:creator>
  <dc:description/>
  <dc:language>en-US</dc:language>
  <cp:lastModifiedBy>deanne elizabeth mcgrath</cp:lastModifiedBy>
  <dcterms:modified xsi:type="dcterms:W3CDTF">2011-11-03T16:34:02Z</dcterms:modified>
  <cp:revision>3</cp:revision>
  <dc:subject/>
  <dc:title>Warm-up:</dc:title>
</cp:coreProperties>
</file>